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7B7-D7FF-4D4D-BD72-D5A173FC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C05-31B9-45F9-A6AC-EE95D5A3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4B2-7268-4EC8-8E76-452299D5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70B-3159-401D-9F25-96F0D895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B46-CEF2-4989-BB62-CF4155C4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D98-2F53-423F-B323-DFE7EE84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569-9E1F-42F7-A775-4A78C82E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B0F-C44B-4C8F-AC04-F4387E91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A0F-89DD-489F-B143-E5BFDFB5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BED-9666-44AE-8418-5B512342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610-E880-4D3E-A134-3039A2DE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583-8C01-4180-8938-2E80BCD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B3FD-D417-4518-9726-A9190DA55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2209680"/>
          <a:ext cx="5545080" cy="595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55450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421880" y="380880"/>
            <a:ext cx="207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7320" y="1219320"/>
            <a:ext cx="3924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23:11:24Z</dcterms:created>
  <dc:creator>dnd</dc:creator>
  <dc:description/>
  <dc:language>en-US</dc:language>
  <cp:lastModifiedBy>Jamie Richards</cp:lastModifiedBy>
  <cp:lastPrinted>1999-03-02T23:41:35Z</cp:lastPrinted>
  <dcterms:modified xsi:type="dcterms:W3CDTF">1999-03-31T01:08:02Z</dcterms:modified>
  <cp:revision>2</cp:revision>
  <dc:subject/>
  <dc:title>No Slide Title</dc:title>
</cp:coreProperties>
</file>