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FBA-E24A-4024-8263-CB06CA14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FBC-21DA-4DC1-95FA-28AE844A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A19-EF2D-4064-ADB1-57DC6CB0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404-0828-43DF-8E68-5DB6A2D6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525-178C-45F1-BFF2-1E39E9F6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A51-56E2-4FE8-942C-00D1C262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DAC-E0B8-4992-BDED-587B444B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024-BA45-4082-B85C-6F2E8E9B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1F6-1076-4F68-A55D-42F99421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59D-84C4-48C5-A651-D33EB19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6E0-8F8B-4054-A536-CE86782C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6C0-1670-47D4-9A50-873B3F0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7748-A697-4BAE-9981-993A58EDA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39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5:16:04Z</dcterms:created>
  <dc:creator>DND</dc:creator>
  <dc:description/>
  <dc:language>en-US</dc:language>
  <cp:lastModifiedBy>DND</cp:lastModifiedBy>
  <cp:lastPrinted>1999-01-12T15:16:38Z</cp:lastPrinted>
  <dcterms:modified xsi:type="dcterms:W3CDTF">1999-01-12T15:17:34Z</dcterms:modified>
  <cp:revision>1</cp:revision>
  <dc:subject/>
  <dc:title>No Slide Title</dc:title>
</cp:coreProperties>
</file>