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F27-B3A7-4B99-B3C2-51A086F6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779-6377-4F65-94DF-96BA815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E77-DFE4-49D7-AEDD-19032CBE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351-DE4B-449F-B73A-77B48D8A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810-2D26-4FEB-8B50-C8BECE5A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C90-B0FD-46C9-8FE7-2669EE24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8F0-65DC-4A39-8BDE-0A971C7E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AE9-5D66-4A9E-83FB-A375E6FE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E58-973C-4A55-98EC-9106B9A3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ABB-CEC2-4208-A00C-B7B4581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2F4-87A9-47BE-91B0-8F94925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32F-777B-41E1-95F2-C1D630F7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9DD5-099B-4001-96BA-41D58C547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F51%231" descr=""/>
          <p:cNvPicPr/>
          <p:nvPr/>
        </p:nvPicPr>
        <p:blipFill>
          <a:blip r:embed="rId1"/>
          <a:stretch/>
        </p:blipFill>
        <p:spPr>
          <a:xfrm>
            <a:off x="114480" y="203040"/>
            <a:ext cx="6743520" cy="894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F51%23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99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F51%23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0880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pplication1" descr=""/>
          <p:cNvPicPr/>
          <p:nvPr/>
        </p:nvPicPr>
        <p:blipFill>
          <a:blip r:embed="rId1"/>
          <a:stretch/>
        </p:blipFill>
        <p:spPr>
          <a:xfrm>
            <a:off x="171360" y="0"/>
            <a:ext cx="6686640" cy="91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pplication2" descr=""/>
          <p:cNvPicPr/>
          <p:nvPr/>
        </p:nvPicPr>
        <p:blipFill>
          <a:blip r:embed="rId1"/>
          <a:stretch/>
        </p:blipFill>
        <p:spPr>
          <a:xfrm>
            <a:off x="171360" y="0"/>
            <a:ext cx="6686640" cy="91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en" descr=""/>
          <p:cNvPicPr/>
          <p:nvPr/>
        </p:nvPicPr>
        <p:blipFill>
          <a:blip r:embed="rId1"/>
          <a:stretch/>
        </p:blipFill>
        <p:spPr>
          <a:xfrm>
            <a:off x="673200" y="685800"/>
            <a:ext cx="551160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22:00:17Z</dcterms:created>
  <dc:creator>dnd</dc:creator>
  <dc:description/>
  <dc:language>en-US</dc:language>
  <cp:lastModifiedBy>Jamie Richards</cp:lastModifiedBy>
  <cp:lastPrinted>1999-02-23T22:08:29Z</cp:lastPrinted>
  <dcterms:modified xsi:type="dcterms:W3CDTF">1999-04-26T03:35:25Z</dcterms:modified>
  <cp:revision>4</cp:revision>
  <dc:subject/>
  <dc:title>No Slide Title</dc:title>
</cp:coreProperties>
</file>