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703-9305-48AE-9621-63BD5311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983-DA9A-44FD-8B94-F5EB660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90B-BAA9-45D7-9253-BD42EA87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372-1F88-4BE3-9286-D589FEF5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966-3F50-4F80-93AF-88DA1A3E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000-BD6F-44FA-A993-2AD5E47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E42-8356-4DAF-A067-F5E03BE5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ACA-8256-40AD-8D98-3496247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1CD-2EEB-4534-BEA4-264EBEB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982-AFEB-41C8-B5A9-7E9E162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D04-0B2F-4DC2-8F1E-6126D6B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3D-053B-4F52-A0D3-2FC31CA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22D-2D17-46DD-8DAF-4640A8088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F892A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F89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41640" y="645804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oancard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03:51:58Z</dcterms:created>
  <dc:creator>dnd</dc:creator>
  <dc:description/>
  <dc:language>en-US</dc:language>
  <cp:lastModifiedBy>dnd</cp:lastModifiedBy>
  <cp:lastPrinted>1999-03-02T18:16:43Z</cp:lastPrinted>
  <dcterms:modified xsi:type="dcterms:W3CDTF">1999-03-02T18:20:11Z</dcterms:modified>
  <cp:revision>1</cp:revision>
  <dc:subject/>
  <dc:title>No Slide Title</dc:title>
</cp:coreProperties>
</file>