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F0A-470A-42A7-87CC-B4D0192A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C12-9D1C-471A-AEA2-DC5CF57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84D-98EE-4ADE-A10C-978EE15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4D4-DFD2-48EB-80CF-1C42684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211-0D56-4ED6-B60C-D0A347B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E3C-F806-464D-ABBC-E6D51E40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123-7F52-47EF-B44C-8FA14C8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80B-D23D-446B-8966-48CC819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80C-3D58-4D00-AE33-4AAE93AE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BF0-0148-48A7-937C-8191BAA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942-6458-4EE9-A97B-DDB36A3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35F-4435-434A-BFAD-F05BE55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E18-F6FD-4FA7-8B21-D20717189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mbert" descr=""/>
          <p:cNvPicPr/>
          <p:nvPr/>
        </p:nvPicPr>
        <p:blipFill>
          <a:blip r:embed="rId1"/>
          <a:srcRect l="0" t="3400" r="0" b="4987"/>
          <a:stretch/>
        </p:blipFill>
        <p:spPr>
          <a:xfrm>
            <a:off x="152280" y="1600200"/>
            <a:ext cx="876312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17200" y="146160"/>
            <a:ext cx="590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Lambert Confor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ic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20040" y="163440"/>
            <a:ext cx="65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ercator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ercator" descr=""/>
          <p:cNvPicPr/>
          <p:nvPr/>
        </p:nvPicPr>
        <p:blipFill>
          <a:blip r:embed="rId1"/>
          <a:stretch/>
        </p:blipFill>
        <p:spPr>
          <a:xfrm>
            <a:off x="463680" y="1373040"/>
            <a:ext cx="8070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240" y="212760"/>
            <a:ext cx="88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Transverse Mercator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457200" y="1681200"/>
            <a:ext cx="8001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28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projection type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304920" y="1069920"/>
            <a:ext cx="2438280" cy="1276560"/>
          </a:xfrm>
          <a:prstGeom prst="rect">
            <a:avLst/>
          </a:prstGeom>
          <a:ln w="0">
            <a:noFill/>
          </a:ln>
        </p:spPr>
      </p:pic>
      <p:pic>
        <p:nvPicPr>
          <p:cNvPr id="61" name="mercator2" descr=""/>
          <p:cNvPicPr/>
          <p:nvPr/>
        </p:nvPicPr>
        <p:blipFill>
          <a:blip r:embed="rId2"/>
          <a:stretch/>
        </p:blipFill>
        <p:spPr>
          <a:xfrm>
            <a:off x="533520" y="4484520"/>
            <a:ext cx="1874880" cy="2068560"/>
          </a:xfrm>
          <a:prstGeom prst="rect">
            <a:avLst/>
          </a:prstGeom>
          <a:ln w="0">
            <a:noFill/>
          </a:ln>
        </p:spPr>
      </p:pic>
      <p:pic>
        <p:nvPicPr>
          <p:cNvPr id="62" name="lambert2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1479600" cy="22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880" y="550224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Lambert Conf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ic Proj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1760" y="38257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nsverse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040" y="1981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Mercato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0120" y="76212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8320" y="5867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320" y="3886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8320" y="182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240" y="275904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Tubular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8040" y="48006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Pola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1T19:22:24Z</dcterms:created>
  <dc:creator>RC Air Cadets</dc:creator>
  <dc:description/>
  <dc:language>en-US</dc:language>
  <cp:lastModifiedBy>Jamie Richards</cp:lastModifiedBy>
  <cp:lastPrinted>1999-03-27T18:43:54Z</cp:lastPrinted>
  <dcterms:modified xsi:type="dcterms:W3CDTF">1999-03-31T03:55:43Z</dcterms:modified>
  <cp:revision>6</cp:revision>
  <dc:subject/>
  <dc:title>No Slide Title</dc:title>
</cp:coreProperties>
</file>