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191-8200-44B3-9843-E682FD07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883-9889-4BC8-9A96-3871568E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1E6-0D12-4D8E-A8B0-7F377F14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82A-8384-4E5C-B2F8-26E83B42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04E-28CC-4A74-8951-D108AA05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8EC-77FC-4462-BFDC-E84798C8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DDD-B2FC-4552-9349-0424963F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6E7-E3DE-42E0-B506-89F1FB64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B11-B63E-4BFC-8A36-9435925D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293-E2D3-42F2-935A-C53833D2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BA5-46D4-4144-980C-B58189AD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721-20EB-4DDE-ACC4-D14A0CBC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F5E5-81AA-4246-813D-DA46E8E75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40" y="872640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40" y="872640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0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12T14:58:25Z</dcterms:modified>
  <cp:revision>11</cp:revision>
  <dc:subject/>
  <dc:title>No Slide Title</dc:title>
</cp:coreProperties>
</file>