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27F-6334-4DD3-AFC9-B22F9EF4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EFB-4C04-42A7-80B3-27DF5D88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CDE-FB8A-4C17-85F3-28A7964E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0ED-E055-40CD-9275-F5BD89B4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F49-66C9-469A-9B0D-320F4531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128-5E4F-48DA-8714-814FA8EB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C8D-F695-46D2-868B-5FF67C5D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F3A-28A5-4D5A-A3B2-EDE9A76E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D23-ED52-4735-998D-6A6B78F6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51B-29D7-43C9-8952-A9C97C13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E2F-1CE9-40D4-9018-882228E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B8B-24D2-4E30-A85D-1A217514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E3DB-28F7-47EF-B9CA-00DAC7A8C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ETING PR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19807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e the 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ify the me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53700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QUO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set out in by-laws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ity of member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s minority groups from dominating the procee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quorum, the chairperson can adjourn th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33526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00400" y="182880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30481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VO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520" y="1294920"/>
            <a:ext cx="4419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RET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213372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7:42:12Z</dcterms:created>
  <dc:creator>DND</dc:creator>
  <dc:description/>
  <dc:language>en-US</dc:language>
  <cp:lastModifiedBy>Jamie Richards</cp:lastModifiedBy>
  <dcterms:modified xsi:type="dcterms:W3CDTF">1999-04-26T03:10:00Z</dcterms:modified>
  <cp:revision>4</cp:revision>
  <dc:subject/>
  <dc:title>MEETING PREPARATION</dc:title>
</cp:coreProperties>
</file>