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920-B18F-4985-A002-A2FFAEB6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3C5-3629-4960-9104-2F961832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7B6-11B1-4D8E-A528-661A4F0B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2B0-366A-44BB-BFE0-D60F896B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073-89C8-4356-8FFD-40CFA0EF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83D-7F7C-44FC-B2A2-DF1216F3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614-80E6-4D3B-B947-CFD7B149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4C3-07FD-4845-8826-BDA32BE0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228-1B00-4E9A-B8D1-6D929CA0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CD1-0620-4818-9570-0ADF2545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C26-0886-4151-9251-8EE2E21A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E3D-F9B1-4514-8612-E2522DD1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9B85-1AFE-4A10-9E63-154049830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828800"/>
            <a:ext cx="66294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FORE THE ACTIV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ing for Inform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borating a Pl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igning Task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ing a Planning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URING THE ACTIV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FTER THE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 a debriefing/Post-Activity Meeting;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t a 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7224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LANNING A GROUP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64008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arching for Inform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swer these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nature of the ac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t scheduled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it take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t important to hold this ac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respon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6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FORE THE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365200" cy="2365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5410080"/>
            <a:ext cx="1981440" cy="1295640"/>
          </a:xfrm>
          <a:prstGeom prst="cloudCallout">
            <a:avLst>
              <a:gd name="adj1" fmla="val -51444"/>
              <a:gd name="adj2" fmla="val 758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5 W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32800"/>
            <a:ext cx="63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SSIGNING A TA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517400"/>
            <a:ext cx="617220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soon as you receive the green light, name an assistant (2IC) who will assist you in your ta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egate secondary tasks to subordinates. Do not try to do it all you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710320"/>
            <a:ext cx="2743200" cy="25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62520" y="5562720"/>
            <a:ext cx="2184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648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LDING A PLANNING ME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52400"/>
            <a:ext cx="6172200" cy="68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 determine who your assistants are, meet with them and delegate the different tasks related to the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 they know exactly what they have to accomp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m informed of all changes and ask them to keep you informed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 a series of target dates for each task being delegated and ask them to provide you with a periodic report (verbal or written) on the progression of thei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13:56:24Z</cp:lastPrinted>
  <dcterms:modified xsi:type="dcterms:W3CDTF">1999-03-15T14:35:12Z</dcterms:modified>
  <cp:revision>38</cp:revision>
  <dc:subject/>
  <dc:title>No Slide Title</dc:title>
</cp:coreProperties>
</file>