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59F-35B1-463D-9CDA-EFFC3567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27F-570B-4A35-9A42-28F78BD0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FB8-A3D7-4F88-A57E-9AF49FE3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00B-C958-430B-B378-15A77F7F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F19-877B-4FEC-9D52-89014FF2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CB6-E88F-4546-8BFC-793C20CC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808-6AE8-4FDF-8370-D3ED56F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7D6-6084-4AF7-BFE6-16EE324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D9D-BC85-4353-B17B-23A02E6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233-71BF-4E23-803A-356B2DBF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90D-F150-448D-902A-F5C5CDC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15C-E5A3-4FD3-81EC-5152D04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67B-AA9B-4702-AE30-5F9F66375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C’s of MILIT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249440" cy="4568760"/>
          </a:xfrm>
          <a:prstGeom prst="rect">
            <a:avLst/>
          </a:prstGeom>
          <a:ln w="0">
            <a:noFill/>
          </a:ln>
        </p:spPr>
      </p:pic>
      <p:pic>
        <p:nvPicPr>
          <p:cNvPr id="47" name="deskbean" descr=""/>
          <p:cNvPicPr/>
          <p:nvPr/>
        </p:nvPicPr>
        <p:blipFill>
          <a:blip r:embed="rId2"/>
          <a:stretch/>
        </p:blipFill>
        <p:spPr>
          <a:xfrm>
            <a:off x="3405240" y="182880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the services of an individual o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changes or amend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a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2162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05:16Z</dcterms:created>
  <dc:creator>DND</dc:creator>
  <dc:description/>
  <dc:language>en-US</dc:language>
  <cp:lastModifiedBy>Jamie Richards</cp:lastModifiedBy>
  <dcterms:modified xsi:type="dcterms:W3CDTF">1999-04-26T03:08:52Z</dcterms:modified>
  <cp:revision>5</cp:revision>
  <dc:subject/>
  <dc:title>ABC’s of MILITARY WRITING</dc:title>
</cp:coreProperties>
</file>