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B7B-FB46-4B91-BB2D-7B7573AA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863-BFBA-4492-A60C-EDC73AB9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642-3F47-48C3-90E6-8B6837CB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A3E-9C05-4C9A-A842-3A139563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361-9A62-4356-93F7-1A36EBEA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742-1D9A-4542-93A0-532F4A27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413-5A7C-4989-8712-C9EE406C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6A2-1B27-4445-A0B9-C82485CA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2B8-EA8D-4F28-BD99-DCA4C6FE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C69-F138-417A-B184-07059AD0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4F50-FEF0-452E-A21A-04531039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A84-6E66-46F2-9DC7-7A93217B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BF6A-0D6F-41B8-AF12-932CBB6C5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Cloud Formati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, in which water vapour is present, is cooled to its saturation point and condensation occu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, without a change in temperature taking place, may absorb additional water vapour until its saturation point i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ypes of Cloud 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mulus clou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vertically into clumps.  They form in rising air currents and are evidence of unstable air cond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us clou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in horizontal layers.  They usually form when a layer of moist air is cooled below its saturation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3:05:41Z</dcterms:created>
  <dc:creator>RC Air Cadets</dc:creator>
  <dc:description/>
  <dc:language>en-US</dc:language>
  <cp:lastModifiedBy>Jamie Richards</cp:lastModifiedBy>
  <cp:lastPrinted>1999-03-19T19:32:44Z</cp:lastPrinted>
  <dcterms:modified xsi:type="dcterms:W3CDTF">1999-03-31T03:53:19Z</dcterms:modified>
  <cp:revision>9</cp:revision>
  <dc:subject/>
  <dc:title>PITCH</dc:title>
</cp:coreProperties>
</file>