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712-3E1B-42B8-A017-CE0E93D2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B70-1839-4C4D-A2B3-F24CABB3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543-5440-42DA-8A59-955046AA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7F9C-0014-4568-BF16-C356809F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951-D70B-470E-9B08-6D2230E9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FBE-05EF-4F82-8726-316CDE98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712-6190-435D-A9B3-7EEAEDB0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F5F-E137-4273-B689-B4A22004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5B9-F4EC-44E9-BF29-50EE1626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179-70B0-4D32-ABD3-F237E43E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E95-4FB0-4C15-B7C6-2F7FF1BB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653-1E60-4D6E-AB62-63221AF0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C57B-97A7-4E61-ADFE-5DA6AEE7E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828800"/>
            <a:ext cx="6248520" cy="65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PHASIZE THE STRONG POI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SEARCH FOR A FORMUL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RELY COMPLETELY O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NDWICH METHOD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 IMPROVEME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SPECIFI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CH HABIT PATER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YOUR CRITICISM JOB-RELAT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K QUESTIO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CRITICIZE A CADET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NTENTIONAL FAUL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TRY TO BE FUNNY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ARG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7224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ERFORMANCE INTER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6T13:56:24Z</cp:lastPrinted>
  <dcterms:modified xsi:type="dcterms:W3CDTF">1999-03-26T15:34:23Z</dcterms:modified>
  <cp:revision>41</cp:revision>
  <dc:subject/>
  <dc:title>No Slide Title</dc:title>
</cp:coreProperties>
</file>