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2B1-8A83-4B75-A98B-2316FE2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8FD-928B-4B96-A39D-4F2B515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725-3AEC-481F-B661-64C4506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DBB-3B89-4EF5-AF2D-975F0DC6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92F-7C18-4B11-B488-4BCD301D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D2D-06B5-4D98-9D9B-15A9A27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F12-4963-4E0B-87C7-65F71DAA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6C4-30ED-4918-B874-5EE2BC3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A72-6476-40DB-BEB1-08775FBB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110-B68C-4C38-A60B-F4981E0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06A-ADC9-488D-809B-3428E72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BEB-8D4A-448A-B565-6C60837D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6D80-7CDE-4E89-AF0A-DF8D2BFED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ative Size of Water Dro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ain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378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 DRO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ZZLE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Forms of Precipit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very small drops of water which appear to flo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tiny ice crystals in the form of need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occurs when raindrops freeze. They are hard, transparent, globular grains of ice about the size of raindr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smaller cloud, a hailstone usually remains small, does not have a hard covering and usually arrives at the ground as a soft, white ice pell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visible water vapor in the air sublimates directly into ice crystals, without passing through any intermediate water sto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large water drople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forms in a cloud when water droplets freeze onto ice crysta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form of precipitation with its description by placing the correct letter in the appropriate bl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640" y="1368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04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34304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3430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4304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34304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4:14Z</cp:lastPrinted>
  <dcterms:modified xsi:type="dcterms:W3CDTF">1999-03-31T03:47:30Z</dcterms:modified>
  <cp:revision>8</cp:revision>
  <dc:subject/>
  <dc:title>Cloud Families</dc:title>
</cp:coreProperties>
</file>