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2B9-E96D-4CAB-85A5-AB5A7CC6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97F-0A20-44CA-923F-99C36030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A1F-04CD-4DE2-A1B1-21B5EA61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367-F538-4566-B5FB-EBC8823C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535-E9B4-41CB-B800-7434AC98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C04-3A0B-4741-B204-42453B7F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BAA-6647-4FC4-AFE5-A8680064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09E-355D-47B2-952D-61848C70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8E6-3AA7-4CA5-99B5-B46607BD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365-D2FD-410D-B212-5A33893A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D0D-000D-4587-8687-4017AC3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6D3-B231-4AF9-87FB-D6B3B664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5EE6-34E2-4F57-B6B8-D75A9EA7C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662940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vise the work of your subordinat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de on a meeting point from where you can coordinate the efforts of your staf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your distance in order to keep an eye on the ensem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your assista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available to help solve any problems that may ari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 to modify the plan (Plan B) if circumstances change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w initiative and adapt to new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6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DURING THE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80520"/>
            <a:ext cx="63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FTER THE 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155240"/>
            <a:ext cx="6172200" cy="70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POST-ACTIVIT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k your assistant(s) to provide you with a post-activity re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ost-activity report, verbal or written, answers the following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as the nature of my tas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problems did I encoun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olutions did I app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course of action could help improve the situation in the fut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ere the weakest points of my 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ere the strongest points of my 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my personal opinion on the overall success of the activ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15573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98400"/>
            <a:ext cx="61722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ect the opinions of your subordina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y neutral and listen to your staff. Do not take their remarks personal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s should be in a climate of trust and honest exchang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problem brought to the table, a constructive solution must be offered by you or, better yet, by the whole group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5257800"/>
            <a:ext cx="35812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5648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UBMITTING A FINAL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045880"/>
            <a:ext cx="647712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analyzing the shortfalls and strong points from your assistant’s post-activity report, you must produce a Final Report (After Action Report) for your supervi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ritten report must, in addition to answering the questions in the post-activity report, is to include a precise evaluation of each element of your origin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port must be detailed and include proper and precise recommend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5:47:13Z</cp:lastPrinted>
  <dcterms:modified xsi:type="dcterms:W3CDTF">1999-03-15T15:47:16Z</dcterms:modified>
  <cp:revision>43</cp:revision>
  <dc:subject/>
  <dc:title>No Slide Title</dc:title>
</cp:coreProperties>
</file>