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AF9-6D92-4B95-AF2D-FA2D49E9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BDF-1D11-4EDC-B3A0-149FA254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279-FA61-4D9F-B52E-1CAF3D6B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366-3FB8-4D5D-9D53-AC59156F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E4C-0713-4534-9CE6-09338183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9F8-7340-4C07-BC58-EDC507C0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F4D-CC11-4128-AE53-E476693E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F03-143D-43AE-B16B-BDEF8496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168-91F1-4E51-9F74-9717A08B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EB0-2D34-44BB-87CC-CF43D60B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34E-4E99-41B9-8EB1-0F091515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CB4-92A3-41E1-A829-078E2C23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F5E1-1EBC-4B72-BDF7-5DB215BA9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O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a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e of mi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. It directly influences the performance and proficiency of individuals and, therefore, that of the organization itsel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about how a person feels about his/her job, not a reflection of how/she feels about the unit or organiz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5867280"/>
            <a:ext cx="2819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ORALE IS INFLUENCED BY THE FOLLOWING FACTO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640080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Purpo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der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ipli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f-respec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rade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ual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det’s well-Being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fort and Welf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TTITUDES THAT MAKE UP MO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828800"/>
            <a:ext cx="6400800" cy="46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ate of anyone’s morale at any given time depends upon and is measurable by their attitud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quadr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selv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ir companion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ir l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172200"/>
            <a:ext cx="2362320" cy="2216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76920" y="5943600"/>
            <a:ext cx="10238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SPRIT DE COR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447920"/>
            <a:ext cx="662940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presents one’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belonging to a particular organization or unit. Basically it can be described as you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nse of group ident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contribute to the development of esprit de corps by exerting your influence and personality in the follow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 in the Gro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quen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di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6515280"/>
            <a:ext cx="312408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0880"/>
            <a:ext cx="6248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IFFERENCES BETWEEN MORALE AND ESPRIT DE COR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6400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pa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ities. Either can exist independently of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how you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e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your job, your leaders, yourself. Esprit de corps, on the other hand, is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have in your group, unit or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5791320"/>
            <a:ext cx="18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2:34:36Z</cp:lastPrinted>
  <dcterms:modified xsi:type="dcterms:W3CDTF">1999-03-15T12:34:38Z</dcterms:modified>
  <cp:revision>32</cp:revision>
  <dc:subject/>
  <dc:title>No Slide Title</dc:title>
</cp:coreProperties>
</file>