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2E8-D74A-43CF-87B5-0CA6247E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6BE-CFC6-4469-AAB6-081B4AF8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B69-67EA-483F-8D65-6516DA4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BAB-A12A-4CD1-A39F-E06C7E63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E11-8053-481F-82BA-FB57B0E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5E3-1810-48B9-AF73-35A48C5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E47-BA61-410A-B14E-F94A7D1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AC8-E143-419D-A2BD-0E15974F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E62-9176-457A-8E58-5F01B57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CFD-64E4-4213-9400-BC2C70A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18B-C16E-41F7-8128-B33B030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5B2-86D4-4C85-9011-51FBB00F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3E6-3016-42F1-836B-76D90E906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-PERFORMANC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971800" cy="192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4:28:12Z</dcterms:created>
  <dc:creator>DND</dc:creator>
  <dc:description/>
  <dc:language>en-US</dc:language>
  <cp:lastModifiedBy>Jamie Richards</cp:lastModifiedBy>
  <cp:lastPrinted>1999-02-12T14:33:58Z</cp:lastPrinted>
  <dcterms:modified xsi:type="dcterms:W3CDTF">1999-04-21T19:11:40Z</dcterms:modified>
  <cp:revision>3</cp:revision>
  <dc:subject/>
  <dc:title>DEMONSTRATION-PERFORMANCE METHOD</dc:title>
</cp:coreProperties>
</file>