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AC4-A4DB-469F-B684-CE88656E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8B7-8667-4E6A-87E3-27DFB4B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966-65B8-4463-A3A3-AE341E58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CBD-8F57-4915-95CC-2C4BBD53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AC7-38AF-424B-A73E-08D598D5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3FB-337A-42B6-B799-8073A0F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2B3-B96C-41C2-B847-B8CBFDB7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A85-A8AD-4847-B880-B1C49A48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F33-5F4F-47E6-AB8B-0AD10C23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C49-2F1B-4F71-AE42-0E3F658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664-BCC2-4EFF-8B55-B0C0DF5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CDA-6A1F-4E8F-951C-16BE8D9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003F-26E9-4BAD-B5BB-CB844F1C5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interviewing is to guide, aid or understanding another person, usually in face-to-face personal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view is influenced by the personalities of the interviewer and the person being intervie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638680"/>
            <a:ext cx="5823000" cy="288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VIEW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388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ing new cadets to your un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eriodically inform cadets of their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ssign task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det leaves the squad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30492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INTERVIE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5181480"/>
            <a:ext cx="749160" cy="2801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5715000"/>
            <a:ext cx="2506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447920"/>
            <a:ext cx="5943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counselling is to discuss with a subordinate the subordinate’s problems with the intent of arriving at a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6738840"/>
            <a:ext cx="3581280" cy="175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73392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COUNSE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952880"/>
            <a:ext cx="5943600" cy="22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rrect a prob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olve a problem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3:34:07Z</cp:lastPrinted>
  <dcterms:modified xsi:type="dcterms:W3CDTF">1999-03-15T13:34:08Z</dcterms:modified>
  <cp:revision>32</cp:revision>
  <dc:subject/>
  <dc:title>No Slide Title</dc:title>
</cp:coreProperties>
</file>