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54C-DC33-4213-951C-BDD487E6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F71-678F-40C8-8F1E-872E170A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A12-5208-4636-AE1C-23B5EC59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B88-2BD2-445E-9AEC-118285EC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AE3-D1E7-491A-8C1B-D5685DB3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FFE-597C-443D-8C61-BC0F3870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226-702E-4E97-9961-D1E672FA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856-12F0-4AC8-8FB9-6BD81A70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DC2-C2A6-49DA-ACF3-E53D5E6E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5B3-9875-44CE-A67A-1B4279F6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0AB5-A96E-41E8-9857-EB7E9582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7DD-E223-4C67-9A49-CA97E290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B967-E160-4F1B-98BF-A1F644A30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lo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lotter" descr=""/>
          <p:cNvPicPr/>
          <p:nvPr/>
        </p:nvPicPr>
        <p:blipFill>
          <a:blip r:embed="rId1"/>
          <a:srcRect l="0" t="13613" r="0" b="13559"/>
          <a:stretch/>
        </p:blipFill>
        <p:spPr>
          <a:xfrm>
            <a:off x="152280" y="1865160"/>
            <a:ext cx="87631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Jamie Richards</cp:lastModifiedBy>
  <cp:lastPrinted>1999-03-03T19:08:46Z</cp:lastPrinted>
  <dcterms:modified xsi:type="dcterms:W3CDTF">1999-03-31T04:03:42Z</dcterms:modified>
  <cp:revision>27</cp:revision>
  <dc:subject/>
  <dc:title>Navigating Position</dc:title>
</cp:coreProperties>
</file>