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305-F16F-498D-A8E2-8F701415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E789-C62B-4B8F-B909-39A9C4F3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D7B-9718-46E4-AE55-BEEDB027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F2E-C0E0-491D-8191-5D1D7AAA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CEA-3887-4C85-BE30-4B21C436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7C11-2CDD-42EA-9841-75BF0DF0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141-9E09-4DA5-B2F1-CF7F575C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D64-8FB5-4CAB-8C08-4BD04023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26A-8C12-4A33-A89A-ED0A6A1B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EDFF-DA33-44F0-B35A-774F4C44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E420-E02D-4FD5-BD97-DD027814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A31-9401-428D-878B-F9434086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669D-795B-44AA-8EFA-6B1B2E2A6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DUCTING A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he meeting to order o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ounce the order of business as detailed in th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the business and conduct th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the spea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3809880"/>
            <a:ext cx="32004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DUCTING A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5562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 the time allotted to spea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 debate to the question under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and secure a hearing for those entitled to sp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2209680"/>
            <a:ext cx="2939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848720" y="3886200"/>
            <a:ext cx="88092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DUCTING A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fair, just and impar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in from lecturing, being domineering and offering personal opin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the meeting o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477120" y="4191120"/>
            <a:ext cx="189864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410080" y="4419720"/>
            <a:ext cx="1606680" cy="1960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315200" y="5029200"/>
            <a:ext cx="13302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8:03:12Z</dcterms:created>
  <dc:creator>DND</dc:creator>
  <dc:description/>
  <dc:language>en-US</dc:language>
  <cp:lastModifiedBy>Jamie Richards</cp:lastModifiedBy>
  <dcterms:modified xsi:type="dcterms:W3CDTF">1999-04-26T03:10:43Z</dcterms:modified>
  <cp:revision>6</cp:revision>
  <dc:subject/>
  <dc:title>CONDUCTING A MEETING</dc:title>
</cp:coreProperties>
</file>