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EE0-9A92-40B5-B3AB-A2FD2639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85A-3186-488B-9D54-805DB9C2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4BF-A7EB-4F83-976A-D2CBB9DD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C84-5E21-42B7-B13B-A46AC6B3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8B0-BE9A-4042-9A7D-B0F02E19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1A3-BA35-4A30-BCAE-391C7F6B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195-0F0B-4862-8458-AD07EB0B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44B3-5173-4FE8-84ED-7881CD34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4EA-AAFB-4595-A7E2-28848704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F76-5FF5-4103-BD53-D78A212A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829-A99A-460B-BA42-80B2DC80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A22-4B17-4D9F-88C1-EFCC8C53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18C6-2EAA-447D-B6EC-B5ADCD9E1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80880"/>
            <a:ext cx="640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BEFORE THE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447920"/>
            <a:ext cx="6400800" cy="33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ings which you need to be aware of before you go into an interview. These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dress and deport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physical behaviour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ay you answer ques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5105520"/>
            <a:ext cx="1430280" cy="3436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121608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92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DURING THE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752480"/>
            <a:ext cx="640080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eath deeply, get rid of any bubble gum, ensure that your breath is fresh and, especially, rela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i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ke hands, firmly, with the intervie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 some gratitude for the opportunity given to you with the intervie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not sit before you are asked to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blish eye 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2860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ONCE IN THE INTERVIEW……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676520"/>
            <a:ext cx="6629400" cy="70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honest and direct with the responses to quest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id answering questions with a mere yes or no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smiling and keep your positive attitude. There is no place for negative comments or sarcas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 before answering any questions. Take a few seconds to formulate a complete and logical respon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pare a couple of questions on the company, or the job itself, to ask at the end of the inter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808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FTER THE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371600"/>
            <a:ext cx="662940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 u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ke hands with the intervie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 your thank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ure that you do not leave anything personal behind you (coat, binder, purse, etc.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lk straight and calmly to the do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t a large smile on your face as you leave the room. The interview is o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6934320"/>
            <a:ext cx="21333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08T20:22:02Z</cp:lastPrinted>
  <dcterms:modified xsi:type="dcterms:W3CDTF">1999-03-01T19:07:07Z</dcterms:modified>
  <cp:revision>28</cp:revision>
  <dc:subject/>
  <dc:title>No Slide Title</dc:title>
</cp:coreProperties>
</file>