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4D8-E9E9-45B0-9995-7B82E1C1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80D-BF21-49B0-93DB-6293A6C2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25B-71AF-47CD-8838-94F5E366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DE5-9E60-42D5-80E6-671C1CE2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97D-ED6D-4E53-86A4-AC6FEF78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F21-1707-4F23-88E8-367269B5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205-1858-4C55-9D26-2D87922B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E77-ABFC-4BF0-9F32-FB1C76B0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0C8-A50A-4BC9-8B85-80A0AA99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44B-2551-45E0-BEAF-ECB85C30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FBA-5DE3-4DB9-AE0B-A4F12366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95A-28D3-4D42-AD23-5C6322EE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DEDC-2101-49B5-AF92-1FAFB98E4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BLEM TRAIN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LEA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LEA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ENT CAD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69000" y="1981080"/>
            <a:ext cx="336852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164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BLEM TRAIN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F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-IT-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-PO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TR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59320" y="1981080"/>
            <a:ext cx="238608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164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5:18:14Z</dcterms:created>
  <dc:creator>DND</dc:creator>
  <dc:description/>
  <dc:language>en-US</dc:language>
  <cp:lastModifiedBy>Jamie Richards</cp:lastModifiedBy>
  <cp:lastPrinted>1999-02-10T15:26:51Z</cp:lastPrinted>
  <dcterms:modified xsi:type="dcterms:W3CDTF">1999-04-21T19:06:53Z</dcterms:modified>
  <cp:revision>5</cp:revision>
  <dc:subject/>
  <dc:title>PROBLEM TRAINEES</dc:title>
</cp:coreProperties>
</file>