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EEF6-A59B-4BFF-A13E-DD3CE54A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FECE-4928-48E7-BE4B-6E972DED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D480-3029-41D1-881F-462B44B3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6AEB-80B6-4CE5-B281-B719EF1C0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EF5D-F29F-42BB-88AC-06038B55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9E74-19FF-4467-88FF-84CB84A7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502C-0DFE-4A34-9926-7C063C17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43E7-39D1-485F-B7FC-2ECD3260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DB1E-55E4-4059-AB68-6AF45FCD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5578-FA04-48DC-8B65-B7C19FBD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5D12-7974-432D-AD72-1EDEA6A8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77CA-412E-4ED9-BCB6-C53B3B3D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6EE5-9501-425E-A9AB-5B0121665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tmospheric 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tmosphere is made up of a mixture of invisible gases.  The main gases in the atmosphere ar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itrog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xyg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rbon dioxi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ddition to these gases, the lower layers of the atmosphere contain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ater vapou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From a weather standpoint, this water vapour is the most important constituent of the atmospher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operties of the Atmosphe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PACITY FOR EXPAN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PACITY FOR COMPR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le the letter which corresponds to the answer of each of the following ques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entify the three main gases that are present in the atmosphe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rbon Monox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ch of the following are the three principal properties of the atmosphe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sco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pacity for Expa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luid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pacity for Com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pacity for Combu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680" y="1486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1752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93880" y="5295960"/>
            <a:ext cx="53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oose the word which best fits the following senten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25560" y="5624640"/>
            <a:ext cx="722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cause the atmosphere ha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 exerts a pressure on the Earth’s surfa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5867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50800" y="6019920"/>
            <a:ext cx="637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igh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le the letter which corresponds to the answer of each of the following ques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entify the three main gases that are present in the atmosphe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rbon Monox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ch of the following are the three principal properties of the atmosphe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sco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pacity for Expa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luid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pacity for Com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pacity for Combu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0680" y="1486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1752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93880" y="5295960"/>
            <a:ext cx="53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oose the word which best fits the following senten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25560" y="5624640"/>
            <a:ext cx="722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cause the atmosphere ha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 exerts a pressure on the Earth’s surfa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5867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50800" y="6019920"/>
            <a:ext cx="637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igh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1952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4114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48006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44956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350532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281952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4120" y="556272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6019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1T13:05:41Z</dcterms:created>
  <dc:creator>RC Air Cadets</dc:creator>
  <dc:description/>
  <dc:language>en-US</dc:language>
  <cp:lastModifiedBy>Jamie Richards</cp:lastModifiedBy>
  <cp:lastPrinted>1999-03-01T13:13:26Z</cp:lastPrinted>
  <dcterms:modified xsi:type="dcterms:W3CDTF">1999-03-31T03:52:19Z</dcterms:modified>
  <cp:revision>7</cp:revision>
  <dc:subject/>
  <dc:title>PITCH</dc:title>
</cp:coreProperties>
</file>