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E68-BD81-4D82-BF42-5B20B82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928-381A-484A-8C00-EE1984B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F36-A24A-43BD-96AC-C60B2D93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F5E-A03D-4D36-9B3E-47B6E9D2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FFC-F934-4191-9E56-AE46F9B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49C-30B0-4185-9BA0-3EA45E8B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AAB-A47F-4670-B5D2-4746BF80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DEB-A1CF-4B06-9045-54D6D32B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3FB-2856-4649-AAF3-79DE0F04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00E-4707-46F9-A599-6092C2F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556-E3C6-4A18-8BAD-738C9C3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56A-082F-4885-AF2B-5561A5C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F02-EE84-420B-8FE6-7F8686B10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2T14:59:07Z</dcterms:modified>
  <cp:revision>20</cp:revision>
  <dc:subject/>
  <dc:title>No Slide Title</dc:title>
</cp:coreProperties>
</file>