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479-3A92-4812-AAE4-489691C6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C2E-EB69-4330-8F2F-8F3997F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2CA-E608-4357-835A-2BA264EC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C05-EE5F-4F49-9ED1-A33A920F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D79-2276-4C02-861A-30168710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428-632F-4723-A993-ECA8A1B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59B-7519-448C-BC45-103BE684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296-5D1B-4346-AEEA-9E0C8B7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CE1-0C87-454B-A0E8-0410072D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737-B5A8-4967-A6F6-5F2DF04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561-6D53-4892-A104-5A5276B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B62-5B17-4CE0-A4FA-CFC3CBA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FBC-5055-4D44-BB8A-D3097918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ETS’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2590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4:07:10Z</dcterms:created>
  <dc:creator>DND</dc:creator>
  <dc:description/>
  <dc:language>en-US</dc:language>
  <cp:lastModifiedBy>Jamie Richards</cp:lastModifiedBy>
  <cp:lastPrinted>1999-02-15T14:18:34Z</cp:lastPrinted>
  <dcterms:modified xsi:type="dcterms:W3CDTF">1999-04-21T19:13:42Z</dcterms:modified>
  <cp:revision>3</cp:revision>
  <dc:subject/>
  <dc:title>LESSON PLANNING TIPS</dc:title>
</cp:coreProperties>
</file>