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C3B5-5EE7-4D9F-8103-3F1917B55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1C57-673F-4766-8003-15C861C5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75C1-6FBE-4F51-AE22-0AF5A02D4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BBFB-1A06-4B96-936C-774B6C6A6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CBC8-A5A9-47D0-9844-9B968249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8444-2157-4B38-BFE5-4294219F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1E3D-C027-4984-8E9A-B9111901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4599-CD12-44A9-B115-86B52187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21D5-E625-408A-9B96-37F6299E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86A4-4C6C-464F-BB67-CB103254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F0C4-0648-4752-B80E-954B9B15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C3D5-FCF4-42F2-B7E1-CC8485C4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230D-5DDF-4A6A-86E8-B22743951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Magnetic Po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ag2" descr=""/>
          <p:cNvPicPr/>
          <p:nvPr/>
        </p:nvPicPr>
        <p:blipFill>
          <a:blip r:embed="rId1"/>
          <a:srcRect l="11629" t="0" r="16427" b="0"/>
          <a:stretch/>
        </p:blipFill>
        <p:spPr>
          <a:xfrm>
            <a:off x="1523880" y="1425600"/>
            <a:ext cx="617220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The Ear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phere" descr=""/>
          <p:cNvPicPr/>
          <p:nvPr/>
        </p:nvPicPr>
        <p:blipFill>
          <a:blip r:embed="rId1"/>
          <a:srcRect l="7592" t="0" r="11411" b="4386"/>
          <a:stretch/>
        </p:blipFill>
        <p:spPr>
          <a:xfrm>
            <a:off x="2057400" y="1447920"/>
            <a:ext cx="5486400" cy="4976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H="1" flipV="1">
            <a:off x="3804120" y="1678320"/>
            <a:ext cx="87840" cy="22428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5469120" y="5416920"/>
            <a:ext cx="110880" cy="21420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09040" y="1676520"/>
            <a:ext cx="14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6680" y="5578560"/>
            <a:ext cx="248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s in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erly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5720" y="137160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th P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5720" y="548640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th P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429000" y="5257800"/>
            <a:ext cx="1981080" cy="4572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81480" y="1693800"/>
            <a:ext cx="552240" cy="34596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5638320" y="1981080"/>
            <a:ext cx="1143000" cy="358164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3885840" y="1752120"/>
            <a:ext cx="2895480" cy="2286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Vari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Vari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the angle between the true meridian and the magnetic meridian.  Therefore, in the Northern Hemisphere, variation is the angle between true north and magnetic north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ines drawn on a chart joining places having the same variation are calle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sogonic lin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ines drawn on a chart joining places having no variation are calle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gonic lin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Longitu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longitude" descr=""/>
          <p:cNvPicPr/>
          <p:nvPr/>
        </p:nvPicPr>
        <p:blipFill>
          <a:blip r:embed="rId1"/>
          <a:srcRect l="0" t="5664" r="0" b="0"/>
          <a:stretch/>
        </p:blipFill>
        <p:spPr>
          <a:xfrm>
            <a:off x="1355760" y="1398600"/>
            <a:ext cx="664524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Latitu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latitude" descr=""/>
          <p:cNvPicPr/>
          <p:nvPr/>
        </p:nvPicPr>
        <p:blipFill>
          <a:blip r:embed="rId1"/>
          <a:stretch/>
        </p:blipFill>
        <p:spPr>
          <a:xfrm>
            <a:off x="1447920" y="1247760"/>
            <a:ext cx="64008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Compass Ro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rose" descr=""/>
          <p:cNvPicPr/>
          <p:nvPr/>
        </p:nvPicPr>
        <p:blipFill>
          <a:blip r:embed="rId1"/>
          <a:srcRect l="0" t="9142" r="9164" b="16564"/>
          <a:stretch/>
        </p:blipFill>
        <p:spPr>
          <a:xfrm>
            <a:off x="2057400" y="1352520"/>
            <a:ext cx="50292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4T23:08:58Z</dcterms:created>
  <dc:creator>RCIS(A)</dc:creator>
  <dc:description/>
  <dc:language>en-US</dc:language>
  <cp:lastModifiedBy>Jamie Richards</cp:lastModifiedBy>
  <cp:lastPrinted>1999-03-03T19:08:46Z</cp:lastPrinted>
  <dcterms:modified xsi:type="dcterms:W3CDTF">1999-03-31T03:51:44Z</dcterms:modified>
  <cp:revision>25</cp:revision>
  <dc:subject/>
  <dc:title>Navigating Position</dc:title>
</cp:coreProperties>
</file>