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587A-E43E-40BC-9517-31592C49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FB35-AF29-4AEC-8ED7-34A6E1C7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468C-2B3E-4B75-B6C7-57A98509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5C39-DCCE-4542-9889-7808BC9C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951E-8EBA-4399-8075-7F723E79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012E-B764-4BB7-8067-2219A3CB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B282-56ED-4DE7-A029-8B02ADF1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69CA-DDDD-4FAA-BEC1-74BB5C76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811A-B799-4D7A-A671-F96DCD54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F515-8DF9-4E94-8046-150DFCA1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C83F-1730-4C57-8B64-9CFBF0D4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61A0-4814-4C3E-8DFB-1F26A659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2107-D5D3-46D8-B45E-1E0A4D992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267080" y="838080"/>
          <a:ext cx="7012080" cy="80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838080"/>
                    <a:ext cx="70120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90720" y="1828800"/>
          <a:ext cx="5529240" cy="5791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828800"/>
                    <a:ext cx="55292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990720" y="1905120"/>
          <a:ext cx="4665600" cy="5943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1905120"/>
                    <a:ext cx="4665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00:18:58Z</dcterms:created>
  <dc:creator>dnd</dc:creator>
  <dc:description/>
  <dc:language>en-US</dc:language>
  <cp:lastModifiedBy>Jamie Richards</cp:lastModifiedBy>
  <cp:lastPrinted>1999-01-07T00:25:20Z</cp:lastPrinted>
  <dcterms:modified xsi:type="dcterms:W3CDTF">1999-04-23T18:50:37Z</dcterms:modified>
  <cp:revision>4</cp:revision>
  <dc:subject/>
  <dc:title>No Slide Title</dc:title>
</cp:coreProperties>
</file>