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AAA-FD8A-43C0-B8ED-26397472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249-90CA-4E30-A229-C7E0D56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F76-FD6B-465D-8E2C-842E82CD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97B-411C-4084-8049-126A3DDE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45D-D57D-476E-B845-7F105404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20C-B6C3-49CB-B87A-7AEA320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523-2583-468C-A014-E4DBAA65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ED7-79D7-48E0-8353-12D68ADF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5BA-E28B-464A-860C-E2311F18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D0B-818A-4A00-8767-CE2A4730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39C-4F8E-43E9-AEC6-3B17DB9C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23F-DC4B-4A86-8E7D-849704F3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EE62-E25B-429F-B2C8-0ECCEC5BF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loud Famil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loud%20chart" descr=""/>
          <p:cNvPicPr/>
          <p:nvPr/>
        </p:nvPicPr>
        <p:blipFill>
          <a:blip r:embed="rId1"/>
          <a:srcRect l="2886" t="0" r="2868" b="0"/>
          <a:stretch/>
        </p:blipFill>
        <p:spPr>
          <a:xfrm>
            <a:off x="0" y="1925640"/>
            <a:ext cx="9144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the correct cloud types for each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67040" y="2786040"/>
            <a:ext cx="4310280" cy="344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6164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43520" y="5408640"/>
            <a:ext cx="12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3160" y="5408640"/>
            <a:ext cx="26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cumulus Castell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ering 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 Fra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8200" y="5408640"/>
            <a:ext cx="173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 Fra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4120" y="54086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971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657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971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343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971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429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2971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0666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09T14:35:04Z</cp:lastPrinted>
  <dcterms:modified xsi:type="dcterms:W3CDTF">1999-03-31T03:53:47Z</dcterms:modified>
  <cp:revision>6</cp:revision>
  <dc:subject/>
  <dc:title>Cloud Families</dc:title>
</cp:coreProperties>
</file>