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4F86-728A-4787-A1BD-C4B43297D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734A-FE34-4FB2-A20D-D43B4A568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EC76-3A3A-4C13-AEE8-066264687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AC9E-4CF0-4E73-8B30-BE9EC97E7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563E-11B2-43EC-998A-409708299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47F4-7678-4F3E-AB39-75E0C1AD1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4379-B27E-4402-9A0A-72E1AA67A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9353-F87B-416D-B9CD-848319B04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01B7-2CEE-464A-A7AF-BCCE4CE4B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85C4-43E6-4620-86A3-A5F1E9876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E0E2-8DEF-4AA0-8F1A-F09FB2416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0C74-6E07-4412-80E7-4024E19A6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CB714-B926-4AA3-A6FA-CA85B8EF9F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COMPONENTS of a MEMORAND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EMORAND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ile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ressee Bl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ject 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 of Re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ature Bl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ion 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-1440" y="660888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04.01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05200" y="660888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800600" y="2209680"/>
            <a:ext cx="380988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Paragraph Divi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838080"/>
            <a:ext cx="6324840" cy="53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_______________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________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________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b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246520" y="660888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1440" y="660888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04.01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dustin%20hoffman" descr=""/>
          <p:cNvPicPr/>
          <p:nvPr/>
        </p:nvPicPr>
        <p:blipFill>
          <a:blip r:embed="rId1"/>
          <a:stretch/>
        </p:blipFill>
        <p:spPr>
          <a:xfrm>
            <a:off x="6019920" y="1600200"/>
            <a:ext cx="237492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8T17:19:30Z</dcterms:created>
  <dc:creator>DND</dc:creator>
  <dc:description/>
  <dc:language>en-US</dc:language>
  <cp:lastModifiedBy>Jamie Richards</cp:lastModifiedBy>
  <dcterms:modified xsi:type="dcterms:W3CDTF">1999-04-26T03:09:15Z</dcterms:modified>
  <cp:revision>9</cp:revision>
  <dc:subject/>
  <dc:title>COMPONENTS of a MEMORANDUM</dc:title>
</cp:coreProperties>
</file>