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0C8D-5831-42B3-99D1-280335C1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8C9C-DA03-401C-BE3B-8BC45C39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FFFE-85DE-4268-BA86-1F070701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DD2C-32E7-40B3-9E76-3DC0A7DBE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3F9D-80B2-4CF7-B609-B5DBF2F8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62D8-6DDC-4D0A-A070-245A4A8B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7B51-3552-4895-8B42-F6F90260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CC72-CB58-47D8-902C-0EB1214B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6EC0-858D-448D-96DE-61A495F8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D047-CD8B-4D3E-A042-48C7653E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683B-EF8C-4404-88E3-4C58D5DB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1617-1245-4FC5-AB5E-1675BA45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3B0F-141A-48E0-8B6B-D61CE994B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EPARING THE TEACHING L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5562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 start well in advance of the presentation d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points with examples, comparisons, statistics and testimo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a clear a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94520" y="2514600"/>
            <a:ext cx="2544840" cy="3124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1720" y="6477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10240" y="647712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EPARING THE TEACHING L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efully consider the nature of the target audi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hearse the lesson to build confid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76720" y="4495680"/>
            <a:ext cx="2819160" cy="1839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1720" y="6477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20320" y="647712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ELI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rather than complex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ub-standard Englis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rly define each new technical w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ecific rather then general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entences of varying l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724800" y="1676520"/>
          <a:ext cx="241920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24800" y="1676520"/>
                    <a:ext cx="241920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1720" y="6477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20320" y="647712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 many ideas in a short period of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ing a su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 information difficult to obtain otherw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supplemented with other teaching devices and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715000" y="5105520"/>
            <a:ext cx="2286000" cy="1218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1720" y="6477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20320" y="647712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provide for trainee partici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sters passiv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not get the most out of certain types of learning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d to keep the attention of trainees for the whole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638680" y="5105520"/>
            <a:ext cx="2286000" cy="1242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1720" y="6477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20320" y="647712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1T17:31:26Z</dcterms:created>
  <dc:creator>DND</dc:creator>
  <dc:description/>
  <dc:language>en-US</dc:language>
  <cp:lastModifiedBy>Jamie Richards</cp:lastModifiedBy>
  <cp:lastPrinted>1999-02-11T18:09:34Z</cp:lastPrinted>
  <dcterms:modified xsi:type="dcterms:W3CDTF">1999-04-21T19:10:11Z</dcterms:modified>
  <cp:revision>6</cp:revision>
  <dc:subject/>
  <dc:title>PREPARING THE TEACHING LECTURE</dc:title>
</cp:coreProperties>
</file>