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55E-CEE5-41AD-85FD-4C28151F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332-40D0-4376-AD2C-5F76181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172-D0AE-4BF2-A8ED-7C429194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E57-3B8D-4410-A927-56839317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349-E565-44A2-A83F-69A10F9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6F4-F558-4CED-B64C-A10FEE5F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096-D74F-43BB-B462-8247EDB4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CD0-375B-40B9-BDFB-58A860C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26C-F5C6-4DFB-8452-D44AB8A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CFC-4B6D-44DD-9599-4E519D9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B4F-52F9-49DB-AE91-6A3B90A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B03-D839-4892-9715-469E9E0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4091-934D-4D87-A146-82C89AB6A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3000" y="6545160"/>
            <a:ext cx="152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4:57:40Z</cp:lastPrinted>
  <dcterms:modified xsi:type="dcterms:W3CDTF">1999-03-12T14:57:43Z</dcterms:modified>
  <cp:revision>22</cp:revision>
  <dc:subject/>
  <dc:title>No Slide Title</dc:title>
</cp:coreProperties>
</file>