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66A-6680-48CC-99D1-E50A47F3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3C8-B792-4312-8DEF-06BA7E24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DA99-F9D9-4AF4-BC1F-D017C6AB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6BE-1CEA-4212-92EE-D00DF7BB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033-911B-49BF-AD13-0F519D62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3D7-81B1-4CCB-AF7D-3F338B09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FA8-FD40-47CF-84DB-F0E32333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153-54A8-4DF4-A3EA-017BF795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4FC-3814-4121-82BE-76B2EBCD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DFF-80B7-41C8-99C4-A993A04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A83-B3E7-42C2-BB68-CA515EA4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BAB-D997-48FE-B4F9-A2C6CB97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D752-36C3-459D-8CD6-38A543E20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14800" y="914400"/>
          <a:ext cx="7621560" cy="8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14400"/>
                    <a:ext cx="76215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90920" y="1905120"/>
          <a:ext cx="5181480" cy="380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905120"/>
                    <a:ext cx="518148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43000" y="1295280"/>
          <a:ext cx="5048280" cy="7147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95280"/>
                    <a:ext cx="5048280" cy="71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09:42Z</dcterms:modified>
  <cp:revision>22</cp:revision>
  <dc:subject/>
  <dc:title>No Slide Title</dc:title>
</cp:coreProperties>
</file>