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40A-7334-468B-A735-78FB931E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D44-1F74-4192-A01F-21FA9EEF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B2D-0778-4C9F-A1AC-D26EE56E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809-9F88-4B90-962F-2764891E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506-0F89-4F19-8A8A-1AAE7C9A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67C-C5C7-4192-9387-10B9878A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AC59-498C-49FB-A226-07CE2688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AA3-EDB7-4AC6-89D7-62838DE5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BCA-919A-45A5-826C-2F892502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244-0E97-4683-8AFE-6BABB7CA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210-E699-4456-B750-D59AEACA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88F8-3C31-4E59-809E-8C4313C3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BC24-6C18-4AC3-8B51-AC9BAAF36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4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1 Level F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- Those Things that Influence Mora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762120"/>
            <a:ext cx="419076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f all your cadets work together to achieve the same goal, they will have a tendency to stick closely together and push in the same dir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Before morale can be generated, individual members of the organization must have their own feelings of ________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 Problems that the cadets may be having at home, in school or even at the squadron can grow and ruin morale and efficienc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 Once self-respect is achieved, ______in the organization should be stimu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This is closely linked to comradeship but tends to be a form of mutual respect between cadets based on each other's professional abi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48320" y="914400"/>
            <a:ext cx="4190760" cy="32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s is an intangible but is, nevertheless, real. You must encourage group members to develop a sense of loyalty, a sense of family and a sense of hum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_________ is essential for fostering good morale in air cad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Cadets will work long hours under bad conditions and morale will not be affected, provided that you tell them why and they are satisfied that you have a sincere interest in their welf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By setting a poor example and neglecting to practice what is taught, you, as the leader, can destroy morale. Nothing succeeds like succes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84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1 Level F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- Those Things that Influence Mora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88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5410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5715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6324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6019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438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487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388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8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2T13:33:27Z</cp:lastPrinted>
  <dcterms:modified xsi:type="dcterms:W3CDTF">1999-03-02T14:10:30Z</dcterms:modified>
  <cp:revision>28</cp:revision>
  <dc:subject/>
  <dc:title>No Slide Title</dc:title>
</cp:coreProperties>
</file>