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8706-37BA-4A4B-B463-86EF3A8B2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760E-FF8D-4D3F-9052-1D353D272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3FCA-C06C-4960-AF25-5736BF0D0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1612-3745-4D17-917C-4E7E748B2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84D9-5CE3-4B5B-BB46-A0C35D2E5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47B8-E7BD-4A64-8602-2DE74945D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8CBE-4990-46FA-BC7D-C64938579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9CE7-B9EA-4A4A-A8A7-58BF33276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8F70-0E4B-4F4F-BEFF-B47BD2043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474C-17F8-469F-80D2-F76A16945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BD28-2BFA-4DE3-A1EE-E184D18B2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CAEB-0116-4D66-A1C6-91F1D3962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F33EB-F918-4043-AA18-60E9A29359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410080" y="838080"/>
          <a:ext cx="7317000" cy="836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838080"/>
                    <a:ext cx="731700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914400" y="1752480"/>
          <a:ext cx="5646600" cy="5562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1752480"/>
                    <a:ext cx="564660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711360" y="1905120"/>
          <a:ext cx="6146640" cy="56386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11360" y="1905120"/>
                    <a:ext cx="614664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3T14:23:26Z</dcterms:created>
  <dc:creator>Jamie Richards</dc:creator>
  <dc:description/>
  <dc:language>en-US</dc:language>
  <cp:lastModifiedBy>Jamie Richards</cp:lastModifiedBy>
  <dcterms:modified xsi:type="dcterms:W3CDTF">1999-04-23T18:48:33Z</dcterms:modified>
  <cp:revision>8</cp:revision>
  <dc:subject/>
  <dc:title>No Slide Title</dc:title>
</cp:coreProperties>
</file>