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3D3-F615-4687-82BD-569BB72F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7D0-E7BB-4FD7-97BE-8BC9C143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D47-7F54-4578-BF8E-F28FA5A7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C9B-B1F7-4C9C-81D2-3282A787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0B5-EE28-45C4-9A07-5A7EFB1B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3CD-A7E3-457B-85B8-49E60955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3F6-53FA-4DFF-AA4D-DB8BEF1E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013-8B5D-4D4C-B68E-648BD946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D8C-86DD-4325-802D-C23CD431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417-153A-41B0-B9CE-4473EB63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726-9938-4700-8C31-55AEB647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7D6-A246-467E-BA7C-D94C7D56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7B99-878C-4BA7-865B-D7233A9A1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iizen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5880" cy="78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Jamie Richards</cp:lastModifiedBy>
  <cp:lastPrinted>1998-12-18T14:03:14Z</cp:lastPrinted>
  <dcterms:modified xsi:type="dcterms:W3CDTF">1999-04-23T18:53:39Z</dcterms:modified>
  <cp:revision>2</cp:revision>
  <dc:subject/>
  <dc:title>No Slide Title</dc:title>
</cp:coreProperties>
</file>