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02B-1575-4B27-A854-2500AE9F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A6A-EA86-4822-8C81-865DC4B4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1D6-0657-49CC-8C2C-C0211BA6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95C-3148-4ABD-AFFD-3D3FB0E7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F00-641E-4D37-ABCB-A7A2A121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AE3-2B7A-4965-A4DF-DF9847E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E79-ECA3-464C-AB32-42DE050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054-9B2A-4AA5-BD1A-BC56074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84B-75C0-4226-826F-EBE6995B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625-FF7B-468A-B0DB-9E0F685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5F2-630B-4A3A-8D4C-E9661C0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C8E-1083-47F9-BE00-724B1A3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3A8-FAB9-46AD-999E-5AE08681B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78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ounselling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the morale of cade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effici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loyalty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acceptance of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assist in meeting these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otion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ified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6096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JECTIVES OF 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371600"/>
            <a:ext cx="640080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the purpose of the session in adv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plan before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sel in private space, free of disru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ect the interests and individuality of each cad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the cadet feel at ease by establishing tr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conversation going, but do not domin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questions that may be answered by a yes or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“why” questions as they force a defensive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447920"/>
            <a:ext cx="6400800" cy="72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views and opinions to yoursel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giving unsolicited ad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passing value judg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exerting excessive contr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ecome sidetracked for lengthy perio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the session positiv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information, impressions and interpreta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matter confident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up unobtrus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7112160"/>
            <a:ext cx="18288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594360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 ERR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2143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4:09:37Z</cp:lastPrinted>
  <dcterms:modified xsi:type="dcterms:W3CDTF">1999-03-15T14:09:51Z</dcterms:modified>
  <cp:revision>33</cp:revision>
  <dc:subject/>
  <dc:title>No Slide Title</dc:title>
</cp:coreProperties>
</file>