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988-3E0B-4AFB-92D2-7B35433F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94A-1A9E-4E9C-9820-6FE678FC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3050-8EE3-4C16-83BE-D54529AE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5457-CB4A-4656-9380-2AC8EBCB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7D9A-034B-4A2B-8DB8-0C058130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5B6-A2F6-4972-98EF-ACA6B1A5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981-CA9B-4C74-A3B8-A20EA854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DB18-7C89-475D-B85B-9A00A943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FF2-0208-42B7-84D9-DDD2E431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5E4-C0E4-4702-AD9B-01EEB44A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6CD-64B2-4D1A-9DFC-1FA8A40C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C168-1371-49BA-A290-1DE6F766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CBB5-0B9F-4A4F-9400-80325202F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0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539748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15:16:04Z</dcterms:created>
  <dc:creator>DND</dc:creator>
  <dc:description/>
  <dc:language>en-US</dc:language>
  <cp:lastModifiedBy>DND</cp:lastModifiedBy>
  <cp:lastPrinted>1999-01-12T15:16:38Z</cp:lastPrinted>
  <dcterms:modified xsi:type="dcterms:W3CDTF">1999-01-12T15:17:34Z</dcterms:modified>
  <cp:revision>1</cp:revision>
  <dc:subject/>
  <dc:title>No Slide Title</dc:title>
</cp:coreProperties>
</file>