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A967-7074-4156-8AB1-356FAC69F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0A6D-24D0-44C3-A79E-5032D23DF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0B93-6235-4652-989D-854B158C5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F7A3-D8B9-4D60-92B0-FE106F491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B3CD-8B7C-402E-ADB8-8E16C4A9A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4F46-80EA-4909-99B4-977B43E64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F49A-500F-4536-9900-A746FA61A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B581-4BF5-481B-AFD1-5AF5E9060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85D5-CCFD-4456-A5ED-359B19135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F4B9-FC8D-47FD-9C1D-07882A4B3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DE5B-A51B-49CF-B558-7D928349D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9770-054C-419B-8A97-1BF7CE3BB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E04A4-6303-4CF5-B418-0F806EC988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ivisions of the Atmosph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3200" y="6551640"/>
            <a:ext cx="126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13.01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atmosphere" descr=""/>
          <p:cNvPicPr/>
          <p:nvPr/>
        </p:nvPicPr>
        <p:blipFill>
          <a:blip r:embed="rId1"/>
          <a:srcRect l="7761" t="2184" r="8846" b="2835"/>
          <a:stretch/>
        </p:blipFill>
        <p:spPr>
          <a:xfrm>
            <a:off x="1700280" y="1074600"/>
            <a:ext cx="5538600" cy="540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ll in each of the spaces with the correct name for that level of the atmosphe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5551560" cy="54151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3200" y="6551640"/>
            <a:ext cx="126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13.01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391520" y="2362320"/>
            <a:ext cx="152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391520" y="2971800"/>
            <a:ext cx="152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391520" y="3505320"/>
            <a:ext cx="152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1600" y="99072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m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143000" y="12952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391520" y="1752480"/>
            <a:ext cx="152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93280" y="4267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19292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192920" y="54100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193280" y="59436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088760" y="3124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088400" y="25909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088400" y="19810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065000" y="13716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08T18:37:42Z</dcterms:created>
  <dc:creator>RC Air Cadets</dc:creator>
  <dc:description/>
  <dc:language>en-US</dc:language>
  <cp:lastModifiedBy>Jamie Richards</cp:lastModifiedBy>
  <cp:lastPrinted>1999-03-09T14:03:22Z</cp:lastPrinted>
  <dcterms:modified xsi:type="dcterms:W3CDTF">1999-03-31T03:53:00Z</dcterms:modified>
  <cp:revision>8</cp:revision>
  <dc:subject/>
  <dc:title>Cloud Families</dc:title>
</cp:coreProperties>
</file>