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CFF-45FF-49D3-9644-552F0AAC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696-91D6-496F-85DE-02892185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69F-A11B-46AA-B8BD-216A98F7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E0B-B780-407B-B834-76BFDF16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6DC-2065-41AC-BBF1-0601E275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D7A-6926-4908-BBE9-0953262A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ADE-941B-4C90-876E-E14EE87D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653-CC42-4143-85FF-8B26A3B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F6A-06BE-4B85-94DA-1566001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B04-A954-4689-A7CD-02A6BB7E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173-AF62-4ACC-B27E-4EDE0834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80E-73BF-41D3-AD2C-6BBD916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3048-677F-4B3B-875D-C8B816622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61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resumé is not a job application but is a chronological description of your education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sum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well prepared and logically organized. In other words it must be easy to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impeccable in its presenta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cts it includes must be true and prec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64008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nd given 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ne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Insurance No. (optional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e of birth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atus (single, married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6477120"/>
            <a:ext cx="1954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62940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ducation &amp; Work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your education in reverse chronological order, beginning with last diploma receiv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schools attended and currently attend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hort description of all jobs and positions held in the past, including any employment at a summer training cent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thing that you have done, even the smallest jobs should be inclu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6629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spend your spare time? Are you involved in any sports, social activities or cultural pursu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re any awards that you have won in school, cadets or elsewhere. Do not hesitate to mention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134460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66880" y="754380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6400800"/>
            <a:ext cx="221004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6019920"/>
            <a:ext cx="15192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828800"/>
            <a:ext cx="662940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do not need to have references, but it will not hurt to have the support of two or three people who could attest to your qualifications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eople should provide a letter of reference if needed, or at least be able to answer a few questions abou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have the permission of these people before using them as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7696080"/>
            <a:ext cx="1600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ESENTATION OF YOUR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82880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not be more than three pa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easy to re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writing style should be dynamic and precise, and free of lengthy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ust be printed on 81/2 x 11 white or slightly coloured paper, on one side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grammar is perfe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bbreviations or acronyms. Write the titles or positions in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5:21:31Z</cp:lastPrinted>
  <dcterms:modified xsi:type="dcterms:W3CDTF">1999-03-12T15:21:35Z</dcterms:modified>
  <cp:revision>28</cp:revision>
  <dc:subject/>
  <dc:title>No Slide Title</dc:title>
</cp:coreProperties>
</file>