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CB93-D87D-449B-9E33-DE852149B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26CB-81C9-4B3D-8BF1-3C49384B6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5BBC-07D1-4EA8-BC6D-D424298E6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0AA2-19C7-4E08-9F42-65891B2F4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B56A-3A23-4542-80CC-C7710FBC7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19A4-C148-4B5D-8840-12E569BD9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1F87-7D01-4349-A3D5-78BA8F821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E460-2079-405C-BC2D-5F3CCB28B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A105-2694-4F74-AA02-81F7F5310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26ED-AC8C-4928-BE29-87991C98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CCDE-2133-4EFA-A807-AE3B3AD6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9BBB-0E6F-4DC4-B27A-5A550260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673AC-52E7-4A8A-B18D-5C6EE99E32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92520" y="4541760"/>
            <a:ext cx="2613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68400"/>
            <a:ext cx="6553080" cy="4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 408.01 Level F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nex  A - Crossword Puzzle Answer Key - Those Things that Influence Moral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23623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14300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47920" y="23623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5248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800600" y="26668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57400" y="2971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26668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00600" y="2971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05740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47920" y="48006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362320" y="14479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97180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76720" y="14479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8620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3581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740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57400" y="20574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057400" y="1143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91120" y="14479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9568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38080" y="2971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41911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26668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8380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38080" y="44956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0060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38080" y="20574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58128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80060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91120" y="32767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9568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800600" y="44956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105520" y="32767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238880" y="26668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80060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238880" y="3581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2448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32767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238880" y="17524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80060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4100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00600" y="5715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00600" y="3581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0060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800600" y="20574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17524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41911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97180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128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057400" y="17524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5740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934320" y="32767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76720" y="23623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6688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62320" y="23623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5740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1008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848720" y="51055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1500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8620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38862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62940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8862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05520" y="14479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23888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800600" y="63244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00600" y="6019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4380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51055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800600" y="51055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15000" y="51055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19920" y="51055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29400" y="51055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324480" y="51055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800600" y="51055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543800" y="51055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10080" y="51055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191120" y="51055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934320" y="51055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51055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95680" y="51055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86200" y="51055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51055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848720" y="32767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238880" y="20574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23888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238880" y="2971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057400" y="3581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238880" y="1143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38080" y="17524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76720" y="51055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238880" y="8380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2-19T14:54:13Z</cp:lastPrinted>
  <dcterms:modified xsi:type="dcterms:W3CDTF">1999-03-02T13:28:36Z</dcterms:modified>
  <cp:revision>29</cp:revision>
  <dc:subject/>
  <dc:title>No Slide Title</dc:title>
</cp:coreProperties>
</file>