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CEF-98D5-4477-B4C6-C2BE11D5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7B1-904D-43A9-96E2-577FB1BE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BFA-030C-498B-8B6E-9FF28FD7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AB5-C043-40D1-946D-B13679D7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516-5583-4E87-94E2-F395E9D3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8A1-CA2A-47F7-A20E-320FE4B9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ED4-1988-4A6E-96FD-D0FB7596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84F-DDBD-4691-8DCD-D67C91E7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8C9-FF97-418B-8357-BF7E227C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F6F7-09E5-4386-B95C-ADD04572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5CC-591B-454B-90BB-283D3D4E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E10-7C40-4345-BB58-7C94ECF6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50B2-1526-408C-AD43-02C2972D1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5500440" cy="810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Jamie Richards</cp:lastModifiedBy>
  <cp:lastPrinted>1998-12-18T14:03:14Z</cp:lastPrinted>
  <dcterms:modified xsi:type="dcterms:W3CDTF">1999-04-21T18:59:34Z</dcterms:modified>
  <cp:revision>7</cp:revision>
  <dc:subject/>
  <dc:title>No Slide Title</dc:title>
</cp:coreProperties>
</file>