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3F9C-D361-4D27-8220-7C5692B0F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0ECD-B2BB-4862-BAAD-EC13A887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967F-446D-43AD-9839-4DF2499EC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98E0-D6C8-416C-972D-EA35EF34B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77AD-D917-43B7-9D38-6DA5D425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6A85-00F2-42A5-A718-583BFD79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F949-91D6-47C2-9617-C0C6EB72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7834-53E9-4587-A5C4-E44508D7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1514-2541-4FFB-996D-E3572A0F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0F99-0829-4955-8323-9DB64B74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E1AF-71DF-4D0C-B8D9-A9261036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A6C4-1513-42F6-83C3-384651DB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E852-7A6D-46A2-B121-7A891D059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YPES OF NAVIGATION CHA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adian Pilotage Charts (C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FR Navigation Charts (VN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Aeronautical Charts (WA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FR Terminal Area Ch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 Navigation Ch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821640" y="4114800"/>
          <a:ext cx="1819080" cy="23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1640" y="4114800"/>
                    <a:ext cx="1819080" cy="23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P SC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ve F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ment of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uated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29200" y="2819520"/>
            <a:ext cx="350532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LIEF ON MA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Ti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t He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ch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2479680" cy="45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3280" y="177840"/>
            <a:ext cx="850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Contour Lines and Hachur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map" descr=""/>
          <p:cNvPicPr/>
          <p:nvPr/>
        </p:nvPicPr>
        <p:blipFill>
          <a:blip r:embed="rId1"/>
          <a:srcRect l="0" t="15242" r="0" b="4271"/>
          <a:stretch/>
        </p:blipFill>
        <p:spPr>
          <a:xfrm>
            <a:off x="457200" y="1617840"/>
            <a:ext cx="807732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7T13:04:32Z</dcterms:created>
  <dc:creator>DND</dc:creator>
  <dc:description/>
  <dc:language>en-US</dc:language>
  <cp:lastModifiedBy>Jamie Richards</cp:lastModifiedBy>
  <cp:lastPrinted>1999-03-17T13:29:04Z</cp:lastPrinted>
  <dcterms:modified xsi:type="dcterms:W3CDTF">1999-03-31T03:57:19Z</dcterms:modified>
  <cp:revision>4</cp:revision>
  <dc:subject/>
  <dc:title>TYPES OF NAVIGATION CHARTS</dc:title>
</cp:coreProperties>
</file>