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B59-5448-4C05-8A6C-838A1918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6D1-5867-4843-94D5-DC610830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184-2FAB-4A9E-B285-92E04EF0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DE3-E035-4C16-BCBB-35F6EF93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EEA-D6E4-4F7C-AFD0-343E42BD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0F5-66FF-442A-A69A-58FC7663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6A3-71D6-4EDA-952A-826B5D82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5DA-25C1-45EF-9C55-46B9A391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BC6-7D8E-4924-8262-85D53E6C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DCC-063F-4545-B41C-12C64FA1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875-80F8-4671-A9C9-C0DA12F8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0AE-0928-412A-ACFA-7B2AE867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FC06-B8A7-4AAD-BD86-2C269CB34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rdgeIV" descr=""/>
          <p:cNvPicPr/>
          <p:nvPr/>
        </p:nvPicPr>
        <p:blipFill>
          <a:blip r:embed="rId1"/>
          <a:stretch/>
        </p:blipFill>
        <p:spPr>
          <a:xfrm>
            <a:off x="222120" y="533520"/>
            <a:ext cx="8921880" cy="601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VOUAC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7880" y="175248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H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66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NKING WAT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86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1640" y="579132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1640" y="49528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5200" y="480060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 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11680" y="4267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5560" y="335268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45600" y="29718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8920" y="403848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FE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54720" y="54864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5000" y="601992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4840" y="660888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es%20picturres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4100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ho%20me%202" descr=""/>
          <p:cNvPicPr/>
          <p:nvPr/>
        </p:nvPicPr>
        <p:blipFill>
          <a:blip r:embed="rId1"/>
          <a:stretch/>
        </p:blipFill>
        <p:spPr>
          <a:xfrm>
            <a:off x="201600" y="566640"/>
            <a:ext cx="8740800" cy="572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4840" y="660888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62320" y="4876920"/>
          <a:ext cx="761760" cy="4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876920"/>
                    <a:ext cx="7617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086600" y="2209680"/>
          <a:ext cx="71928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2209680"/>
                    <a:ext cx="719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09480" y="762120"/>
          <a:ext cx="762120" cy="129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762120"/>
                    <a:ext cx="7621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8120" y="5410080"/>
          <a:ext cx="1562040" cy="106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5410080"/>
                    <a:ext cx="15620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010280" y="4876920"/>
          <a:ext cx="914400" cy="1143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010280" y="4876920"/>
                    <a:ext cx="914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848720" y="4724280"/>
          <a:ext cx="838080" cy="160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848720" y="4724280"/>
                    <a:ext cx="838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7543800" y="609480"/>
          <a:ext cx="838080" cy="1143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43800" y="609480"/>
                    <a:ext cx="838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514600" y="2362320"/>
          <a:ext cx="762120" cy="1523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514600" y="2362320"/>
                    <a:ext cx="7621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895480" y="2590920"/>
          <a:ext cx="1219320" cy="1130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5480" y="2590920"/>
                    <a:ext cx="121932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bridge567" descr=""/>
          <p:cNvPicPr/>
          <p:nvPr/>
        </p:nvPicPr>
        <p:blipFill>
          <a:blip r:embed="rId20"/>
          <a:stretch/>
        </p:blipFill>
        <p:spPr>
          <a:xfrm>
            <a:off x="196920" y="366840"/>
            <a:ext cx="875016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2T18:40:10Z</dcterms:created>
  <dc:creator>DND</dc:creator>
  <dc:description/>
  <dc:language>en-US</dc:language>
  <cp:lastModifiedBy>Jamie Richards</cp:lastModifiedBy>
  <cp:lastPrinted>1999-01-26T19:45:31Z</cp:lastPrinted>
  <dcterms:modified xsi:type="dcterms:W3CDTF">1999-04-01T18:41:59Z</dcterms:modified>
  <cp:revision>14</cp:revision>
  <dc:subject/>
  <dc:title>BIVOUAC SITE</dc:title>
</cp:coreProperties>
</file>