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5A5-1F28-4DE0-8179-0C5B05A2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E04-1EEB-4EC1-B398-09C24925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12A-5C48-4F8E-85EF-BF4BD066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67A-326A-4AB0-A5C3-5BB6B6E6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C99-F373-4661-B1D5-C9D3D112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332-542C-4B9F-A606-8BEE5D93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2F4-3DA1-44CB-B0EB-FE4BB57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D69-3C25-4FD7-B01B-28ABC8CE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30D-620E-42D5-A0B2-11208E97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7A2-338C-47E1-B355-0038340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7BA-9BE5-49DE-9182-4CF5CD6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BA0-EB16-4F6F-A1B3-710817F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B2A-EA94-49A6-9528-058D36B98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2:10:20Z</dcterms:created>
  <dc:creator>DND</dc:creator>
  <dc:description/>
  <dc:language>en-US</dc:language>
  <cp:lastModifiedBy>DND</cp:lastModifiedBy>
  <dcterms:modified xsi:type="dcterms:W3CDTF">1999-03-23T02:11:02Z</dcterms:modified>
  <cp:revision>1</cp:revision>
  <dc:subject/>
  <dc:title>No Slide Title</dc:title>
</cp:coreProperties>
</file>