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142-08E2-4E31-B7C6-20A7A3FE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9CD-B43B-4AC3-917F-EC40FBFB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E93-2212-4358-9BB7-C7D49708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F07-184B-459E-A07B-EA3ADC69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9FD-0873-4C2E-A136-2455ED6E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5B5-B711-49D6-9F77-0A87E8B9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83A-2B64-4546-B073-A4702285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C83-0723-47F5-A67C-0FA32932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64B-7512-450A-86E2-9C8B4894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75D-0978-4AC8-94D5-A02A9F41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0FC-D06B-42C7-A3F3-DC201DB2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299-DF58-4D12-978A-1498996E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9DBE-8480-49A5-8133-BA7821293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040" y="6545160"/>
            <a:ext cx="123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5880" y="3379680"/>
            <a:ext cx="2533680" cy="2397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077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eep a schedule of the games to offici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heck for any changes prior to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Report at least 30 minutes e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now the rules of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Look profes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eep in good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atch other officials for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1720" y="533520"/>
            <a:ext cx="646416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IES OF A SPORTS OF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9-03-04T21:44:55Z</cp:lastPrinted>
  <dcterms:modified xsi:type="dcterms:W3CDTF">1999-04-22T20:49:36Z</dcterms:modified>
  <cp:revision>26</cp:revision>
  <dc:subject/>
  <dc:title>No Slide Title</dc:title>
</cp:coreProperties>
</file>