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0D3-0EFD-412F-A1F3-CFE9B41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8EA-86AE-4FDF-9B7B-47A01A8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347-983A-4BFE-A825-EBC78383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E5A-1990-4F95-B77D-246B6853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565-0F73-4367-BA6B-2179BDE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99F-0B7D-4B62-829E-D7EF40BF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85D-CA3E-45C4-82CB-D7F3078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B38-517D-444F-B679-80592A3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135-2BF0-4A92-9375-E3EB47D2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A5A-EFEF-4A95-939F-0044BFD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703-FE92-452D-8380-F790AB2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688-9398-47E8-961F-0CAF4C5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119-603A-45E1-81B7-32FFC38D3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ymbol6" descr=""/>
          <p:cNvPicPr/>
          <p:nvPr/>
        </p:nvPicPr>
        <p:blipFill>
          <a:blip r:embed="rId1"/>
          <a:srcRect l="37387" t="22865" r="31077" b="18521"/>
          <a:stretch/>
        </p:blipFill>
        <p:spPr>
          <a:xfrm>
            <a:off x="457200" y="4800600"/>
            <a:ext cx="4651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symbols5" descr=""/>
          <p:cNvPicPr/>
          <p:nvPr/>
        </p:nvPicPr>
        <p:blipFill>
          <a:blip r:embed="rId2"/>
          <a:srcRect l="10393" t="0" r="72858" b="12051"/>
          <a:stretch/>
        </p:blipFill>
        <p:spPr>
          <a:xfrm>
            <a:off x="6477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symbols5" descr=""/>
          <p:cNvPicPr/>
          <p:nvPr/>
        </p:nvPicPr>
        <p:blipFill>
          <a:blip r:embed="rId3"/>
          <a:srcRect l="10393" t="0" r="72858" b="12051"/>
          <a:stretch/>
        </p:blipFill>
        <p:spPr>
          <a:xfrm>
            <a:off x="4114800" y="41148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symbols1" descr=""/>
          <p:cNvPicPr/>
          <p:nvPr/>
        </p:nvPicPr>
        <p:blipFill>
          <a:blip r:embed="rId5"/>
          <a:srcRect l="15273" t="0" r="71255" b="0"/>
          <a:stretch/>
        </p:blipFill>
        <p:spPr>
          <a:xfrm>
            <a:off x="7924680" y="4800600"/>
            <a:ext cx="46044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MMANDERS FALL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1814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114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200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095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48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57600" y="33526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520" y="3200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320" y="1143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3920" y="9907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66720" y="1371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2900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5760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0040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132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1371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1972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8640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1956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0:09:52Z</dcterms:created>
  <dc:creator>DND</dc:creator>
  <dc:description/>
  <dc:language>en-US</dc:language>
  <cp:lastModifiedBy>DND</cp:lastModifiedBy>
  <cp:lastPrinted>1999-03-23T18:25:20Z</cp:lastPrinted>
  <dcterms:modified xsi:type="dcterms:W3CDTF">1999-03-25T18:03:56Z</dcterms:modified>
  <cp:revision>10</cp:revision>
  <dc:subject/>
  <dc:title>No Slide Title</dc:title>
</cp:coreProperties>
</file>