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EF4-3757-4549-A189-1D6AC9E8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058-A079-4D3C-AC17-72EC4E9F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E22-9933-44E7-B4E9-EF9FE75F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B0B-AFFC-4FBD-8A09-00C76D26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0E5-4B23-4CEA-B191-ED8386F4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979-7C14-4AE7-940C-E733B21F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7CC-A93E-40E1-895E-3A21B13B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A9F-26DF-4E75-972A-6B4808C6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21D-FDC7-45DC-9465-7AEBB368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460-9621-426D-A339-81DC6688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EA8-D73E-408B-A76F-4254278A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D4C-EF4D-4F73-A292-C8AC743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9F38-71CB-415E-B401-921057B22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A 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Drained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Surrou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ence of Dangerous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9600" y="2133720"/>
            <a:ext cx="5324400" cy="426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13:27:06Z</dcterms:created>
  <dc:creator>DND</dc:creator>
  <dc:description/>
  <dc:language>en-US</dc:language>
  <cp:lastModifiedBy>Jamie Richards</cp:lastModifiedBy>
  <cp:lastPrinted>1999-01-25T14:08:08Z</cp:lastPrinted>
  <dcterms:modified xsi:type="dcterms:W3CDTF">1999-04-01T18:42:30Z</dcterms:modified>
  <cp:revision>5</cp:revision>
  <dc:subject/>
  <dc:title>SELECTION OF A BIVOUAC SITE</dc:title>
</cp:coreProperties>
</file>