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953-4120-49A6-A17C-3B317C5A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3A9-C199-479E-9A03-109099D8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AB1-4A7C-4930-8541-37461EDD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482-57DB-402C-A3BF-940E0C47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D23-3A2E-4D21-BDBD-036AEA60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F42-F700-42C8-8629-5CD0104A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503-2000-42D5-B21E-E14527FC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2A2-A622-4722-BBA2-523538B5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D24-460F-44B8-AD4F-C822D924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63B-71EE-4E94-B0F6-A274351D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8DC-D3E0-4013-823E-06A53CA8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2E5-57E5-4B84-814B-58EB4CA2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472C-01FD-4DC7-B688-0BE2167CA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86200" y="914400"/>
          <a:ext cx="807876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914400"/>
                    <a:ext cx="80787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828800" y="1905120"/>
          <a:ext cx="6242040" cy="637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905120"/>
                    <a:ext cx="624204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49:29Z</dcterms:modified>
  <cp:revision>23</cp:revision>
  <dc:subject/>
  <dc:title>No Slide Title</dc:title>
</cp:coreProperties>
</file>