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E4C-B307-4024-BAD8-CC543124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E1E-5B0B-411B-8BAB-5067CAD9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148-EE9E-48BF-A689-3A7650E0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29A-4030-4F6D-B279-C47E3A7C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849-EFBD-422E-91D7-691184B6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ECC-7E64-41CC-BD8E-508A5D01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834-4BDC-4A84-9DA2-4694AD90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FC6-839C-43D3-8E7F-D900AA74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EF7-CB6A-471E-A7E8-78C4085E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A53-75DA-43A7-95D8-C1119407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182-1498-49DB-A5A6-3DF98287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FAE-5203-41FB-91B1-119A079B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5F92-4629-47A8-AA61-696D6EA52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81480" y="762120"/>
          <a:ext cx="8688600" cy="99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86886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0" y="1905120"/>
          <a:ext cx="6562800" cy="519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05120"/>
                    <a:ext cx="656280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62120" y="2438280"/>
          <a:ext cx="5105160" cy="442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438280"/>
                    <a:ext cx="51051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35:00Z</dcterms:modified>
  <cp:revision>23</cp:revision>
  <dc:subject/>
  <dc:title>No Slide Title</dc:title>
</cp:coreProperties>
</file>