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F47C-4FA1-4F44-8C0E-7771861E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714A-2A89-4DC6-B3D8-77E312FC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DFB1-4E1B-4760-86AB-F88C18B8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5BDF-6661-443E-BEC9-08B33CB8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DB02-7098-4374-A9F0-723FB87B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5AC9-223F-4B83-B4FE-A68B52FA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610C-DC02-41F4-B26E-BBD2AD72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9C02-E16D-4B19-A157-83A637A7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68F8-8FDC-46E9-B953-A1349ADC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977B-AFEC-4EAD-ABEF-67A45C86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2E24-004E-4E90-B7C6-526E9A66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7235-4A04-40EC-8852-C96A6B4A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2BC0-7F69-4D88-9673-6DC5ADF29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049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DRON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2743200"/>
            <a:ext cx="6019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3809880"/>
            <a:ext cx="6019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876920"/>
            <a:ext cx="6019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ymbols4" descr=""/>
          <p:cNvPicPr/>
          <p:nvPr/>
        </p:nvPicPr>
        <p:blipFill>
          <a:blip r:embed="rId1"/>
          <a:srcRect l="1429" t="37860" r="66572" b="15085"/>
          <a:stretch/>
        </p:blipFill>
        <p:spPr>
          <a:xfrm>
            <a:off x="6477120" y="5638680"/>
            <a:ext cx="838080" cy="463680"/>
          </a:xfrm>
          <a:prstGeom prst="rect">
            <a:avLst/>
          </a:prstGeom>
          <a:ln w="0">
            <a:noFill/>
          </a:ln>
        </p:spPr>
      </p:pic>
      <p:pic>
        <p:nvPicPr>
          <p:cNvPr id="49" name="symbols4" descr=""/>
          <p:cNvPicPr/>
          <p:nvPr/>
        </p:nvPicPr>
        <p:blipFill>
          <a:blip r:embed="rId2"/>
          <a:srcRect l="1429" t="37860" r="66572" b="15085"/>
          <a:stretch/>
        </p:blipFill>
        <p:spPr>
          <a:xfrm>
            <a:off x="533520" y="1600200"/>
            <a:ext cx="838080" cy="463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16200000">
            <a:off x="6392520" y="1760400"/>
            <a:ext cx="609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8305920" y="1828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16002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142640" y="25909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34290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3657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4495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4724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55627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0663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4724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066680" y="5562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0663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066680" y="3657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066680" y="3429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066680" y="2590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3657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6292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62920" y="3429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8145360" y="5189400"/>
            <a:ext cx="609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467120" y="4572000"/>
            <a:ext cx="8384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4872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8305920" y="159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599840" y="160020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95680" y="838080"/>
            <a:ext cx="0" cy="609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274320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2952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6002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810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3623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6668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0481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4290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7339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0384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4197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8006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1055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4100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199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3244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553080" y="29714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295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680" y="1827720"/>
            <a:ext cx="168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1T15:20:34Z</dcterms:created>
  <dc:creator>DND</dc:creator>
  <dc:description/>
  <dc:language>en-US</dc:language>
  <cp:lastModifiedBy>DND</cp:lastModifiedBy>
  <cp:lastPrinted>1999-02-11T17:26:48Z</cp:lastPrinted>
  <dcterms:modified xsi:type="dcterms:W3CDTF">1999-03-19T13:59:36Z</dcterms:modified>
  <cp:revision>6</cp:revision>
  <dc:subject/>
  <dc:title>No Slide Title</dc:title>
</cp:coreProperties>
</file>