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02C-5CDB-4E20-8CF4-B3B3DE25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F0C-A18F-49F9-9166-6BF5AC6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304-0A1D-46F0-A825-3D6EDF0D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E58-81B3-46D0-86E8-8AD7F8E7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D07-A50F-4E99-8F11-0FF6C584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A7D-990C-4EFF-980D-D518134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C8B-3CCE-405C-8E52-0EEE95DF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1DB-184A-4094-B0FB-493468B4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77E-CB58-4D9D-8BED-1BA33496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704-649D-4F41-B1B9-415CEE0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4C7-E74F-43F4-8844-8E9A8D64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E0B-1A70-4903-8CFC-64CAA72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B9C-A7F3-4CBF-BC20-3B069486A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86400" y="3200400"/>
          <a:ext cx="317808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200400"/>
                    <a:ext cx="31780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te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 of 5,2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tical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,080 feet) is the average length of one minute of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ome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,000 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9120" y="3733920"/>
            <a:ext cx="38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peed of one nautical mile per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statute mile per h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kilometer per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autical mil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 statute miles it i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bbreviation for kilometer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 kno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15200" y="2209680"/>
          <a:ext cx="1219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467480" y="2286000"/>
            <a:ext cx="8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3443400"/>
          <a:ext cx="58672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43400"/>
                    <a:ext cx="58672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“ONE-IN-SIXTY”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in the track of one degree will cause an error in position of about one mile in a distance of 60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080" y="5029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67160" y="50292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the correct term into the blank space found in each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2193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5,280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9051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6,080 feet) is the average length of one minute of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5909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1,000 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276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peed of one nautical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statue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63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kilometer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9080" y="268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21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e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87760" y="5181480"/>
            <a:ext cx="19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tical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14640" y="521352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09040" y="5181480"/>
            <a:ext cx="11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4:53:50Z</dcterms:created>
  <dc:creator>DND</dc:creator>
  <dc:description/>
  <dc:language>en-US</dc:language>
  <cp:lastModifiedBy>Jamie Richards</cp:lastModifiedBy>
  <cp:lastPrinted>1999-03-17T15:42:24Z</cp:lastPrinted>
  <dcterms:modified xsi:type="dcterms:W3CDTF">1999-03-31T04:02:06Z</dcterms:modified>
  <cp:revision>4</cp:revision>
  <dc:subject/>
  <dc:title>UNITS OF DISTANCE AND SPEED</dc:title>
</cp:coreProperties>
</file>