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9C5-6A57-4F7A-A9DC-1055E19D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7D6-2EB1-455C-A7AF-0B52F93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57E-6481-4051-85A2-DD7B2223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077-0D4C-467D-AB89-9D9B88D6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084-4FAE-44D8-8FEF-C6B4A8DA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34F-3138-4BF7-9B23-8DC4CDE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9EF-A819-4A89-8C49-EEAAC96C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FE4-EDC8-4A69-962D-0F753EA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2FD-3CBC-4B15-8A2F-DD6958A1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102-4578-47BC-8FED-D8F9CB9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FCD-9BC4-46E3-B3FE-1300C95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717-0CDE-4764-978E-C5EDF56A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A0C0-B4BC-4AAD-8128-56AF804D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231040" cy="9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231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371600" y="1905120"/>
          <a:ext cx="6858000" cy="4551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905120"/>
                    <a:ext cx="68580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685880" cy="10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29000" y="2819520"/>
            <a:ext cx="150012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523880" y="411480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86200" y="44197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9480" y="5715000"/>
            <a:ext cx="1567080" cy="11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971800" y="6477120"/>
            <a:ext cx="12873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0:04Z</dcterms:modified>
  <cp:revision>24</cp:revision>
  <dc:subject/>
  <dc:title>No Slide Title</dc:title>
</cp:coreProperties>
</file>