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E24-8F32-4523-ABCB-B878B665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8ED-F980-443F-AEC4-225B61F2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2DD-2A80-4401-A99E-34F73969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0CB-6D74-4F54-806A-1EEE2FE3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ED5-F793-444D-BB3A-54E4DA72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C0D-4EB4-40FD-98E5-41AB6E7E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B54-C172-4225-BE93-E6FB4DA9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D23-BA71-4FCE-A52A-7611C59D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A49-3D59-4031-972C-FD24F873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536-422E-428C-9F7E-669967EA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47F-8AF8-4F33-A378-BC5459D8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1B2-9724-4069-BC6B-EECA8970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0312-B932-4D71-9C64-CE4BB8F63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cated Air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irplane’s speed as indicated by the airspeed indic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 Air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ctual speed of the airplane through the air m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nd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peed of the airplane relative to th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etic Merid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direction in which a compass needle will lie when influenced only by the Earth’s magnetic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ss Nor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direction in which a particular compass needle will lie when influenced by both the Earth’s magnetic field and local magnetic influences (deviation) in the air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zimu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a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refers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ion to or from any point, measured as an angle clockwise from a merid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ir in motion, especially a mass of air having a common direction or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ft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the angle between the heading being flown and the track made good over the gr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Heading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f an airplane is the angle between the longitudinal axis of the airplane at any moment and a meridia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other words, it is the direction the nose of the aircraft is pointing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is different than a bearing.  A bearing from an aircraft to a particular location would not necessarily be the same as the direction the plane was heading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a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intended) is the direction an airplan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intend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o travel over the groun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ack Made Good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actu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path traveled by the airplane over the groun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ack Error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 angle between the required track and the track made good, measured in degrees either left or right of the required track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ing Ang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gle between the required track and the track made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 Ang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gle between the old required track and the new required track necessary to arrive at the dest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3:33:38Z</dcterms:created>
  <dc:creator>DND</dc:creator>
  <dc:description/>
  <dc:language>en-US</dc:language>
  <cp:lastModifiedBy>Jamie Richards</cp:lastModifiedBy>
  <cp:lastPrinted>1999-03-17T14:50:24Z</cp:lastPrinted>
  <dcterms:modified xsi:type="dcterms:W3CDTF">1999-03-31T04:00:09Z</dcterms:modified>
  <cp:revision>3</cp:revision>
  <dc:subject/>
  <dc:title>NAVIGATION TERMS</dc:title>
</cp:coreProperties>
</file>