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BF5-B87A-4622-9414-6396AEFD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EF0-E3F6-42F8-915F-2F4AD47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DE7-47B8-4B9C-BB97-D35C22D1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ACC-5D13-4C20-A62A-88114AB7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8EA-9124-4A1A-83D2-94BC2FE3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E5A-5D76-430F-B9E9-D4F3DEE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F08-33BD-4124-9D4C-DA35395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A63-3760-432A-A2C0-6AF9949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5F5-7F77-4DA6-9FFE-5FE4E71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E00-6DDE-4D6B-BE9D-2CE1A52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4DB-A172-4571-A389-50F11FC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C85-39EA-49D5-BD7C-C4319AB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E4D5-E211-4C26-88A2-5DA3E89FD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TMOSPHERE IS HEATED FROM BEL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eating" descr=""/>
          <p:cNvPicPr/>
          <p:nvPr/>
        </p:nvPicPr>
        <p:blipFill>
          <a:blip r:embed="rId1"/>
          <a:srcRect l="0" t="0" r="1868" b="0"/>
          <a:stretch/>
        </p:blipFill>
        <p:spPr>
          <a:xfrm>
            <a:off x="152280" y="2270160"/>
            <a:ext cx="87631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ors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Arial"/>
              </a:rPr>
              <a:t>Affectin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ur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6:32Z</cp:lastPrinted>
  <dcterms:modified xsi:type="dcterms:W3CDTF">1999-03-31T03:48:08Z</dcterms:modified>
  <cp:revision>11</cp:revision>
  <dc:subject/>
  <dc:title>Cloud Families</dc:title>
</cp:coreProperties>
</file>