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327-71D1-4FE8-85B9-3A06EE14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84D2-57C7-48C7-A516-8D68C72A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7CB-B1A6-491C-90FF-6F291A7D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011E-63FC-412E-ADE2-7C2D9693D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0E0-910B-422C-B550-D36D7CF3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7D2-8118-4168-9BF5-BD9B8460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A731-072F-4AE6-9CF4-0CC73DE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BAC-DE15-400C-B34A-A8887BA7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7A7-9FE7-4EC4-A1AC-DB0A39C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528-23B6-4B2E-8AC2-0AB8C3E3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78A-217E-48D3-B654-3D11E18B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192-54E1-48BF-9FFC-32E868F6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AE8B-3F2B-413B-BFAD-55FC0E018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uel System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vity feed fuel 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only suitable for high-wing aircraft.  The tanks are mounted in the wings above the engine, with gravity causing the fuel to flow from the tanks to the eng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el pump fuel syste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used in low-wing aircraft and in high performance aircraft.  An engine-driven fuel pump supplies the pressure required to keep the fuel flowing to the engin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Fuel Tank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anent ta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located in the fuselage or wing structure where the fuel supply is stored for normal operat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xiliary tan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ither fixed or drop type, can be fitted when a greater than normal fuel supply is required.  They are located on the external structures of the wings or fuselag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roblems with the Fuel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95120" y="13712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to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-Ign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pour 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1T15:12:40Z</dcterms:created>
  <dc:creator>RC Air Cadets</dc:creator>
  <dc:description/>
  <dc:language>en-US</dc:language>
  <cp:lastModifiedBy>dnd</cp:lastModifiedBy>
  <cp:lastPrinted>1999-03-01T15:37:14Z</cp:lastPrinted>
  <dcterms:modified xsi:type="dcterms:W3CDTF">1999-03-30T13:07:48Z</dcterms:modified>
  <cp:revision>4</cp:revision>
  <dc:subject/>
  <dc:title>Fuel Systems</dc:title>
</cp:coreProperties>
</file>