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774-856D-4228-87DA-D8353A6A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E71C-7FA1-4A7F-8D25-294EF02B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3F20-DEAC-4693-9652-5CE32532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25C-3EA8-46E7-BC8A-1E8728AB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B6D-61C7-4C9A-BD9E-2FBAEEC7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0BB-7DF0-4AEE-8DF9-D174843A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EBB-6AC6-4B48-A5B2-86350192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317-F713-47DA-A400-71705790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F5C-2DB3-4AA8-8989-A21D5A21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E87-8F65-4019-8400-137795BB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4646-557C-47D5-8992-FC7E8318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15E-7C28-48A1-A70E-AEE2563A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B76A-E0F3-419D-8B8E-C434F4826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atmap" descr=""/>
          <p:cNvPicPr/>
          <p:nvPr/>
        </p:nvPicPr>
        <p:blipFill>
          <a:blip r:embed="rId1"/>
          <a:srcRect l="7521" t="8332" r="33578" b="40006"/>
          <a:stretch/>
        </p:blipFill>
        <p:spPr>
          <a:xfrm>
            <a:off x="0" y="2286000"/>
            <a:ext cx="3581280" cy="2362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YPES OF M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1395360"/>
            <a:ext cx="358128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POGRAO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 PH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S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ROAD" descr=""/>
          <p:cNvPicPr/>
          <p:nvPr/>
        </p:nvPicPr>
        <p:blipFill>
          <a:blip r:embed="rId2"/>
          <a:srcRect l="0" t="0" r="17287" b="23334"/>
          <a:stretch/>
        </p:blipFill>
        <p:spPr>
          <a:xfrm>
            <a:off x="5715000" y="2362320"/>
            <a:ext cx="30481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mallmap" descr=""/>
          <p:cNvPicPr/>
          <p:nvPr/>
        </p:nvPicPr>
        <p:blipFill>
          <a:blip r:embed="rId1"/>
          <a:srcRect l="49866" t="0" r="0" b="23749"/>
          <a:stretch/>
        </p:blipFill>
        <p:spPr>
          <a:xfrm>
            <a:off x="6858000" y="380880"/>
            <a:ext cx="2286000" cy="464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990720" y="990720"/>
            <a:ext cx="830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e the maps properly when not in use. Protect the map sheet from wet and grime by u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ap board covered with hard plasti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stic coating – sheets or sprays;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5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plastic ba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the map gets wet, open it fully and dry it at the first opportu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d the map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ver fully open a map where the wind can catc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P C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0480" y="22096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0120" y="2971800"/>
          <a:ext cx="106668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0120" y="2971800"/>
                    <a:ext cx="10666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W TO FOLD A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ap" descr=""/>
          <p:cNvPicPr/>
          <p:nvPr/>
        </p:nvPicPr>
        <p:blipFill>
          <a:blip r:embed="rId1"/>
          <a:srcRect l="0" t="0" r="935" b="0"/>
          <a:stretch/>
        </p:blipFill>
        <p:spPr>
          <a:xfrm>
            <a:off x="533520" y="1600200"/>
            <a:ext cx="8076960" cy="480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680" y="6545160"/>
            <a:ext cx="127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hree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8T15:47:54Z</dcterms:created>
  <dc:creator>DND</dc:creator>
  <dc:description/>
  <dc:language>en-US</dc:language>
  <cp:lastModifiedBy>DND</cp:lastModifiedBy>
  <cp:lastPrinted>1999-03-01T18:43:40Z</cp:lastPrinted>
  <dcterms:modified xsi:type="dcterms:W3CDTF">1999-03-01T18:44:44Z</dcterms:modified>
  <cp:revision>5</cp:revision>
  <dc:subject/>
  <dc:title>TYPES OF MAPS</dc:title>
</cp:coreProperties>
</file>