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917-1E02-44C9-93B3-B638466A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7DD-417E-45C6-834A-19083E70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3455-A71B-4BEA-A6D2-239CAE8E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78A5-14EB-4B74-A9C9-BF9157CC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D75C-8A64-4964-9B68-6E1AD5FC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93A-1CFF-4737-AE47-5481E92E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676B-96CB-4738-BF1D-E81E52E9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8FAE-85E7-4975-9EDE-246983FB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71EA-B157-442F-BD66-82CC13D0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E4C-79F0-4389-B599-66283397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988A-97D7-40A2-8CF3-100FDFC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F2EB-1942-4E80-8850-6634D20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30CB-7717-4156-87C7-569E0E49D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ENARI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685800" y="2057400"/>
            <a:ext cx="982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sna 185 FIUT requests touch and go landing from Toronto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says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sna 185 FIUT radios back asking for confirmation of Toronto towers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calls back confirming the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1376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ENARI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609480" y="1752480"/>
            <a:ext cx="9296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o Toronto tower telling them to activate your flight plan at 3:30 p.m. your plane is Cessna 185 FLG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does not receive well and asks you to retrans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retransmit the inform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activates the flight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376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CENARI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762120" y="1600200"/>
            <a:ext cx="9448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ssna 185 FMOA asks Toronto tower for clearance to land on runway 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asks you to hold three minutes while they che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ronto tower gives you clearance but says runway 12 then corrects and says runway 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ccept t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376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17:45:54Z</dcterms:created>
  <dc:creator>DND</dc:creator>
  <dc:description/>
  <dc:language>en-US</dc:language>
  <cp:lastModifiedBy>dnd</cp:lastModifiedBy>
  <cp:lastPrinted>1999-02-19T19:36:01Z</cp:lastPrinted>
  <dcterms:modified xsi:type="dcterms:W3CDTF">1999-03-30T17:17:48Z</dcterms:modified>
  <cp:revision>4</cp:revision>
  <dc:subject/>
  <dc:title>SCENARIO 1</dc:title>
</cp:coreProperties>
</file>