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5D4E-5A3D-4001-9601-C1C8DBA9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EBE-F8A4-4151-A64F-7FED1715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06C-3FA7-4506-99CE-1E1F8AF2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17DC-69B7-4472-B2E9-1EA4366C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FE07-331D-4DA2-89EC-C2FBA029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16B-1E41-4FCC-BE7F-5AE82330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06D-B8D9-4CE2-9747-4232B62B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CE7-186C-44D4-BAD9-4A5D019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D52-0E63-4960-AE3D-FDE5EC18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698-8A8A-4C06-A92F-02F13D4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3DBD-B8A1-498D-89DD-4C1FC558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40B3-189A-4121-8F7F-0B4CBFA3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81BF-F348-4188-8EBE-1596D0AFF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position of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dicate the distance along the X axi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dicate the distance along the Y axis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combination of X-Y is the location of A.  (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752480"/>
            <a:ext cx="0" cy="3810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181480"/>
            <a:ext cx="3352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181480" y="17524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333760" y="1752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3760" y="5334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33412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9528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50292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92432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3716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562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49528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81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2  3  4  5  6  7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209680"/>
            <a:ext cx="3049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8 7 6 5 4 3 2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62940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743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05360" y="20574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0572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1600200"/>
            <a:ext cx="838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5228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stings and Nor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2578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724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124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05740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672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8288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6019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74320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O R T H  I  N 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828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438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971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053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105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864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      73       74       75       76      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289548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from North to South. They are numbered from 00 to 99 and read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 from East to West. They are numbered from 00 to 99 and read from top to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er of Working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143000"/>
            <a:ext cx="327636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a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way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id Reference.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r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cond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. 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In the house and up the stai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01652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7720" y="990720"/>
            <a:ext cx="57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gt Smith find tan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81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895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862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867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533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172200"/>
            <a:ext cx="640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               27              28               29             30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809880"/>
            <a:ext cx="5106960" cy="1906560"/>
          </a:xfrm>
          <a:custGeom>
            <a:avLst/>
            <a:gdLst/>
            <a:ahLst/>
            <a:rect l="l" t="t" r="r" b="b"/>
            <a:pathLst>
              <a:path w="3217" h="1201">
                <a:moveTo>
                  <a:pt x="0" y="1200"/>
                </a:moveTo>
                <a:lnTo>
                  <a:pt x="192" y="1008"/>
                </a:lnTo>
                <a:lnTo>
                  <a:pt x="480" y="912"/>
                </a:lnTo>
                <a:lnTo>
                  <a:pt x="816" y="912"/>
                </a:lnTo>
                <a:lnTo>
                  <a:pt x="1104" y="912"/>
                </a:lnTo>
                <a:lnTo>
                  <a:pt x="1248" y="816"/>
                </a:lnTo>
                <a:lnTo>
                  <a:pt x="1488" y="576"/>
                </a:lnTo>
                <a:lnTo>
                  <a:pt x="1968" y="480"/>
                </a:lnTo>
                <a:lnTo>
                  <a:pt x="1992" y="480"/>
                </a:lnTo>
                <a:lnTo>
                  <a:pt x="2448" y="192"/>
                </a:lnTo>
                <a:lnTo>
                  <a:pt x="321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590920"/>
            <a:ext cx="1982520" cy="2287440"/>
          </a:xfrm>
          <a:custGeom>
            <a:avLst/>
            <a:gdLst/>
            <a:ahLst/>
            <a:rect l="l" t="t" r="r" b="b"/>
            <a:pathLst>
              <a:path w="1249" h="1441">
                <a:moveTo>
                  <a:pt x="1104" y="1440"/>
                </a:moveTo>
                <a:lnTo>
                  <a:pt x="1248" y="1056"/>
                </a:lnTo>
                <a:lnTo>
                  <a:pt x="1248" y="1026"/>
                </a:lnTo>
                <a:lnTo>
                  <a:pt x="1248" y="720"/>
                </a:lnTo>
                <a:lnTo>
                  <a:pt x="1104" y="528"/>
                </a:lnTo>
                <a:lnTo>
                  <a:pt x="816" y="480"/>
                </a:lnTo>
                <a:lnTo>
                  <a:pt x="240" y="38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617220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62440" y="3909960"/>
            <a:ext cx="39024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95360" y="2058840"/>
            <a:ext cx="1119240" cy="72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jetfight" descr=""/>
          <p:cNvPicPr/>
          <p:nvPr/>
        </p:nvPicPr>
        <p:blipFill>
          <a:blip r:embed="rId4"/>
          <a:stretch/>
        </p:blipFill>
        <p:spPr>
          <a:xfrm>
            <a:off x="6095880" y="51055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jetfight" descr=""/>
          <p:cNvPicPr/>
          <p:nvPr/>
        </p:nvPicPr>
        <p:blipFill>
          <a:blip r:embed="rId5"/>
          <a:stretch/>
        </p:blipFill>
        <p:spPr>
          <a:xfrm>
            <a:off x="3809880" y="2133720"/>
            <a:ext cx="99072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7:28:40Z</dcterms:created>
  <dc:creator>Valued Customer</dc:creator>
  <dc:description/>
  <dc:language>en-US</dc:language>
  <cp:lastModifiedBy>DND</cp:lastModifiedBy>
  <cp:lastPrinted>1999-01-12T14:43:16Z</cp:lastPrinted>
  <dcterms:modified xsi:type="dcterms:W3CDTF">1999-01-19T20:15:16Z</dcterms:modified>
  <cp:revision>15</cp:revision>
  <dc:subject/>
  <dc:title>No Slide Title</dc:title>
</cp:coreProperties>
</file>