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92E-3B7E-4215-8E71-583618F9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B0A-E51B-4649-9D05-B6968F04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012-ED9D-432D-921E-838C9665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3E9-1F08-42F2-96D8-CE37A9DB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443-E986-49E9-A95D-015C0F91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057B-F3F2-4E69-A1D9-1CA555E8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DD8D-9EFD-490E-B863-67BED3B5B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DD5-8D8D-4ED5-A768-52897D7E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7F15-350E-4EBA-8EA9-4D2835649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88F-9B83-4D87-AB26-C3BCAB8F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411-F546-4D20-BFB5-04344860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2EA-F717-4B7D-B73E-8E6D5204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8052-9169-45C9-8780-FD8D9D223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3440" y="838080"/>
            <a:ext cx="6467400" cy="5705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are and Maintenance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your compass with resp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extremes of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not to drop or bang your compass - use the safety cor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35360" y="2357280"/>
            <a:ext cx="1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0" y="2336760"/>
            <a:ext cx="4210200" cy="3530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e Parts of the Comp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ompass1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60104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21960" y="6613560"/>
            <a:ext cx="102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09T14:02:26Z</dcterms:created>
  <dc:creator>Valued Customer</dc:creator>
  <dc:description/>
  <dc:language>en-US</dc:language>
  <cp:lastModifiedBy>DND</cp:lastModifiedBy>
  <cp:lastPrinted>1999-01-12T15:47:50Z</cp:lastPrinted>
  <dcterms:modified xsi:type="dcterms:W3CDTF">1999-01-12T17:04:26Z</dcterms:modified>
  <cp:revision>18</cp:revision>
  <dc:subject/>
  <dc:title>The Parts of the Compass</dc:title>
</cp:coreProperties>
</file>