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9FB-430B-42A9-B3EA-85E3B118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F28-DD8D-4A9A-8D90-2DE38326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E425-73A0-49C6-B6C0-9AE942D8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473-2950-4DED-B263-1DAE8B8B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10F3-9AF4-4946-9E7F-5864516D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C60-F1F2-4C53-87A5-ECB47518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491-5CBA-4BF6-A9F0-CBC4249A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30A-FB5B-4CFD-93F0-8A6B72F1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710E-7975-49D1-8C30-798EFF5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B605-5D2B-4ADC-A99A-E5FD92EC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9FF5-7FB5-427C-981B-375847EC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96E-1CBC-4B85-90D8-1CE8C7FB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83DA-183D-4385-AF09-1DFC36F1A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114800" y="990720"/>
          <a:ext cx="7392960" cy="84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990720"/>
                    <a:ext cx="739296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029200" y="1905120"/>
          <a:ext cx="6859440" cy="360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905120"/>
                    <a:ext cx="6859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362320"/>
          <a:ext cx="5715000" cy="5181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362320"/>
                    <a:ext cx="5715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1371600" y="2438280"/>
          <a:ext cx="4448160" cy="5715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2438280"/>
                    <a:ext cx="44481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Jamie Richards</cp:lastModifiedBy>
  <cp:lastPrinted>1998-12-18T00:28:34Z</cp:lastPrinted>
  <dcterms:modified xsi:type="dcterms:W3CDTF">1999-04-23T18:40:29Z</dcterms:modified>
  <cp:revision>21</cp:revision>
  <dc:subject/>
  <dc:title>No Slide Title</dc:title>
</cp:coreProperties>
</file>