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70C2-CB27-4CE6-B2E0-D2C2D1EB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653-B6DF-43BE-AD63-76E3BF00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D818-5278-4317-9C23-FE257C2C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6D0-BAF1-4148-861B-B432D1CE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30E4-62B9-48A4-BEE7-3C7F774C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F878-E0DF-40E1-B893-16FC5B89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D2A-07B1-4A7C-938B-74F465C7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6E4-AD93-42A9-BEE4-F4AFF653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B83-6436-4F0E-A913-ED91A97D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16C-4ECD-4FED-8BEE-13DDA668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ACF-F512-4869-91C1-47466535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0A5-4666-42B6-8DA9-4CAB5D45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2FE8-CFE1-4012-92CB-27E4AA4C9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914400"/>
          <a:ext cx="7621560" cy="8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14400"/>
                    <a:ext cx="76215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76440" y="1905120"/>
          <a:ext cx="5876640" cy="4208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440" y="1905120"/>
                    <a:ext cx="58766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62120" y="1981080"/>
          <a:ext cx="5232240" cy="50292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981080"/>
                    <a:ext cx="523224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28:33Z</dcterms:modified>
  <cp:revision>10</cp:revision>
  <dc:subject/>
  <dc:title>No Slide Title</dc:title>
</cp:coreProperties>
</file>