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88F-C27E-45DC-AE37-5156682C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1A0-77A2-408F-8E68-F8AE1FF0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DFD-195C-42DF-BEFF-1F44FBA5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CDC-8455-43E7-AFB4-7607BEFA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D2D-801C-4460-A723-6EC5A1D6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DFED-2AF2-4175-9A25-A5B1D4AE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0BC-171A-431F-80CF-A452EE04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6BF-0B19-4011-A479-79BBF5E8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6F2-125D-4016-8F61-F742F53D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9196-D196-48C8-BF8F-0D8357CB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648-8962-4C52-99AE-E899855A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CAD-15DC-437A-89B4-5FD7CD8D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79F5-4FF6-4EE9-9AC4-44BE7F495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3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A - Crossword Puzzle - Order Giving Proces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533520"/>
            <a:ext cx="160020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ROS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 This type of order is     specific, concise and       defini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  To see if the cadets understand the order, it is good to have some form of  ______________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  After the order has been carried out, ___________ of the results occurs. It is the last step of the order giving proc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.  Always keep in mind the precise reason for the order This is known as the  _______ stage of the order giving proc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. This type of order may or may not compel a person to perform a task (3 wor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.  __________ orders should be used for minor details locally or in a local emergenc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OW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 “John, would you please sweep the floor?” is an example of what type of ord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  The fifth step in the order giving process is to ________. This is where you spot check while the order is being carried ou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. To transmit instructions to another location, you would use a  __________ ord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95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2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010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5410080"/>
            <a:ext cx="32767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.  The first step in the order-giving process is to ____________ the order to be given. It is the what of the ord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.  “Jane, this floor needs sweeping” is an example of what type of order?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1.  The The order must be stated in concrete terms to ensure understanding. This is known as the _________ in the order giving proc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5410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010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010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010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578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6104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71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838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0010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01000" y="1143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18288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9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2-23T12:01:50Z</dcterms:modified>
  <cp:revision>26</cp:revision>
  <dc:subject/>
  <dc:title>No Slide Title</dc:title>
</cp:coreProperties>
</file>