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836-F57B-4FD3-94A1-BDBC16637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2EF-299D-410D-9724-26272AFD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72F8-A81E-4D7D-9ADC-5EA46130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EB0-36C6-422C-8CA8-8825E53E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3CC-16EE-4466-B5BC-27B490B0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BBE-AA30-4FAF-B5BB-AE249674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97A1-75DD-4FC2-8D05-10AB503D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3739-8670-4833-801B-25738161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F81-782B-47CC-B518-4E66523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2E5-09E7-43DF-B103-AAEDE18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7B1-9D55-4D62-8825-6CCACDCF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7BA-A969-4363-8B28-B29A470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2A1-F3BB-4E3B-811A-46EE355E4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304920"/>
            <a:ext cx="609480" cy="80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28600"/>
            <a:ext cx="4724280" cy="84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START AT THE LEVEL OF TRAINEE UNDERSTANDING AND PROCEED AT THE RATE OF TRAINEE COMPREH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IVIDE MATERIAL INTO LOGICAL STAGES, TEACHING A LITTLE AT A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ASY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NOWN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IMPL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T THE BEGINNING OF A LESSON ASK QUESTIONS TO GAUGE THE KNOWLEDGE OF THE TRAN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257800" y="7086600"/>
          <a:ext cx="914400" cy="14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7086600"/>
                    <a:ext cx="914400" cy="14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4267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4800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410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57200"/>
            <a:ext cx="6248160" cy="79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PRINCIPLES OF INSTRUCTION CAN BE REMEMBERED BY USING THE ACRONY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.S.P.IC.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U - 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 -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 -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 -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C - CONFI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 - EMPH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-SPIC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UP YOUR CLASS BY USING THEM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048120"/>
            <a:ext cx="4572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304920"/>
            <a:ext cx="609480" cy="80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UNDERSTA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228600"/>
            <a:ext cx="4800600" cy="36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A FLOW OF QUESTIONS FROM THE INSTRUCTOR AND VICE-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EACH TO THE MAJ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ATCH OUT FOR FROWNING EYEBROWS OR EMPTY ST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2448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60984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SU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28600"/>
            <a:ext cx="472428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PROVIDE FOR THE TRAINNEE A SENSE OF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IVIDE THE LESSON INTO LOGICAL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749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THE CADETS INFORMED OF THEIR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IVE PRAISE TO CADETS WHO ARE DOING WELL AND CORRECT CADETS WHO ARE FAI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124080" y="6248520"/>
          <a:ext cx="2316240" cy="21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248520"/>
                    <a:ext cx="2316240" cy="21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28600"/>
            <a:ext cx="685800" cy="67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PARTICIP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228600"/>
            <a:ext cx="4724280" cy="56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HE LESSON MUST PROVIDE MENTAL AND/OR PHYSICAL PARTICIP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QUESTIONS TO MAKE THE TRAINEE 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NCOURAGE AS MANY CADETS AS POSSIBLE TO PARTICIP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ENCOURSGE SHY CADETS TO PARTICIPATE TO HELP THEM IMPROVE THEIR SELF-CONFID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514600" y="6781680"/>
          <a:ext cx="3649680" cy="15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6781680"/>
                    <a:ext cx="3649680" cy="15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228600"/>
            <a:ext cx="4800600" cy="84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CREATE AND MAINTAIN TRAINEE INTE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TIMULATE INTEREST BY LEAVINGTHE CLASSROOM SET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YOUR IMAGINATION TO TRY AND STIMULATE THE CADETS’ CUR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LAN SPEED AND/OR ABILITY COMPETITIONS OR GAMES THAT WILL HELP TO  MAINTAIN INTE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MORE THAN ONE INSTRU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8120" y="7467480"/>
          <a:ext cx="99036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7467480"/>
                    <a:ext cx="990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191120" y="7467480"/>
          <a:ext cx="990360" cy="115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7467480"/>
                    <a:ext cx="99036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828800"/>
            <a:ext cx="7621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228600"/>
            <a:ext cx="4800600" cy="37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KEEP INSTRUCTION AT THE LEVEL OF THE TRAI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VARIOUS TRAINING A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 ENTHUSIASTIC - IT IS CONTAGIOU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828800"/>
            <a:ext cx="76212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14600" y="4343400"/>
            <a:ext cx="36576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28600"/>
            <a:ext cx="4800600" cy="76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PROVIDE FOR CONFIRMATION OF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SK THE CADETS QUESTIONS OR HAVE THEM PERFORM A PRACTICAL EXERC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FIRM THE LESSON BY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EVIEW AT THE START OF EACH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NAYLIZE THE CADETS’ QUESTIONS TO SEE WHICH POINTS NEED TO BE REVIE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09480"/>
            <a:ext cx="7621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CONFI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724280" y="7010280"/>
          <a:ext cx="14479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7010280"/>
                    <a:ext cx="14479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28600"/>
            <a:ext cx="48006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LESSONS MUST EMPHASIZE AND SUPPORT MAIN TEACHING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LEARLY DEFINE WHY YOU ARE TEACHING THE LES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AKE SURE YOU ALLOCATE ENOUGH TIME TO THE TEACHING POIN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EVOTE SUFFICIENT TIME TO PRACTICAL EXERCI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TEACHING AIDS THAT APPEAL TO THE FIVE SEN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BE RE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76520"/>
            <a:ext cx="7621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876312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410080" y="7010280"/>
          <a:ext cx="106704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7010280"/>
                    <a:ext cx="106704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1600200"/>
            <a:ext cx="457200" cy="54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28600"/>
            <a:ext cx="480060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USE NOTES,WRITTEN HANDOUTS, OR ISSUE ASSIG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ONDUCT REVIEW OR PROGRESS TESTS DURING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EACH MATERIAL STEP-BY-STEP AND REVIEW EACH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66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80" y="6480"/>
            <a:ext cx="1968480" cy="85280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676520"/>
            <a:ext cx="76212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3680" y="876312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8763120"/>
            <a:ext cx="838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6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19520" y="4800600"/>
            <a:ext cx="32176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2T13:23:59Z</cp:lastPrinted>
  <dcterms:modified xsi:type="dcterms:W3CDTF">1999-03-12T13:24:13Z</dcterms:modified>
  <cp:revision>16</cp:revision>
  <dc:subject/>
  <dc:title>No Slide Title</dc:title>
</cp:coreProperties>
</file>