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DBA-8584-457E-9974-47C774D1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D9B-4144-4FAE-9F3A-2808FB5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D97-9A96-405D-A8A4-49B03DD6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49B-148F-4D68-88E2-7DF57804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2F2-A3F0-4465-BDD2-662134B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790-4664-49DC-A792-C315C8F5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263-D983-42FC-BB25-0E708D9C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B5D-42C7-438B-9591-EAC23743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717-EE8B-455C-9812-984BBED1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A1BB-B553-4694-BAB5-A126CEBE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974-A21B-4B4D-A7A9-899BDAC6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24F-647D-4347-BD79-04199EBD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55B2-8C91-4CC2-B1A4-BF8339668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e-flight 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5638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on of a ro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sis of wea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of map/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paration of flight lo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of NOT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ling of a flight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stu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fplan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7162920" cy="514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6200000">
            <a:off x="-1926000" y="2891880"/>
            <a:ext cx="49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Flight Plan For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837640" y="0"/>
            <a:ext cx="1440" cy="678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8326080" y="609840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8628120" y="22680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ligh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pect the flight pla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spect the airspace syste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 aware of checkpoi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ke route corrections    if necessa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026120" y="411480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12:40Z</dcterms:created>
  <dc:creator>RC Air Cadets</dc:creator>
  <dc:description/>
  <dc:language>en-US</dc:language>
  <cp:lastModifiedBy>dnd</cp:lastModifiedBy>
  <cp:lastPrinted>1999-03-02T19:32:52Z</cp:lastPrinted>
  <dcterms:modified xsi:type="dcterms:W3CDTF">1999-03-30T14:15:30Z</dcterms:modified>
  <cp:revision>13</cp:revision>
  <dc:subject/>
  <dc:title>Fuel Systems</dc:title>
</cp:coreProperties>
</file>