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CF6E-2B30-49E9-ABD1-5D7FAA1C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75B-0540-46F8-83BF-9947862B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BC1-952F-4E6B-8F21-A8C551347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339-FEAB-4CFD-B26D-40636367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E3F-3596-461F-BC4F-84900054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DA3-96F2-4DDC-B1A1-23AD40F6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5F9A-EEB3-412E-9590-2525D128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407-7AD6-4D65-9672-B11743B6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915B-627B-4CC0-A593-473DF3E2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932-DBD5-4945-8C70-A65F33F2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B5A1-FEFF-49AC-801B-4BBEEDE0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32FA-BAA1-410A-A8AF-1431CE26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2236-BF4C-4F9D-BF8A-8D4A7463F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114800" y="914400"/>
          <a:ext cx="7621560" cy="87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914400"/>
                    <a:ext cx="762156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2590920" y="1905120"/>
          <a:ext cx="5181480" cy="3801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905120"/>
                    <a:ext cx="5181480" cy="38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143000" y="1295280"/>
          <a:ext cx="5048280" cy="7147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1295280"/>
                    <a:ext cx="5048280" cy="714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5T23:09:42Z</dcterms:modified>
  <cp:revision>22</cp:revision>
  <dc:subject/>
  <dc:title>No Slide Title</dc:title>
</cp:coreProperties>
</file>