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D15A-8894-465E-B02F-385460A2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C6AE-90E5-48D2-A723-ABD03BCB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8F75-D177-403E-9CB1-9199E4E2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DB05-E407-44F1-8D49-BD54EA22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BCF-26E9-4598-881B-BB981E71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2175-5D69-4222-B10D-E5582CBD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04EC-F52C-406F-9884-C0AE399A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3763-1DBB-46E5-A03F-1672B3AD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DFC1-E26A-4C1B-831C-CE177542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C08C-C785-4C78-B54D-93441C42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B668-9A41-45A1-B390-F10BAB3B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9BB5-13DE-4643-9DD4-5FE8661D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93F6-3DCD-4104-AC3B-F0399EF61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09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HREE R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523880"/>
            <a:ext cx="4496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048120"/>
            <a:ext cx="4496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4572000"/>
            <a:ext cx="4496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838080" y="15238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837720" y="1523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838080" y="15238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91404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152388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52352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82844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133720" y="152388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2320" y="152388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66652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97144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276720" y="152388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58092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8584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11444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34304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571640" y="152388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800600" y="1752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105160" y="20574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714640" y="1905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90960" y="3429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79096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10280" y="17524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 R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32767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e R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86600" y="48006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 R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6094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NEL POSITION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4191120"/>
            <a:ext cx="45720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5334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4191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5334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 Serge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1905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ght Comma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symbols5" descr=""/>
          <p:cNvPicPr/>
          <p:nvPr/>
        </p:nvPicPr>
        <p:blipFill>
          <a:blip r:embed="rId1"/>
          <a:srcRect l="10393" t="0" r="72858" b="12051"/>
          <a:stretch/>
        </p:blipFill>
        <p:spPr>
          <a:xfrm>
            <a:off x="1371600" y="2743200"/>
            <a:ext cx="501480" cy="990720"/>
          </a:xfrm>
          <a:prstGeom prst="rect">
            <a:avLst/>
          </a:prstGeom>
          <a:ln w="0">
            <a:noFill/>
          </a:ln>
        </p:spPr>
      </p:pic>
      <p:pic>
        <p:nvPicPr>
          <p:cNvPr id="101" name="symbols4" descr=""/>
          <p:cNvPicPr/>
          <p:nvPr/>
        </p:nvPicPr>
        <p:blipFill>
          <a:blip r:embed="rId2"/>
          <a:srcRect l="19145" t="7718" r="64287" b="12051"/>
          <a:stretch/>
        </p:blipFill>
        <p:spPr>
          <a:xfrm>
            <a:off x="1371600" y="1447920"/>
            <a:ext cx="54144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335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IN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24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7524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7521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8288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9807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1333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9047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9047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6668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6665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7432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8951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0477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8191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8191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5049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5049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5053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581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7339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8858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6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6572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4193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419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4197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4956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6483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8002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5720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5716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3337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3337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3341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4100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5627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714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4864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4860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171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172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248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400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324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324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48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91120" y="213372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70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1981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048120" y="1600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51814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65760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5053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12372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symbols5" descr=""/>
          <p:cNvPicPr/>
          <p:nvPr/>
        </p:nvPicPr>
        <p:blipFill>
          <a:blip r:embed="rId1"/>
          <a:srcRect l="10393" t="0" r="72858" b="12051"/>
          <a:stretch/>
        </p:blipFill>
        <p:spPr>
          <a:xfrm>
            <a:off x="3962520" y="5334120"/>
            <a:ext cx="463320" cy="914400"/>
          </a:xfrm>
          <a:prstGeom prst="rect">
            <a:avLst/>
          </a:prstGeom>
          <a:ln w="0">
            <a:noFill/>
          </a:ln>
        </p:spPr>
      </p:pic>
      <p:pic>
        <p:nvPicPr>
          <p:cNvPr id="232" name="symbols4" descr=""/>
          <p:cNvPicPr/>
          <p:nvPr/>
        </p:nvPicPr>
        <p:blipFill>
          <a:blip r:embed="rId2"/>
          <a:srcRect l="19145" t="7718" r="64287" b="12051"/>
          <a:stretch/>
        </p:blipFill>
        <p:spPr>
          <a:xfrm>
            <a:off x="3962520" y="1219320"/>
            <a:ext cx="45216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457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IN COLUMN OF TH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288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812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5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43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743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00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485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288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18284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18288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9051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0570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22096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9810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9807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743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742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743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819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971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124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2895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895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812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5812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5809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5809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36576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8095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9621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7335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7335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4956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4953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44953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5720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7239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48765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6479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6479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4100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4097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4097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54864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6383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7909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5623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5623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248520" y="2666880"/>
            <a:ext cx="5331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2481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2481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62485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3244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4771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6290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4008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4004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43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812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038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2485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05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100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67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43400" y="129528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43400" y="129528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00400" y="1981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124080" y="1600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76720" y="51814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73392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392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58128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581280" y="2209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3200040" y="5791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3432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3432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343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1008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8640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symbols5" descr=""/>
          <p:cNvPicPr/>
          <p:nvPr/>
        </p:nvPicPr>
        <p:blipFill>
          <a:blip r:embed="rId1"/>
          <a:srcRect l="13571" t="11776" r="0" b="67750"/>
          <a:stretch/>
        </p:blipFill>
        <p:spPr>
          <a:xfrm flipH="1">
            <a:off x="4114800" y="5562720"/>
            <a:ext cx="914400" cy="480960"/>
          </a:xfrm>
          <a:prstGeom prst="rect">
            <a:avLst/>
          </a:prstGeom>
          <a:ln w="0">
            <a:noFill/>
          </a:ln>
        </p:spPr>
      </p:pic>
      <p:pic>
        <p:nvPicPr>
          <p:cNvPr id="367" name="symbols4" descr=""/>
          <p:cNvPicPr/>
          <p:nvPr/>
        </p:nvPicPr>
        <p:blipFill>
          <a:blip r:embed="rId2"/>
          <a:srcRect l="1429" t="37860" r="66572" b="15085"/>
          <a:stretch/>
        </p:blipFill>
        <p:spPr>
          <a:xfrm>
            <a:off x="4114800" y="1332000"/>
            <a:ext cx="9907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9907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IN COLUMN OF R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743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8288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812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00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485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288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43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43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812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812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956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956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100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100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485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485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8288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18284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8288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19051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0570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2096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43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19810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9807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43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743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742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743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2819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2971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124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895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2895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812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5812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35809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809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6576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8095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39621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37335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7335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4956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44956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4953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4953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5720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47239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8765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46479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6479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4100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54097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54097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4864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56383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909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55623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55623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48520" y="2666880"/>
            <a:ext cx="53316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2481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62481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62485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63244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4771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66290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4008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4004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62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00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812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38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956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52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2485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100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867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343400" y="129528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343400" y="129528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934320" y="2895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93432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93432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2880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38080" y="40384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914400" y="50292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0020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838080" y="51814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8168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934320" y="50292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620120" y="5181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67813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924680" y="3886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symbols5" descr=""/>
          <p:cNvPicPr/>
          <p:nvPr/>
        </p:nvPicPr>
        <p:blipFill>
          <a:blip r:embed="rId1"/>
          <a:srcRect l="13571" t="11776" r="0" b="67750"/>
          <a:stretch/>
        </p:blipFill>
        <p:spPr>
          <a:xfrm flipH="1">
            <a:off x="533160" y="3429000"/>
            <a:ext cx="990360" cy="520560"/>
          </a:xfrm>
          <a:prstGeom prst="rect">
            <a:avLst/>
          </a:prstGeom>
          <a:ln w="0">
            <a:noFill/>
          </a:ln>
        </p:spPr>
      </p:pic>
      <p:pic>
        <p:nvPicPr>
          <p:cNvPr id="502" name="symbols4" descr=""/>
          <p:cNvPicPr/>
          <p:nvPr/>
        </p:nvPicPr>
        <p:blipFill>
          <a:blip r:embed="rId2"/>
          <a:srcRect l="1429" t="37860" r="66572" b="15085"/>
          <a:stretch/>
        </p:blipFill>
        <p:spPr>
          <a:xfrm>
            <a:off x="7391520" y="3429000"/>
            <a:ext cx="9903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924680" y="63244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6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971800" y="1143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IN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7524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524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524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6668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053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4197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341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7524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17521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18288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19807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1333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19047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9047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26668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26665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27432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8951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30477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8191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8191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35049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35049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5053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3581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37339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38858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36576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36572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4193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4419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4197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44956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46483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48002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45720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45716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53337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53337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53341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4100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5627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5714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54864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4860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6171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6172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6248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6400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324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6324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743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248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28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10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2670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2670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696080" y="5181480"/>
            <a:ext cx="990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0"/>
            <a:ext cx="9144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raw the correct symbols for Flight Commander and Flight Serg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lace the symbols in the correct positions, and indicate the number of paces they are located from the nearest ran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dicate the direction the flight is facing with an arrow (Inside the bo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96080" y="48006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924680" y="63244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6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752480" y="1295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IN COLUMN OF TH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7524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524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7524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668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5053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41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7524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17521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18288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19807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21333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19047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19047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26668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26665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27432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28951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30477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28191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28191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35049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35049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35053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581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7339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38858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36576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36572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44193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4419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44197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44956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46483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48002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45720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45716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53337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53337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53341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54100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55627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5714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54864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54860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171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6172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6248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6400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6324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6324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43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248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828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10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2670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670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696080" y="5181480"/>
            <a:ext cx="990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0"/>
            <a:ext cx="9144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raw the correct symbols for Flight Commander and Flight Serg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lace the symbols in the correct positions, and indicate the number of paces they are located from the nearest ra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dicate the direction the flight is facing with an arrow (Inside the bo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696080" y="48006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1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924680" y="63244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05120" y="1295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IN COLUMN OF RO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7524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7524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7524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66688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5053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197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34120" y="3505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172200" y="3505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17524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17521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17521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18288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>
            <a:off x="19807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21333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19047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19047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666880" y="266688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266688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266652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2666520" y="2666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274320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289512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304776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2819160" y="2819520"/>
            <a:ext cx="759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281916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5053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35049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35049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35053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5812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37339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38858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6576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36572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4197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44193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44193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44197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44956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46483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48002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45720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45716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334120" y="266688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5333760" y="2666880"/>
            <a:ext cx="759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533376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533412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541008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5562720" y="28195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5714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548640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548604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172200" y="2666880"/>
            <a:ext cx="5335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6172200" y="2666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6171840" y="26668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6172200" y="26668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248520" y="26668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64004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65530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6324480" y="28195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6324120" y="281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05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981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057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133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09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86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66688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743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819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895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048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24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5053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581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657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733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8098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8862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62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4197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95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648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7242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8006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8769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172200" y="434340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2485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3244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553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629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828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334120" y="434340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100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4864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63868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7150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7913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2670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267080" y="1295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696080" y="5181480"/>
            <a:ext cx="990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0"/>
            <a:ext cx="9144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raw the correct symbols for Flight Commander and Flight Serg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lace the symbols in the correct positions, and indicate the number of paces they are located from the nearest ra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Indicate the direction the flight is facing with an arrow (Inside the bo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696080" y="48006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1T15:23:34Z</dcterms:created>
  <dc:creator>DND</dc:creator>
  <dc:description/>
  <dc:language>en-US</dc:language>
  <cp:lastModifiedBy>DND</cp:lastModifiedBy>
  <cp:lastPrinted>1999-01-11T17:54:44Z</cp:lastPrinted>
  <dcterms:modified xsi:type="dcterms:W3CDTF">1999-03-25T17:58:52Z</dcterms:modified>
  <cp:revision>17</cp:revision>
  <dc:subject/>
  <dc:title>No Slide Title</dc:title>
</cp:coreProperties>
</file>