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B571-C539-443D-9C7E-3500B3CC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4D3B-7710-4121-B186-627DE581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1466-E235-4A56-8E78-581D28D3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EB63-E001-4F70-9223-8A7C0B30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8B49-80F8-4E97-BD30-512CA378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382E-064E-4EE5-94E6-9FE61D90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3787-3E36-4CFC-B6A8-EABD4526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4023-5385-4127-B4D4-F0628A41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E934-DEE1-4393-92E8-BDE7048E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867C-FCF1-4405-B8C3-74CBBDA6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8BA8-0701-40CE-AE4A-A0FAF63B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8821-CCF3-4434-A503-788DFA3C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69DF-007B-4A94-B7AC-4AF74E404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01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5397480" cy="70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2T15:16:04Z</dcterms:created>
  <dc:creator>DND</dc:creator>
  <dc:description/>
  <dc:language>en-US</dc:language>
  <cp:lastModifiedBy>Jamie Richards</cp:lastModifiedBy>
  <cp:lastPrinted>1999-01-12T15:16:38Z</cp:lastPrinted>
  <dcterms:modified xsi:type="dcterms:W3CDTF">1999-04-25T23:11:04Z</dcterms:modified>
  <cp:revision>1</cp:revision>
  <dc:subject/>
  <dc:title>No Slide Title</dc:title>
</cp:coreProperties>
</file>