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337-AEDE-4C89-B474-91DD97ED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056-E6F1-4A12-9AF4-8D0EF927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FD7-2864-4E74-B290-79E0B2BF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1E4-3F01-4479-8078-FB91C642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CC6-D4BC-4A0E-91DE-773AE67E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33D-6EFD-4C54-8A80-321B1FC2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5C8-8957-48CF-96B3-9F149564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C0A7-3ACA-43DD-B1CF-3DC9810F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52C-E2FA-4438-9162-207D9194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3CB5-3594-43F3-AF82-BAAC9F68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7CC-C9A6-4DE3-9ECE-FC849DF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DA1D-0D62-4A0E-A742-62FD51E7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B0F0-955B-4971-AA7F-08ADC85BE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ALL STATIONS-ALL STATIONS-ALL STATIONS-THIS IS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AT ONE SEVEN FOUR ZERO EASTERN-FOXTROT OSCAR NOVEMBER ROMEO DISTRESS TRAFFIC ENDED-ICE CLEARED-RETURNING GRAND FALLS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2:16Z</dcterms:modified>
  <cp:revision>4</cp:revision>
  <dc:subject/>
  <dc:title>DISTRESS EXAMPLE </dc:title>
</cp:coreProperties>
</file>