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337-B0E9-459C-8F0E-C4D5D29C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8F7A-A1C4-4F1B-9232-D04BED90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890C-ECB5-4CC4-96B7-6B59C9A8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B0D-680B-432C-89CA-0CD23121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1AC-D357-422C-95C0-C0FE2879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30A-1C77-4100-AFFC-FE41D206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53E-D923-4691-BA02-6BFD81E1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DC6-EA7E-4948-9717-7E299267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EB1C-BCA5-446C-B600-768CBFA79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401-063C-4344-9A91-32717B81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0C7-2514-4B01-8F7A-5D56D356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2C9-F55C-4749-ABBA-FEB461F2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43D6-7EE8-4E8E-955E-ECDCB0B5A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EXAMPLE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RESS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DAY-MAYDAY-MAYDAY FOXTROT OSCAR NOVEMBER ROMEO-FOXTROT OSCAR NOVEMBER ROMEO-FOXTROT OSCAR NOVEMBER ROMEO-FIVE ZERO MILES SOUTH OF GRAND FALLS AT ONE SEVEN TWO FIVE EASTERN-FOUR THOUSAND-CESSNA 185-ICING-WILL ATTEMPT CRASH LANDING ON ICE- FOXTROT OSCAR NOVEMBER ROMEO-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53280" y="6545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EXAMPLE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ON 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-FOXTROT OSCAR NOVEMBER ROMEO-FOXTROT OSCAR NOVEMBER ROMEO-THIS IS GANDER RADIO-GANDER RADIO-GANDER RADIO-ROGER MAYDAY GANDER RADIO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58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EXAMPLE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CRAFT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DAY ALL STATIONS-ALL STATIONS-ALL STATIONS-THIS IS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-FOXTROT OSCAR NOVEMBER ROMEO-FOXTROT OSCAR NOVEMBER ROMEO-AT ONE SEVEN FOUR ZERO EASTERN-FOXTROT OSCAR NOVEMBER ROMEO DISTRESS TRAFFIC ENDED-ICE CLEARED-RETURNING GRAND FALLS-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41640" y="6545160"/>
            <a:ext cx="585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8:04:26Z</dcterms:created>
  <dc:creator>DND</dc:creator>
  <dc:description/>
  <dc:language>en-US</dc:language>
  <cp:lastModifiedBy>dnd</cp:lastModifiedBy>
  <cp:lastPrinted>1999-01-20T18:19:40Z</cp:lastPrinted>
  <dcterms:modified xsi:type="dcterms:W3CDTF">1999-03-30T17:21:50Z</dcterms:modified>
  <cp:revision>3</cp:revision>
  <dc:subject/>
  <dc:title>DISTRESS EXAMPLE </dc:title>
</cp:coreProperties>
</file>