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7ADF-BCF4-4556-93E4-28FC4A0D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D69-31C7-48C9-AD86-A2A01676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D448-BBBF-429A-8C38-DC1F085E0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E47B-1750-47D1-832D-0133F479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677-AEBE-4B2E-A0AD-83F63665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F4A-A429-45F8-8278-668D6F7F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3403-2EFE-4CE3-AC59-6FFDFBB2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CAD-C566-4017-A1F6-404883B5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5AA-EBD2-4856-AB9B-A86E6BA3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099-18B7-4135-B3CE-BD4023E0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E13-5FCA-47A5-AB7E-462B2D72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77B5-CAE0-46F6-A39C-6B577284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45423-9A1F-4647-82F5-C76D3D0EA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LIN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OUT THE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ede the command with the cautionary “CALLING OUT THE TIM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-&gt; Right 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ING OUT THE TIME, RIGHT TUR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quad wi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first movement: “O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se: “TWO, THRE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movement: “ON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6934320" y="3276720"/>
          <a:ext cx="159048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276720"/>
                    <a:ext cx="159048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CHANICAL AIDS TO DR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RON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E STI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3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17:30:50Z</dcterms:created>
  <dc:creator>DND</dc:creator>
  <dc:description/>
  <dc:language>en-US</dc:language>
  <cp:lastModifiedBy>DND</cp:lastModifiedBy>
  <cp:lastPrinted>1999-02-09T17:25:56Z</cp:lastPrinted>
  <dcterms:modified xsi:type="dcterms:W3CDTF">1999-03-25T18:01:32Z</dcterms:modified>
  <cp:revision>4</cp:revision>
  <dc:subject/>
  <dc:title>CALLING OUT THE TIME</dc:title>
</cp:coreProperties>
</file>