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474B-63BB-418B-8712-BC8F6CD3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E99-54D0-4E85-937C-4A7FCE76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1E7-3232-46D6-9FFC-62914396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F38-5FCC-4F59-AFC8-37A46EBA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2A7-C428-42DD-AD43-2BFE0F48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5D0D-59BB-4DB9-80D7-1E7229E3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A9B-B4E9-46E2-B9DA-AA46DB48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AC9F-9389-46C4-BE1C-D5F34151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D99-C89A-49C2-9BEC-F9FAC67B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480E-D377-4E7C-8FEC-0D5FDB97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7717-2388-4C02-89B8-1ECC2914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8C7-D03F-40DA-95F8-CFE5F155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6FD8-29D9-429C-896A-F601C632A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ION OF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33520" y="2057400"/>
            <a:ext cx="0" cy="228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8610480" y="2057400"/>
            <a:ext cx="0" cy="22860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92720" y="297180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P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80160" y="297180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WN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504960" y="1828800"/>
            <a:ext cx="243828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1160" y="2057400"/>
            <a:ext cx="18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HORIZO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4440" y="155088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5080" y="441972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T TRAINING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61880" y="441972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ADRON COMMA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53640" y="15508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ERS CHAIN OF COMM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3880" y="1523880"/>
          <a:ext cx="592164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592164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IN OF COMMAND N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174760" y="1384200"/>
          <a:ext cx="4943520" cy="43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760" y="1384200"/>
                    <a:ext cx="494352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9T19:58:43Z</cp:lastPrinted>
  <dcterms:modified xsi:type="dcterms:W3CDTF">1999-02-19T21:11:11Z</dcterms:modified>
  <cp:revision>29</cp:revision>
  <dc:subject/>
  <dc:title>No Slide Title</dc:title>
</cp:coreProperties>
</file>