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CF2D-6959-4DC6-8892-94E885CA1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CDB-CCFB-4062-BB4C-D3D216AB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F7D5-12EB-4176-8568-A8A9143B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E4DF-DE8B-487B-815B-200EAF64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C0E-89F4-44AC-950A-101DCF4D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17F9-18E9-4F1B-B1D8-76C24FB8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4224-7145-45A7-85F3-7516051F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A18-243E-403E-AC88-4A4D224D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D21-4EE2-4A25-99F0-F3AD860E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FD4-34D9-4780-BBB2-553AA8B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ED44-950D-492B-8787-0EAE241D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CADE-1306-41A6-B746-2FFCFD68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9805-6492-4157-828B-6897B2768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219320"/>
            <a:ext cx="87631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– Al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– In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– Queb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– Yank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– Brav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 – Juli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– Rome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 - Zu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– Charl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– Kil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– Si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– Del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– L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– Tan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– Ech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– M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– 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– Foxtr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– Nov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 – V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 – Gol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– Osc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– Whis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Hot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 – Pap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– X-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ONETIC ALPH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1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dio" descr=""/>
          <p:cNvPicPr/>
          <p:nvPr/>
        </p:nvPicPr>
        <p:blipFill>
          <a:blip r:embed="rId1"/>
          <a:srcRect l="0" t="0" r="62520" b="63307"/>
          <a:stretch/>
        </p:blipFill>
        <p:spPr>
          <a:xfrm>
            <a:off x="6553080" y="3048120"/>
            <a:ext cx="228312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2819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- ZEE-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 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-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- FOW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1219320"/>
            <a:ext cx="35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- F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-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- 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- 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- NIN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omsqn" descr=""/>
          <p:cNvPicPr/>
          <p:nvPr/>
        </p:nvPicPr>
        <p:blipFill>
          <a:blip r:embed="rId1"/>
          <a:srcRect l="0" t="0" r="76968" b="53138"/>
          <a:stretch/>
        </p:blipFill>
        <p:spPr>
          <a:xfrm>
            <a:off x="5238720" y="1676520"/>
            <a:ext cx="3905280" cy="341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1440" y="647712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4771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6477120"/>
            <a:ext cx="25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1/OHP #2 - Review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5:32:14Z</dcterms:created>
  <dc:creator>DND</dc:creator>
  <dc:description/>
  <dc:language>en-US</dc:language>
  <cp:lastModifiedBy>dnd</cp:lastModifiedBy>
  <cp:lastPrinted>1999-01-14T15:52:08Z</cp:lastPrinted>
  <dcterms:modified xsi:type="dcterms:W3CDTF">1999-03-30T15:43:57Z</dcterms:modified>
  <cp:revision>11</cp:revision>
  <dc:subject/>
  <dc:title>PHONETIC ALPHABET</dc:title>
</cp:coreProperties>
</file>