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C9B-6B4E-4D36-AFE3-72CAA94D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09DF-FD6D-4009-8851-5BF5A959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D761-E2DA-45D0-8A94-9428E8E5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949-0CCD-4A42-A819-A6162AA5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C948-E30D-4326-82E3-F5A2D099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B24-630B-4127-8144-A1495A34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D04-9D00-412E-AE56-41B8C4D1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C51-74B4-4AF5-BC86-ABEE834F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24A-FA51-40D8-B0E1-49C3EA30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95E1-5543-4A01-B520-AE617893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D3CD-0387-4C9E-A2BE-19FFFA0F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9469-97B3-4D7B-8263-64259DC8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B62A-1BC0-4076-8ECB-A91E8C26E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ng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is determined by a grid system of intersecting circles on the earth’s surfa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ose running north and south a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ridians of Longitu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ose running east and west a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allels of Longitu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lculating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two lines from which coordinates are calculat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quato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 great circle on the surface of the earth lying equidistant from the po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ime Meridi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which is the meridian passing through Greenwich, Englan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ongitu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360 meridians of longitude which all converge a the true north and south p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e is measured from 0-180 degrees east and west of the Prime Merid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me Meridian is numbered 0 deg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180th meridian is call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 Date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e is measured in degrees, minutes and seconds.   60’=1º &amp;  60’’=1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ongitu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longitude" descr=""/>
          <p:cNvPicPr/>
          <p:nvPr/>
        </p:nvPicPr>
        <p:blipFill>
          <a:blip r:embed="rId1"/>
          <a:srcRect l="0" t="5664" r="0" b="0"/>
          <a:stretch/>
        </p:blipFill>
        <p:spPr>
          <a:xfrm>
            <a:off x="1355760" y="1398600"/>
            <a:ext cx="664524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atitu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180 parallels of lati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itude is measured from 0 to 90 degrees north or south of the equ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or is numbered 0 degr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itude is also expressed in degrees, minutes and sec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 of latitude are parallel and are thus referred to as parallels.  Parallels of latitude do not conve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atitu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atitude" descr=""/>
          <p:cNvPicPr/>
          <p:nvPr/>
        </p:nvPicPr>
        <p:blipFill>
          <a:blip r:embed="rId1"/>
          <a:stretch/>
        </p:blipFill>
        <p:spPr>
          <a:xfrm>
            <a:off x="1447920" y="1247760"/>
            <a:ext cx="64008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sition by Coordin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sition of anywhere on earth can be expressed as the intersection of a parallel of latitude and a meridian of longitud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this is done, the latitude is written first, followed by the longitude coordinat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: Winnipeg is 49º 54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97º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dnd</cp:lastModifiedBy>
  <dcterms:modified xsi:type="dcterms:W3CDTF">1999-03-30T14:19:38Z</dcterms:modified>
  <cp:revision>15</cp:revision>
  <dc:subject/>
  <dc:title>Navigating Position</dc:title>
</cp:coreProperties>
</file>