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897-1732-4466-A22C-E3A3400D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DFB1-4CB2-4683-9978-DB84EBE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8EEE-85CB-497A-A9FD-F8FEB345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DC2-AA10-412D-B086-0A1A6CDB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E18-1D67-4320-98F2-5165FC1F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763-6925-42E9-B1AB-93995933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A8A-9CE1-4D95-96EC-D49D28F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CF5-1B0A-4808-AE2A-19706A0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835A-45E1-496D-9D97-A851A564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7FD-44BE-41B1-A0A0-6C48BFC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522-B35A-4B88-9799-C27F7A7A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01F-24C2-4081-AC5F-A468606D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2348-B54E-4767-A0CD-64B2ADF7B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timulate mental activ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rouse and maintain interes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uide thoughts and provoke thinking;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valuat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43000" y="30492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PURPOSE OF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9716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43000" y="38088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YPES OF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EAD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VER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VERSE AND R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estions should be brief and clea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are too long or have more than one ans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 wording that the cadets will underst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can be answered with a yes or no or where the answer is obviou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30492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GOOD 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 questions that make the cadets thin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void questions that antagonize, create feelings of inferiority or cause other unfavorable reac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o not over- ask a question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courage group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304920"/>
            <a:ext cx="79250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GOOD QUES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380880"/>
            <a:ext cx="68580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OW TO ASK QUESTION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K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DICATE WHICH CADET SHOULD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ISTEN TO THE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WAYS CONFIRM THE CORRECT ANS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3-12T13:44:57Z</cp:lastPrinted>
  <dcterms:modified xsi:type="dcterms:W3CDTF">1999-03-12T13:44:57Z</dcterms:modified>
  <cp:revision>19</cp:revision>
  <dc:subject/>
  <dc:title>No Slide Title</dc:title>
</cp:coreProperties>
</file>