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F97-AAB8-4E5C-8373-2D562D90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DBC-EF92-40AD-9C9D-384764DC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420-F50F-4AEF-B35B-184D05C08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A2C-0C37-4697-A24B-41B64823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499-0288-447E-AD27-38AAFF1E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3911-B845-4C4F-A88F-B5018DF09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70E-5C8B-4B67-9FD8-965073A8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86C-2019-419D-8422-8C33170D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47A9-2565-4607-96C6-398A561E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E0A-17A7-4A6D-A40D-FDF3A9B1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0D56-F304-4391-BFA5-5432E696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9682-EDBA-42A2-85AA-160C5028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6073-2D65-4BEA-AA51-ADCE20663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 Points of the Compas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3352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ints of the compass divide up a circle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circle has 36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6400 m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ints read clock-wise from North (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ardinal Point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th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/4 circ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uth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1/2 circ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st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7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3/4 circ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43480" y="1371600"/>
            <a:ext cx="4243320" cy="428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Points of the Compas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rdinal points are further divided into 12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mediate 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tters representing North, South, East and West are comb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: SE for South East: betwe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th and E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E for South South Ea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South and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st the card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first then the intermedi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37960" y="4952880"/>
          <a:ext cx="37152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4952880"/>
                    <a:ext cx="3715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267080" y="1219320"/>
            <a:ext cx="4710240" cy="472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at is Magnetic Declin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293840"/>
            <a:ext cx="3810240" cy="50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rue North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North P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North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rge magnetic field in the Canadain N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rue and Magnetic North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n the same pla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The difference between them is an error that can be corr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correction is called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gnetic Declin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60720" y="1827360"/>
            <a:ext cx="4800600" cy="4038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800600" y="1600200"/>
            <a:ext cx="121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ue No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00600" y="2438280"/>
            <a:ext cx="10666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gnetic No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77320" y="3733920"/>
            <a:ext cx="1065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t. John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1600200"/>
            <a:ext cx="16002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angle created by the lines is an error, or the Magnetic Declination for St. John’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 Points of the Compass - Re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343400" y="966960"/>
          <a:ext cx="68580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966960"/>
                    <a:ext cx="6858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014640" y="990720"/>
          <a:ext cx="63972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14640" y="990720"/>
                    <a:ext cx="6397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870200" y="2209680"/>
          <a:ext cx="64440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70200" y="2209680"/>
                    <a:ext cx="6444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781680" y="5029200"/>
          <a:ext cx="1067040" cy="43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81680" y="5029200"/>
                    <a:ext cx="10670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81680" y="1219320"/>
          <a:ext cx="569880" cy="901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1680" y="1219320"/>
                    <a:ext cx="569880" cy="90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752480" y="4343400"/>
          <a:ext cx="685800" cy="749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52480" y="4343400"/>
                    <a:ext cx="68580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305240" y="5791320"/>
          <a:ext cx="711360" cy="685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05240" y="5791320"/>
                    <a:ext cx="7113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7075440" y="3276720"/>
          <a:ext cx="620640" cy="749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75440" y="3276720"/>
                    <a:ext cx="6206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17"/>
          <a:stretch/>
        </p:blipFill>
        <p:spPr>
          <a:xfrm>
            <a:off x="2666880" y="1623960"/>
            <a:ext cx="4114800" cy="4052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9T14:02:26Z</dcterms:created>
  <dc:creator>Valued Customer</dc:creator>
  <dc:description/>
  <dc:language>en-US</dc:language>
  <cp:lastModifiedBy>DND</cp:lastModifiedBy>
  <cp:lastPrinted>1999-01-12T17:49:30Z</cp:lastPrinted>
  <dcterms:modified xsi:type="dcterms:W3CDTF">1999-01-12T17:55:08Z</dcterms:modified>
  <cp:revision>17</cp:revision>
  <dc:subject/>
  <dc:title>The Parts of the Compass</dc:title>
</cp:coreProperties>
</file>