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4B7B-78C8-4C48-9778-5F5F3FF3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9E24-6272-42A3-9A18-2E41A52C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273-7892-442D-A340-7DD548F9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42D-0697-474F-ACFF-5C7C761D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54C-EB7E-4689-A07B-A7CE6F53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B84-2608-4D92-94CE-BC48C3CB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BF3-AE43-454C-AB81-DB57419E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919-A1EE-40C2-BF29-8EBEB10F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B384-8333-4589-82FB-CA290983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E8D-2221-40F7-9F5A-88164C70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EFA0-DD93-4B01-9CA4-3DF9EC55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012-3770-462F-B3BA-9B2FAEE7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5AA2-B76A-4E5F-82B5-B99F09B35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905120"/>
            <a:ext cx="76201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MPL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ALL FOR VOLUNTE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380880"/>
            <a:ext cx="76201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FOUR TYPES OF ORD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1447920" cy="247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33720" y="2133720"/>
            <a:ext cx="761760" cy="2638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19920" y="2057400"/>
            <a:ext cx="838080" cy="286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696080" y="3124080"/>
            <a:ext cx="76212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45720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E ORDER- GIVING PROCESS</a:t>
            </a:r>
            <a:endParaRPr b="0" lang="en-US" sz="4000" spc="1" strike="noStrike">
              <a:ln w="12600">
                <a:solidFill>
                  <a:srgbClr val="000080"/>
                </a:solidFill>
                <a:miter/>
              </a:ln>
              <a:solidFill>
                <a:srgbClr val="00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pa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li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i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llow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2819160" cy="2408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2362320"/>
            <a:ext cx="180000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43000" y="53352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RITTEN ORDE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6212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transmit orders to another loc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when Precise figures or complex details are involv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when it is necessary to hold a person responsible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33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when sequence is important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ict adherence is necess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00800" y="5257800"/>
            <a:ext cx="24811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66680" y="533520"/>
            <a:ext cx="6858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ERBAL ORDE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895480" y="2361960"/>
            <a:ext cx="5943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80008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in a local emergenc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80008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for minor details locall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80008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clarify a written order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00"/>
              </a:spcBef>
              <a:buClr>
                <a:srgbClr val="80008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in routine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251460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8T21:32:00Z</cp:lastPrinted>
  <dcterms:modified xsi:type="dcterms:W3CDTF">1999-02-22T19:54:44Z</dcterms:modified>
  <cp:revision>27</cp:revision>
  <dc:subject/>
  <dc:title>No Slide Title</dc:title>
</cp:coreProperties>
</file>