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65A3-B8A7-4067-B7C6-A85CDBAE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13BA-EEE5-4C7C-9995-8D4BD1D2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9D0A-3191-414F-8382-16DD0705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5E10-1ABE-4D3F-9DF1-E9E66AC1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263E-DF43-470A-A8EA-8C678699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599-7ED4-4D56-84DE-2DCF35D4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0F64-1435-4C95-B3B8-26A083D8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CB79-15BF-446D-AC3B-0351901B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494A-B608-4203-9671-9EB71A48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656-3B5B-4330-90D1-F532E031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B661-364D-46DF-9819-FB68E3AF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3B08-1BE2-4073-87C9-19AD5BC8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FF23-A914-42D0-91DC-E48F228BC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4120" y="990720"/>
          <a:ext cx="8002440" cy="91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990720"/>
                    <a:ext cx="8002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447920" y="2057400"/>
          <a:ext cx="5105160" cy="5803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057400"/>
                    <a:ext cx="5105160" cy="58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914400" y="2209680"/>
          <a:ext cx="4722840" cy="5257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2209680"/>
                    <a:ext cx="47228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29:37Z</dcterms:modified>
  <cp:revision>12</cp:revision>
  <dc:subject/>
  <dc:title>No Slide Title</dc:title>
</cp:coreProperties>
</file>