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794A-BBC3-480A-BB32-9FF6BE57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B33-C6CD-43FC-A66D-18B13F0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C25-21A9-41C9-BAC3-76572FCF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039-E14F-4FC8-91BD-F40782AA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5FA-55CF-4834-846A-747082C4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8CC6-9951-4EAF-8DEF-71CBC28F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3FBC-FEE7-4632-BB13-5694437D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181-2E41-45A9-97A7-FC23D134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D3C-C223-498F-8538-EDF5F46E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A91-39C0-41F1-AF81-21A774E1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3EE-70EA-4A3B-B21E-9CF1B18A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DB9-F1A1-43B1-BA91-E048A340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A3B3-2E15-422E-8A3D-3437A70B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2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-PAN-PAN-ALL STATIONS, ALL STATIONS, ALL STATIONS-THIS IS OTTAWA RADIO, OTTAWA RADIO, OTTAWA RADIO-EMERGENCY DESCENT AT OTTAWA AIRPORT-OTTAWA TOWER INSTRUCTS ALL AIRCRAFT THAT ARE BELOW SIX THOUSAND FEET WITHING RANGE OF ONE ZERO MILES OTTAWA VOR LEAVE EAST AND SOUTH SECTORS IMMEDIATELY -THIS IS OTTAWA RADIO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07732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1:11Z</dcterms:modified>
  <cp:revision>2</cp:revision>
  <dc:subject/>
  <dc:title>URGENCY EXAMPLE 1 AIRCRAFT CALL WARNING OTHER AIRCRAFT</dc:title>
</cp:coreProperties>
</file>