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FC3-A968-4947-9AE8-5762774F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229-5028-4821-BEC6-AEF51805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E9F-EB30-4FD4-897D-3FE33FC8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C47-83DA-4D6C-8B20-E8720D80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285F-29CE-424F-954E-61B0789A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70D5-DCC5-46FC-B71F-010DEF9C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32A-220A-46CD-AB9A-1435F6B2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9ED-44D7-41F1-841E-54674366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8D2-3154-4FC1-AE69-2B8DC5CE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9A3-36A8-4800-9A69-73272A83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890-45A4-43FF-8EBA-21FD27F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55A7-4042-4168-AE26-E8FDB473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DD91-12C5-4FEA-ABB8-5FFBB3AD9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286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4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Answer key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715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960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9T23:14:19Z</cp:lastPrinted>
  <dcterms:modified xsi:type="dcterms:W3CDTF">1999-03-09T23:14:56Z</dcterms:modified>
  <cp:revision>34</cp:revision>
  <dc:subject/>
  <dc:title>No Slide Title</dc:title>
</cp:coreProperties>
</file>