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765-31BD-4F7C-8809-402E79D6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E70-F3EF-4B92-B198-B138EB04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BBC-76E7-44E2-9CF4-65820A43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693-E1B5-47E8-9B50-C8420433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5FA-1C1D-4147-8802-597DF495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499-46E5-4DA9-8D73-C8A712A4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ABA4-163F-4A20-98D8-F676E597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BB30-9F00-4CA4-8673-BDA05BB7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C1A-E4F9-4DA2-ABC6-2AA78DE3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DA9A-C286-4FC2-A920-E3C6820C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1917-8D28-415E-B2EB-E981E0DF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7DC-2D28-481D-BE46-7211BA93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0690-6D7E-44E1-8566-200CDE0EA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HREE  SUMMER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63280" y="1447920"/>
            <a:ext cx="549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IDER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CADET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IVAL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LETIC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IAN LEVEL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HO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ERO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AIR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0T19:42:52Z</cp:lastPrinted>
  <dcterms:modified xsi:type="dcterms:W3CDTF">1999-02-19T21:22:44Z</dcterms:modified>
  <cp:revision>34</cp:revision>
  <dc:subject/>
  <dc:title>No Slide Title</dc:title>
</cp:coreProperties>
</file>