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1C04-DE10-41AE-BAEF-651951400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B798-F860-4CC4-9282-59115012D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132F-FE0D-46DA-ADA9-EE9A3E176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5C20-0843-4812-959E-8E37D58C1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35DA-C58A-4197-99F4-238DC5889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6F16-451B-41B0-A2E6-E13BFFDA0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015D-604F-4216-B119-C9B4C7939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888F-EF99-4ECD-837E-531AF5F24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9E59-1E15-4BE2-BB5C-4291B636A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F750-3A58-46C4-AC94-F24BF346C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3D9A-F673-4A00-88FD-98F0DF073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14B7-C946-4352-A706-BF5FD2A16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71318-086F-4170-8EDE-AEE0D588E3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03040" y="6572160"/>
            <a:ext cx="8737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15200" y="6572160"/>
            <a:ext cx="1362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Three 409.01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026560" y="6572160"/>
            <a:ext cx="914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1523880"/>
            <a:ext cx="80010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 CTP is a document that contains, in detail, all the instructional objectives on which you must base your train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60000"/>
              </a:lnSpc>
              <a:spcBef>
                <a:spcPts val="601"/>
              </a:spcBef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t is kept, normally, in the Training Office and there is one for each level of train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60000"/>
              </a:lnSpc>
              <a:spcBef>
                <a:spcPts val="601"/>
              </a:spcBef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nformation in the CTP must be followed to the le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60000"/>
              </a:lnSpc>
              <a:spcBef>
                <a:spcPts val="601"/>
              </a:spcBef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 CTP follows national standards that are identical for every squadron in Canada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09480" y="304920"/>
            <a:ext cx="80010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THE COURSE TRAINING PLAN (CTP)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03040" y="6572160"/>
            <a:ext cx="8737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5200" y="6572160"/>
            <a:ext cx="1362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Three 409.01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026560" y="6572160"/>
            <a:ext cx="914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523880"/>
            <a:ext cx="80010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CHAPTER 1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- COURSE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CHAPTER 2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- COURSE MANAGEM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ETAI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CHAPTER 3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- ASSESSMENT OF CAD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CHAPTER 4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- PERFORMANCE OBJECT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581280" y="5562720"/>
            <a:ext cx="1873440" cy="9144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609480" y="304920"/>
            <a:ext cx="8001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DESCRIPTION OF TRAINING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03040" y="6572160"/>
            <a:ext cx="8737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15200" y="6572160"/>
            <a:ext cx="1362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Three 409.01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026560" y="6572160"/>
            <a:ext cx="914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1447920"/>
            <a:ext cx="86104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 PERFORMANCE OBJECTIVE DESCRIBES TH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PERFORMANC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REQUIRED OF EACH CADET IN ORDER TO PASS A PARTICULAR COURSE.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09480" y="457200"/>
            <a:ext cx="80010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PERFORMANCE OBJECTIVE (PO)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3040" y="6572160"/>
            <a:ext cx="8737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15200" y="6572160"/>
            <a:ext cx="1362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Three 409.01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026560" y="6572160"/>
            <a:ext cx="914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295280"/>
            <a:ext cx="85345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ACH COURSE IS DIVIDED INTO SEVERAL LESSONS. THESE LESSONS CONTAIN THE MATERIAL THE CADETS MUST KNOW TO     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ENABL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THEM TO PASS THE COURSE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50000"/>
              </a:lnSpc>
              <a:spcBef>
                <a:spcPts val="601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 408, FOR EXAMPLE, IS DIVIDED INTO 5 LESS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50000"/>
              </a:lnSpc>
              <a:spcBef>
                <a:spcPts val="601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VERY EO IS IDENTIFIED BY A NUMBER THAT ALWAYS FOLLOWS THE CORRESPONDING PO NUMBER. FOR 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50000"/>
              </a:lnSpc>
              <a:spcBef>
                <a:spcPts val="601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/EO 408.O1 -  IDENTIFY THE PRINCIPLES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OF LEADERSHI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09480" y="304920"/>
            <a:ext cx="8001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ENABLING OBJECTIVE (EO)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Valued Customer</dc:creator>
  <dc:description/>
  <dc:language>en-US</dc:language>
  <cp:lastModifiedBy>dnd</cp:lastModifiedBy>
  <cp:lastPrinted>1999-03-11T21:19:45Z</cp:lastPrinted>
  <dcterms:modified xsi:type="dcterms:W3CDTF">1999-03-11T21:20:18Z</dcterms:modified>
  <cp:revision>36</cp:revision>
  <dc:subject/>
  <dc:title>No Slide Title</dc:title>
</cp:coreProperties>
</file>