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6DE-AE0F-415F-AB0D-EB38AC86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86FA-F169-4564-8137-D06E0CDF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2ABA-4280-4B21-A723-04CA843D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81F-5BE8-4182-98BA-19A36B10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310F-3D0B-45DA-9B18-9CD1DDBA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CC8-70B2-4F04-BA48-3040C10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402-513B-487C-81D3-90186C3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EF9-ABAA-4F94-AEB3-34078B9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ADA-D843-4D67-9F3E-414D1E87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7C9-4A30-4386-83E9-6EF45F2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E04-1E8D-4157-B8C0-E02567A0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1F2-57D4-447D-A4B4-A0451A43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D9E-6FD3-408A-8E76-51709CE4F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402-11bmp" descr=""/>
          <p:cNvPicPr/>
          <p:nvPr/>
        </p:nvPicPr>
        <p:blipFill>
          <a:blip r:embed="rId1"/>
          <a:stretch/>
        </p:blipFill>
        <p:spPr>
          <a:xfrm>
            <a:off x="689040" y="411120"/>
            <a:ext cx="5711760" cy="83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4:01:22Z</dcterms:created>
  <dc:creator>DND</dc:creator>
  <dc:description/>
  <dc:language>en-US</dc:language>
  <cp:lastModifiedBy>Jamie Richards</cp:lastModifiedBy>
  <dcterms:modified xsi:type="dcterms:W3CDTF">1999-04-23T18:32:02Z</dcterms:modified>
  <cp:revision>2</cp:revision>
  <dc:subject/>
  <dc:title>No Slide Title</dc:title>
</cp:coreProperties>
</file>