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B0C0-37D3-4961-A69D-AFC06E212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8995-3D83-44BD-AF98-EF60D719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ECFE-FD39-416E-803E-052EB4FB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B3DC-3888-4462-B7A0-B3786D9B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A31-0C6C-4486-8734-6ABB6D04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31EB-BF05-4D24-96B3-759255F3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6E3-8522-49B8-9142-D023BAB9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158-8D7C-493A-9FA0-C2C97379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9CD7-CD29-4335-8E53-43834A86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1E0A-D77E-42B6-8A4C-C92C1A6B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E9FC-0843-4C47-8FAB-C69765E1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367C-4D50-442F-B20E-F21D9CBA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6560-24E6-4F99-9071-7E1A954C9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AND PHR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elonce feene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 P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rega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d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0" y="21337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en on (frequenc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poken word for Urgenc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coding, check text wit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ginator and send correct ver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the international expression for a distres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cellation. The aeronautical expression 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DISTRESS TRAFFIC ENDED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der that message as not s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poken word for distres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4771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6477120"/>
            <a:ext cx="1339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6553080"/>
            <a:ext cx="182880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2 - Mini-Qui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2193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ch the procedural word or phrase with its definition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: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5:45:02Z</dcterms:created>
  <dc:creator>DND</dc:creator>
  <dc:description/>
  <dc:language>en-US</dc:language>
  <cp:lastModifiedBy>dnd</cp:lastModifiedBy>
  <dcterms:modified xsi:type="dcterms:W3CDTF">1999-03-30T15:39:25Z</dcterms:modified>
  <cp:revision>3</cp:revision>
  <dc:subject/>
  <dc:title>PROCEDURAL WORDS AND        PHRASES Match the procedural word or phrase with its definition. Name:_________</dc:title>
</cp:coreProperties>
</file>