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EBBE-20EE-4BEB-A84D-B32F313E7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257C-A470-485E-BC5A-04806FC95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8981-8515-407B-A841-6DE8D39B4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2DF1-4758-492D-8B2F-4B6AF9581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EA55-1DEF-48E1-B77C-F91746699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387B-F4A4-4943-95D2-7A04214F2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3ECE-5984-4A02-B1D4-7BC264930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82A7-0FC3-4DB4-8E12-1B7B8E6C7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80D7-4CBF-48CD-9A47-F2BC846B6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A5D2-260F-466A-930C-EDBD07A3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89D1-10EF-4A18-A7A5-C44A492B1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BC5F-E99C-47B3-B094-8B366E1D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D888A-E74C-4D98-AC7E-069E895B61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762120"/>
            <a:ext cx="468648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0" bIns="4608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aettenschweiler"/>
              </a:rPr>
              <a:t>  </a:t>
            </a:r>
            <a:r>
              <a:rPr b="1" lang="en-US" sz="7200" spc="-1" strike="noStrike" u="sng">
                <a:solidFill>
                  <a:srgbClr val="000000"/>
                </a:solidFill>
                <a:uFillTx/>
                <a:latin typeface="Haettenschweiler"/>
              </a:rPr>
              <a:t>GOOD HYGIEN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05120" y="228600"/>
            <a:ext cx="327636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Haettenschweiler"/>
              </a:rPr>
              <a:t>rules to…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2438280"/>
            <a:ext cx="6096240" cy="77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Take a shower or bath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    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every other d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Wash dirty clothes once a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    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week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Trim finger and toe nail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    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regularl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7240" y="8737560"/>
            <a:ext cx="674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9760" y="8726400"/>
            <a:ext cx="1362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6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5880" y="8737560"/>
            <a:ext cx="704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066680" y="762120"/>
            <a:ext cx="468648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0" bIns="4608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aettenschweiler"/>
              </a:rPr>
              <a:t>  </a:t>
            </a:r>
            <a:r>
              <a:rPr b="1" lang="en-US" sz="7200" spc="-1" strike="noStrike" u="sng">
                <a:solidFill>
                  <a:srgbClr val="000000"/>
                </a:solidFill>
                <a:uFillTx/>
                <a:latin typeface="Haettenschweiler"/>
              </a:rPr>
              <a:t>GOOD HYGIEN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228600"/>
            <a:ext cx="327636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Haettenschweiler"/>
              </a:rPr>
              <a:t>rules to…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438280"/>
            <a:ext cx="6096240" cy="63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Use foot powder after each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    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ba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Brush and floss your teeth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    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after each me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Shave if requir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240" y="8737560"/>
            <a:ext cx="674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760" y="8726400"/>
            <a:ext cx="1362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6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5880" y="8737560"/>
            <a:ext cx="704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0000" y="8763120"/>
            <a:ext cx="1362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6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19920" y="876312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cfg5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6400800" cy="845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3-05T18:06:34Z</cp:lastPrinted>
  <dcterms:modified xsi:type="dcterms:W3CDTF">1999-03-11T14:56:39Z</dcterms:modified>
  <cp:revision>10</cp:revision>
  <dc:subject/>
  <dc:title>No Slide Title</dc:title>
</cp:coreProperties>
</file>