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78E4-3EBD-48F1-9C1D-DD315019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1EE-AF8B-4550-8A22-4DE0A98D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438-90AC-4EB3-BEDD-D63A01D5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F161-2704-4A98-9B1A-C5B52A18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B2A-B1F7-4DED-8535-2514A603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8FD-5400-4CB2-8F2E-5D1697D7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0693-9D9C-4C04-8CFE-4EA0D9D7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B5E-95D9-4A8F-A619-AAC912BB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747-22CF-4801-A07A-A85DEDA4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877-7324-4081-B958-BBE13666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D1A-1060-4E33-889B-2F9CB5F5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5FC0-3379-453E-B16A-F5A97CA7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9EE9-09FE-4F74-B753-FD24C4F56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YPES OF SEAR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981080"/>
            <a:ext cx="3962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 CRA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ALLEL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EPING LINE A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OUR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oatmap" descr=""/>
          <p:cNvPicPr/>
          <p:nvPr/>
        </p:nvPicPr>
        <p:blipFill>
          <a:blip r:embed="rId1"/>
          <a:srcRect l="0" t="0" r="37339" b="35006"/>
          <a:stretch/>
        </p:blipFill>
        <p:spPr>
          <a:xfrm>
            <a:off x="5334120" y="2743200"/>
            <a:ext cx="38098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ARALLEL SWE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arallel" descr=""/>
          <p:cNvPicPr/>
          <p:nvPr/>
        </p:nvPicPr>
        <p:blipFill>
          <a:blip r:embed="rId1"/>
          <a:srcRect l="35295" t="5434" r="4410" b="19563"/>
          <a:stretch/>
        </p:blipFill>
        <p:spPr>
          <a:xfrm>
            <a:off x="1371600" y="990720"/>
            <a:ext cx="6248520" cy="5257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9718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ting point or bas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5943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er on a compass bearing or predetermined tr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REEPING LINE A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reeping%20line%20II" descr=""/>
          <p:cNvPicPr/>
          <p:nvPr/>
        </p:nvPicPr>
        <p:blipFill>
          <a:blip r:embed="rId1"/>
          <a:srcRect l="2702" t="8873" r="4731" b="9678"/>
          <a:stretch/>
        </p:blipFill>
        <p:spPr>
          <a:xfrm>
            <a:off x="1371600" y="990720"/>
            <a:ext cx="601992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7840" y="20574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3200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5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54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3600" y="4495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1066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2819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UTY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5146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400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1828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080" y="144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1143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TOUR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ontour" descr=""/>
          <p:cNvPicPr/>
          <p:nvPr/>
        </p:nvPicPr>
        <p:blipFill>
          <a:blip r:embed="rId1"/>
          <a:srcRect l="1282" t="6249" r="3848" b="0"/>
          <a:stretch/>
        </p:blipFill>
        <p:spPr>
          <a:xfrm>
            <a:off x="533520" y="1676520"/>
            <a:ext cx="8229600" cy="4038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13372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EARCH LINE FOR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13372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 ABR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-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PPING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abreast" descr=""/>
          <p:cNvPicPr/>
          <p:nvPr/>
        </p:nvPicPr>
        <p:blipFill>
          <a:blip r:embed="rId1"/>
          <a:srcRect l="0" t="13999" r="52009" b="64670"/>
          <a:stretch/>
        </p:blipFill>
        <p:spPr>
          <a:xfrm>
            <a:off x="4191120" y="1828800"/>
            <a:ext cx="364788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v%20formation" descr=""/>
          <p:cNvPicPr/>
          <p:nvPr/>
        </p:nvPicPr>
        <p:blipFill>
          <a:blip r:embed="rId2"/>
          <a:srcRect l="8897" t="20670" r="46996" b="51339"/>
          <a:stretch/>
        </p:blipFill>
        <p:spPr>
          <a:xfrm>
            <a:off x="4572000" y="2971800"/>
            <a:ext cx="335268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sloping" descr=""/>
          <p:cNvPicPr/>
          <p:nvPr/>
        </p:nvPicPr>
        <p:blipFill>
          <a:blip r:embed="rId3"/>
          <a:srcRect l="25943" t="19335" r="47996" b="52668"/>
          <a:stretch/>
        </p:blipFill>
        <p:spPr>
          <a:xfrm>
            <a:off x="5410080" y="4648320"/>
            <a:ext cx="19814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UND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828800"/>
            <a:ext cx="8534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WHISTLE BLAST - ALL PARTY MEMBERS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WO WHISTLE BLASTS - ALL PARTY MEMBERS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WHISTLE BLASTS - PARTY MEMBERS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352680" cy="2792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3T15:06:36Z</dcterms:created>
  <dc:creator>DND</dc:creator>
  <dc:description/>
  <dc:language>en-US</dc:language>
  <cp:lastModifiedBy>DND</cp:lastModifiedBy>
  <cp:lastPrinted>1999-01-14T12:33:46Z</cp:lastPrinted>
  <dcterms:modified xsi:type="dcterms:W3CDTF">1999-03-12T18:27:50Z</dcterms:modified>
  <cp:revision>8</cp:revision>
  <dc:subject/>
  <dc:title>TYPES OF SEARCHES</dc:title>
</cp:coreProperties>
</file>