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657-6EE8-44B6-A744-2E53E403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EF83-D99F-40F7-8972-BAEE58B8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732-3377-40FF-B55E-F7DF8AED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C09-97B5-4466-8AB5-7936F45A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D84-FB1A-476B-9D43-108BE7D8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A56-72E3-4084-9705-21A03345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7D6-4140-44B9-A9CC-B9D8849F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CB9-88AA-4F09-9E5E-E2EFAE4F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11E-F7C2-4054-8141-DD9C5933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3F9E-2286-44E5-8F71-C6579626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E44-4F46-4182-BD56-80A9B295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CA47-D64F-4829-BD8D-85B81374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07A3-7851-4943-B122-CDB3C32E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680" y="6545160"/>
            <a:ext cx="1308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3-29T19:48:27Z</dcterms:modified>
  <cp:revision>24</cp:revision>
  <dc:subject/>
  <dc:title>No Slide Title</dc:title>
</cp:coreProperties>
</file>