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133-52C4-4000-AB87-D6FE7049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909-D1A2-40A5-8C77-EDA91122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A00-29CB-4325-90B3-BB4EEE03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E69-0595-4857-AC4E-AEEFF596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C311-EEC2-4A11-8FC5-FF6135E6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5796-4534-4BC4-829F-D2FDDFF8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A14-7540-4A03-B48F-C891659B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D3C-074F-40BE-81E2-EFE04B37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A41-9667-44DE-88DD-82E00E83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A7CA-F9DE-4FC5-BF00-80545553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F655-FCE9-4BF7-8385-9B272B4E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200-6DF8-4EEA-8208-0C5D894B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12A6-3E74-4913-A874-1A662F282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295280"/>
            <a:ext cx="464832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CROS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2.     THE LESSON MUST PROVIDE MENTAL AND/OR PHYSICAL____________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5.    _____________ MUST BE ALLOTTED FOR CADETS TO PRACT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6.     WHAT MUST AN INSTRUCTOR B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7.     LESSONS MUST PROVIDE THE TRAINEE WITH A SENSE OF ____________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9.    LESSONS MUST START OUT AT THE LEVEL OF TRAINEE ______________________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2.   ASKING QUESTIONS OR PERFORMING A PRACTICAL EXERCISE IS AN EXAMPLE OF WHAT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4.     YOU SHOULD DO THIS AT THE BEGINNING OF EACH LESS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8360" y="1295280"/>
            <a:ext cx="4265640" cy="492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OW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.     THE LETTERS THAT REPRESENT THE SIX PRINCIPLES OF INSTR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3.     THIS CAN BE USED TO STIMULATE CURIOS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4.     THIS MUST BE CREATED AND MAINTAINED BY THE INSTRUCTOR.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8.     REPEATING THINGS OVER AND OVER IS AN EXAMPLE OF____________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0.    CADETS WHO ARE DOING WELL NEED______________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1.   USE TEACHING __________TO APPEAL TO AS MANY OF THE FIVE SENSES AS POSSI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3.    WHEN TEACHING THEORY, DIVIDE MATERIAL INTO LOGICAL PARTS AND PROCEED IN ___________________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6400800"/>
            <a:ext cx="914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267080" y="5486400"/>
          <a:ext cx="533520" cy="12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5486400"/>
                    <a:ext cx="5335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76320" y="76320"/>
            <a:ext cx="5715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9.02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A - Crossword Puzz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762120"/>
            <a:ext cx="5181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INCIPLES OF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772400" y="1981080"/>
            <a:ext cx="53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72400" y="2286000"/>
            <a:ext cx="53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0"/>
            <a:ext cx="5715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9.02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A - Crossword Puzz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914400"/>
            <a:ext cx="5181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RINCIPLES OF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495680" y="4876920"/>
          <a:ext cx="533520" cy="17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876920"/>
                    <a:ext cx="53352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733920" y="2286000"/>
          <a:ext cx="82692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286000"/>
                    <a:ext cx="82692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04920" y="5334120"/>
          <a:ext cx="444240" cy="135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334120"/>
                    <a:ext cx="444240" cy="13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772400" y="1752480"/>
          <a:ext cx="838080" cy="243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72400" y="1752480"/>
                    <a:ext cx="8380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3429000"/>
            <a:ext cx="396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3657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33526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33526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196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35196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35196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18288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9625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42670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1523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24382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27432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30481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9625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96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345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640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51814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58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21337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0958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57913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60958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152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4876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54864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15200" y="6095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57913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18288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1337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31520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5181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609588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45720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15238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876920"/>
            <a:ext cx="30456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27T20:23:42Z</cp:lastPrinted>
  <dcterms:modified xsi:type="dcterms:W3CDTF">1999-01-27T20:57:08Z</dcterms:modified>
  <cp:revision>22</cp:revision>
  <dc:subject/>
  <dc:title>No Slide Title</dc:title>
</cp:coreProperties>
</file>