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9BF9-2EC9-4546-9993-0552E338B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60D0-744A-4B0D-A739-09834683A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E008-8F47-4632-BDF7-DFFEC51E2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3E3F-9122-49B3-8F3C-2DBAF5C2D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6118-FB8B-4CEC-A7B1-33BF39FBA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0DAF-2B87-4E71-A8AD-44039953A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0F7F-693F-4E75-AAF6-021373FF9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41A2-8756-4BEA-B0C9-F5819DB4A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46B7-B7C5-42D3-91AF-72669CAD5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873A-AFF6-48B8-AAFD-6F90045F8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1FDF-E74A-4D8D-B76D-A1852552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737A-4C98-442A-BDAC-6730FB3F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70F25-5241-4D63-8DFB-AE8829835A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COMPASS BEA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419112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ss bea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dir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measure bearings us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grees (36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r mils (6400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arings are alway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asur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ockwis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r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ero lin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gnetic declin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your area must be s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your compas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ing a bear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8077320" y="2514600"/>
          <a:ext cx="60948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77320" y="2514600"/>
                    <a:ext cx="60948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5740560" y="1854360"/>
            <a:ext cx="1168200" cy="109188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324480" y="1371600"/>
            <a:ext cx="0" cy="990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362320"/>
            <a:ext cx="914400" cy="533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91320" y="990720"/>
            <a:ext cx="1066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162920" y="2743200"/>
            <a:ext cx="7596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7086240" y="2895480"/>
            <a:ext cx="152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6248520" y="1371240"/>
            <a:ext cx="7596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6324480" y="1371240"/>
            <a:ext cx="7632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752480"/>
            <a:ext cx="914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G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81680" y="2971800"/>
            <a:ext cx="1219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EA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557600" y="4419720"/>
            <a:ext cx="4272120" cy="14713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9.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STEPS IN TAKING A COMPASS BEA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4956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Open the cover of the compass to about 50-7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 Place the safety cord around your neck. Extend your arm and hold the compass flat at eye lev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 Face the object. Use the sighting line in your compass to ensure that you keep all the parts in a straight l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791320" y="1633680"/>
            <a:ext cx="1852560" cy="40878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9.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STEPS IN TAKING A COMPASS BEARING (cont’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4800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 Turn the compass dial until the red end of the magnetic needle is inside the orienting a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memb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o not look at the compass dial - look at its reflection in the mirr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 Open the cover and look at the number next to the luminous index pointer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  This number is you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ass bea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!  You are ready to start hiking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5856120" y="1981080"/>
          <a:ext cx="274176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56120" y="1981080"/>
                    <a:ext cx="274176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9.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FOLLOWING A GIVEN BEA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4197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 Turn the compass dial until the bearing appears opposite the luminous index poin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 Place the safety cord around your neck and raise the compass to eye lev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 Turn your body until the red end of the magnetic needle is lined up with the orienting arro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 Look through the sight and select an object in your  pat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  Close the compass and hike to the object.  When you reach it, choose a new landmark and repeat the step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195880" y="1341360"/>
            <a:ext cx="3489480" cy="47545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9.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BACKBEA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bearings are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posite read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a compass bea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take a backbear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Read the number opposite the luminous po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 Turn the dial so that this number now appears at the luminous index poin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 This new bearing will take you back to where you sta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5410080" y="1219320"/>
          <a:ext cx="289584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1219320"/>
                    <a:ext cx="28958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6477120" y="2971800"/>
            <a:ext cx="1295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. John’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553080" y="1905120"/>
            <a:ext cx="1676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ederict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5880" y="1523880"/>
            <a:ext cx="1143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lif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9.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14T14:31:16Z</dcterms:created>
  <dc:creator>Valued Customer</dc:creator>
  <dc:description/>
  <dc:language>en-US</dc:language>
  <cp:lastModifiedBy>DND</cp:lastModifiedBy>
  <cp:lastPrinted>1999-01-12T19:54:28Z</cp:lastPrinted>
  <dcterms:modified xsi:type="dcterms:W3CDTF">1999-03-12T18:26:32Z</dcterms:modified>
  <cp:revision>13</cp:revision>
  <dc:subject/>
  <dc:title>No Slide Title</dc:title>
</cp:coreProperties>
</file>