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516-7BE8-4349-85EF-FBBC50A2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B3C-1278-4895-93CB-920EECF6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4B2-2823-44D2-AC5C-BE8519B9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B5FE-280C-4C3C-A895-02B29DDBC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69B-87EB-4868-BC42-1311DBE6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9CE-B1B1-4FE5-AAF4-7AEBA077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321-4E4D-4B5B-BBA1-3DFE0911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6EB-399F-4670-A86B-833C8528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8F1-E024-4DD9-A46C-1BCC8395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64E-778F-49D7-8480-F67ED35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AEB-EF21-4072-A44C-1350507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CC9-1C97-42EE-88B0-EDC32914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F5C6-A485-41E0-9EFC-47B5E356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676520"/>
            <a:ext cx="4343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TOCR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CR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-R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712960" cy="331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228600"/>
            <a:ext cx="815364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THE THREE STY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52480" y="2286000"/>
          <a:ext cx="221004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0"/>
                    <a:ext cx="221004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85840" y="2362320"/>
            <a:ext cx="52578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6600"/>
              </a:buClr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nsure obedien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establishes procedures to be followed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Monotype Sorts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makes the decis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80880" y="2133720"/>
          <a:ext cx="1357560" cy="25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133720"/>
                    <a:ext cx="135756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57200" y="228600"/>
            <a:ext cx="8153280" cy="1523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AUTOCRATIC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2286000"/>
          <a:ext cx="313056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31305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809880" y="2209680"/>
            <a:ext cx="5181840" cy="29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66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roup particip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66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encourage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ment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6600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s and suggestions obtain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group discussion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28600"/>
            <a:ext cx="815328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EMOCRATIC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28600"/>
            <a:ext cx="8153280" cy="1523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FREE-REIN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2438280"/>
          <a:ext cx="190512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190512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590920" y="2133720"/>
          <a:ext cx="76176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2133720"/>
                    <a:ext cx="7617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657600" y="1981080"/>
            <a:ext cx="548640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only in certain situat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is a sourc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er exerts only a 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control over the grou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cc33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the initiative of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to get thing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888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67652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TOCRATIC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d for hostile and dependant person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MOCR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d for co-operative and team-spirited per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E-R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sed for the individualist and the lon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8600"/>
            <a:ext cx="8534520" cy="1752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WHO TO USE THREE STYLES OF LEADERSHIP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22T17:20:33Z</cp:lastPrinted>
  <dcterms:modified xsi:type="dcterms:W3CDTF">1999-03-25T13:58:27Z</dcterms:modified>
  <cp:revision>15</cp:revision>
  <dc:subject/>
  <dc:title>No Slide Title</dc:title>
</cp:coreProperties>
</file>