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215-DAF0-4A30-8E65-90853EBB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CC10-6A45-4688-9A57-AF7BBD7B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98F-6BA3-4245-8D99-021C7ED3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005-BB08-4ABF-B30A-E7EDBA8F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572-E679-4246-801B-28EDB5A1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FD1B-88A4-416A-BDEA-E92C1A2B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0D7-340A-4D39-A4A6-C651E9E5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6DF0-4A97-4BEA-8048-FF437B85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799-79DB-40CF-A42B-0A9B0970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CDB-4F4C-495C-AF71-B7F781FF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1BA7-F672-419D-AA4C-8EC5B0F4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9B7-EDBB-436F-A414-737F1318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2330-E64E-421C-BDD9-A3CE6F84A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533520" y="609480"/>
            <a:ext cx="107442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me know that you h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and understood 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or permission gra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the separa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ortions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(to be used when t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 clear distinction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xt and other portion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o channel…bef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e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47712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1857240" cy="3996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1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7162920" y="4724280"/>
            <a:ext cx="1542960" cy="1752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609480" y="1219320"/>
            <a:ext cx="1074420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zed to proceed under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spec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version is…is that corr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rror has been made in 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(mess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d). The correct ver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reg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is transmission 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2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99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533520" y="1523880"/>
            <a:ext cx="11277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a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ed with your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read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ay ag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 (use instead of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dist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62920" y="4724280"/>
          <a:ext cx="12589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24280"/>
                    <a:ext cx="1258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133720" y="4648320"/>
          <a:ext cx="131112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648320"/>
                    <a:ext cx="13111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3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457200" y="1371600"/>
            <a:ext cx="1295388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day r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ess relay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on (frequenc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or that is not correct,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do not ag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 is ended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spo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9320" y="3809880"/>
          <a:ext cx="271440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9880"/>
                    <a:ext cx="271440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4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hone667956" descr=""/>
          <p:cNvPicPr/>
          <p:nvPr/>
        </p:nvPicPr>
        <p:blipFill>
          <a:blip r:embed="rId1"/>
          <a:srcRect l="20786" t="28041" r="71125" b="21766"/>
          <a:stretch/>
        </p:blipFill>
        <p:spPr>
          <a:xfrm>
            <a:off x="7772400" y="3886200"/>
            <a:ext cx="914400" cy="2590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533520" y="1066680"/>
            <a:ext cx="1508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transmission is ended and I expec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from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 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urgen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all of the message back to 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ly as received after I have giv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OVER” (do not use the wo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REPEAT”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received all of your la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5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-838080" y="1143000"/>
            <a:ext cx="12191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received y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 ____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ag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 (do not use the wo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ust pause for a few seconds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es, please wa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expression to indicate t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 has been imposed o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due to a distress situat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eronautical phrase is “ST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ING”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1752480" y="3733920"/>
            <a:ext cx="1524240" cy="2514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6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990720"/>
            <a:ext cx="9144000" cy="58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 feen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ternational expre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distress cancellation.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nautical expression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DISTRESS TRAFFIC END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 may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ternational expre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form and individual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that a dist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is in progress.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comes from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craft in distress.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nautical phrase is “ST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ING MAYDA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3520" y="3429000"/>
          <a:ext cx="2514600" cy="19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2514600" cy="19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7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10896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coding, check tex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or and send correct ver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nstructions received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ood and will be complied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tw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quest: Communic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ifficult, please send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tw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i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formation: Si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difficult,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nd each word twic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2057400" cy="2046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8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12:26:42Z</dcterms:created>
  <dc:creator>DND</dc:creator>
  <dc:description/>
  <dc:language>en-US</dc:language>
  <cp:lastModifiedBy>dnd</cp:lastModifiedBy>
  <cp:lastPrinted>1999-02-19T18:23:46Z</cp:lastPrinted>
  <dcterms:modified xsi:type="dcterms:W3CDTF">1999-03-30T17:05:18Z</dcterms:modified>
  <cp:revision>8</cp:revision>
  <dc:subject/>
  <dc:title>PROCEDURAL WORDS &amp; PHRASES</dc:title>
</cp:coreProperties>
</file>