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D5A-A6E8-4F78-8879-A4DCA645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FC6-C65B-4989-957B-41B95653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FF6-F79B-4C9B-8B50-393BEC9C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159-9348-499B-B11F-8C986D20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BE4-62D1-4418-B114-F6D09C72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6BC-6969-4E5B-876B-EACDE2DA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941-BBD8-4875-9B4C-FBFC5AF5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DFC2-A0CD-4DF4-AA2E-98C4051B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7CC-ED91-4A2E-A0E1-90F4FC5E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1E0E-D9C4-48CF-AB59-1315494D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F3EA-BEB6-497B-92B4-5CF6D8CC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899-8A50-4BBA-AB7E-D8B49909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F758-D39A-4DDF-80D0-BF6D49AF3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 3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-PAN-PAN-THIS IS PIPER GOLF DELTA BRAVO KILO-EXPERIENCING PARTIAL ENGINE FAILURE-WILL LAND-ASSISTANCE NOT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83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27:14Z</dcterms:created>
  <dc:creator>DND</dc:creator>
  <dc:description/>
  <dc:language>en-US</dc:language>
  <cp:lastModifiedBy>dnd</cp:lastModifiedBy>
  <dcterms:modified xsi:type="dcterms:W3CDTF">1999-03-30T18:20:06Z</dcterms:modified>
  <cp:revision>2</cp:revision>
  <dc:subject/>
  <dc:title>URGENCY EXAMPLE 1 AIRCRAFT CALL WARNING OTHER AIRCRAFT</dc:title>
</cp:coreProperties>
</file>