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14C2-AB12-4B2F-AD7A-C8FE68367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42D0-BFFC-417A-9D37-7C0E7D27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78D2-2F0E-4C93-AB99-DDF3DF08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F7C7-58D2-4B51-A543-0F2951479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D177-67FD-4A59-879E-2988D18D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0348-BEE8-4177-A97A-74472506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85F9-332A-4D17-9B40-E244C6FD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8796-61E7-42BA-87CB-C8CB35A4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90AB-7969-415D-8080-635BDF44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956E-2447-470A-9D66-8CDC5165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9997-0731-4C09-A19E-0EE6B27B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53DB-0DCC-48E7-8B03-625FF2AA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EEB2-1F1F-4958-9D34-4B3FB914C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TEG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“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ral soundness, honesty, freedom from corrupting influence or practices, strictness in the fulfilment of contracts and trustworthiness in discharging responsibilities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19320" y="533520"/>
            <a:ext cx="65991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ALITIES OF A LEAD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SPECT FOR ONES WOR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SPECT FOR OTHER’S PROPERTY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66ff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NANCIAL HONESTY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66ff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SONAL DIG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80880" y="53352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GREDIENTS THAT MAKE UP INTEGRIT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OFFESSIONAL COMPET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ERSONAL DIGN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NSE OF RESPONSI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19320" y="609480"/>
            <a:ext cx="6599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ALITIES OF A LEADER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9T14:28:35Z</dcterms:created>
  <dc:creator>dnd</dc:creator>
  <dc:description/>
  <dc:language>en-US</dc:language>
  <cp:lastModifiedBy>dnd</cp:lastModifiedBy>
  <cp:lastPrinted>1999-03-09T19:59:39Z</cp:lastPrinted>
  <dcterms:modified xsi:type="dcterms:W3CDTF">1999-03-09T20:02:54Z</dcterms:modified>
  <cp:revision>4</cp:revision>
  <dc:subject/>
  <dc:title>No Slide Title</dc:title>
</cp:coreProperties>
</file>