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314-1312-4549-917C-E3106EFB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A3A-265E-4F8B-B5CC-18C6803E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DB2-58E6-4975-B34F-BF262E71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373-5ABF-4B75-BC6D-4EC92533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F877-45B0-475E-815C-2D15D83D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AD0-23F0-4FDA-8BC1-DF1CCBAD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DD3-57B0-462C-8763-30E2206D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EDF-23B1-4534-9701-6001D8BA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C1AA-239B-46BF-AEBC-32AF8AAD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EFB-5B55-41C3-B876-5699BC6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4D8-5ED4-43FA-8170-3F5432FB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436A-0BC5-43BD-8C58-8DC041AF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23E3-A49E-46B9-B199-E14C6F47A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C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gle station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ONTO TOWER THIS IS CESSNA ONE EIGHT FIVE –FOXTROT ALPHA DELTA TANGO O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l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ATIONS THIS IS TORONTO 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station c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SSNA FOXTROT NOVEMBER INDIA INDIA, PIPER FOXTROT X-RAY QUEBEC QUEBEC, PIPER GOLF LIMA LIMA DELTA THIS IS TORONTO T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781760" y="3886200"/>
          <a:ext cx="1362240" cy="11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1760" y="3886200"/>
                    <a:ext cx="1362240" cy="11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NGLE STATION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762480" y="1295280"/>
            <a:ext cx="1074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sign of the station called (not more than thre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,once if radio conditions are go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s “THIS I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ll sign of your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n which you 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mi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itation to reply (“OVER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5695920" y="213372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GENERAL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SHOULD BE MADE TO ALL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SAME PROCEDURE AS A SINGLE STATION C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943600" y="3962520"/>
          <a:ext cx="271476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962520"/>
                    <a:ext cx="27147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ULTIPLE STATION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S TRANSMITTED IN CONVIENANT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ED BY “THIS 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REPLY 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572080" y="3429000"/>
          <a:ext cx="3571920" cy="29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3429000"/>
                    <a:ext cx="3571920" cy="29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PLY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ORS WII GIVE ONE OF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ING REPLY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495680" y="2743200"/>
          <a:ext cx="281016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743200"/>
                    <a:ext cx="28101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9:07:02Z</dcterms:created>
  <dc:creator>DND</dc:creator>
  <dc:description/>
  <dc:language>en-US</dc:language>
  <cp:lastModifiedBy>dnd</cp:lastModifiedBy>
  <cp:lastPrinted>1999-02-19T18:58:18Z</cp:lastPrinted>
  <dcterms:modified xsi:type="dcterms:W3CDTF">1999-03-30T18:35:05Z</dcterms:modified>
  <cp:revision>13</cp:revision>
  <dc:subject/>
  <dc:title>SINGLE STATION CALL</dc:title>
</cp:coreProperties>
</file>