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854C-F13E-4AB9-B38A-ED5D94F3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2F30-B369-4566-B679-00AB906E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5F7-E664-4358-997C-515B95C0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693-E382-400F-AF2E-C565B414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482-7580-437A-B5D4-EF9F8EFE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6DE2-018A-4D00-B354-D5DC0E19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0A2-32E1-47BF-BB21-98D9604B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463-1A45-40CA-9A65-03204CEE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243-92AB-418B-B068-B99B34CD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5B5-9FF5-40B2-9A95-1C6BEE75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247D-9D47-409A-A219-7EF637A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E8BE-CF5A-4873-851B-50E90F73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E07A-3EB6-41E8-9744-A1C32AC64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62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appeal to more than one of the five sens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help the trainees understand   principles and law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bring realism in the                       classroo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y can aid the trainees by giving them a pattern, or by helping to form assoc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4186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ADVANTAGES OF USING AN INSTRUCTIONAL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638680" y="7086600"/>
            <a:ext cx="9874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2057400"/>
            <a:ext cx="6553440" cy="56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chool’s Art or Graphic Se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Other Instructo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vertisements in Newspapers and Magazines, on Television or in Store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 Books and Manual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r Imag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533520"/>
            <a:ext cx="502920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OF IDEA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5867280"/>
            <a:ext cx="10555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057400"/>
            <a:ext cx="624852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CTUAL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IMUL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MOCK-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ICTORIAL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LECTRONIC A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6858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INSTRUCTIONAL AI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609480"/>
            <a:ext cx="624852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conjunction with answering the “what is to be taught” question, the chalkboard should display the following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structor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pic and Main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of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ference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81080" y="6324480"/>
            <a:ext cx="289584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044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6019920" cy="800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76880" y="7162560"/>
            <a:ext cx="130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t. I.M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674360"/>
            <a:ext cx="1417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PO 409.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Level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795760"/>
            <a:ext cx="441972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he Six 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MTP’s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Su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Confi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- Emph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71720" y="716256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1300-13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1698120"/>
            <a:ext cx="3121200" cy="6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Ref: A-CR-CCP-913/PT-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Technique of Instruction</a:t>
            </a:r>
            <a:r>
              <a:rPr b="1" i="1" lang="en-US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0T00:22:15Z</cp:lastPrinted>
  <dcterms:modified xsi:type="dcterms:W3CDTF">1999-03-10T00:24:00Z</dcterms:modified>
  <cp:revision>30</cp:revision>
  <dc:subject/>
  <dc:title>No Slide Title</dc:title>
</cp:coreProperties>
</file>