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BF8-3AE7-4616-BC8C-F4514ECD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35B-90AB-4167-B0C7-A64E00E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BD8B-096A-46D1-AF3C-3B6EF140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714-34A0-4839-83D9-DDDC7FD1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745-25F0-446C-95C4-60558D06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1554-E4D2-4C76-8DA3-7891640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219-6E8E-4E09-BA14-CBDBD56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C44-C097-4E50-AF04-2879BE3C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B8D-9177-438C-B8B8-71DE4937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A12-DBBF-4210-8CF6-ED455017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E2E-CEEA-452C-BF66-0DF532BF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E16-652F-4FE6-BFB0-750B57B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17F3-F89F-4159-B0CD-50E9D003E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38088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491840"/>
            <a:ext cx="5158080" cy="48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KNOWLEDGE OF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ENTHUSI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2133720" cy="2192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162920" y="4267080"/>
            <a:ext cx="17334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553080" y="1981080"/>
            <a:ext cx="2032200" cy="1954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04920" y="4492800"/>
            <a:ext cx="1752480" cy="1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5640" y="657216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5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457200"/>
            <a:ext cx="74041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INCENTIVES TO PERFORMANC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564200"/>
            <a:ext cx="853452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RGANIZATIONAL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AVOIDING OVER-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GOOD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295360" cy="1747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315200" y="4648320"/>
            <a:ext cx="1620720" cy="172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14907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2-23T15:15:47Z</cp:lastPrinted>
  <dcterms:modified xsi:type="dcterms:W3CDTF">1999-02-23T15:16:49Z</dcterms:modified>
  <cp:revision>14</cp:revision>
  <dc:subject/>
  <dc:title>No Slide Title</dc:title>
</cp:coreProperties>
</file>