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A65-C55B-4C2F-AF3F-00D81607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1283-CA96-4117-BBFB-257E877C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C4C-0CBD-44D7-91D7-0D933A54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B1A-1372-4218-B64C-DEAF963A2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2FC-AD89-4D25-BBC8-4641A170E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9A8-7B69-460E-9F03-E821569A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63FE-F010-4BD9-8405-6576260C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073-054F-4DA3-B68F-47E43DD6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81C-6FDF-4853-939A-D23E5777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0C4-1DAA-455F-874C-EFBA26DD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53B-48B8-4AB9-BE95-55646165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F7F4-63E3-47AF-9C15-46564BED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EED2-3943-44CB-87D1-774544D68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317000" cy="83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317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14400" y="1752480"/>
          <a:ext cx="5646600" cy="556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752480"/>
                    <a:ext cx="5646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11360" y="1905120"/>
          <a:ext cx="6146640" cy="5638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1360" y="1905120"/>
                    <a:ext cx="61466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48:33Z</dcterms:modified>
  <cp:revision>8</cp:revision>
  <dc:subject/>
  <dc:title>No Slide Title</dc:title>
</cp:coreProperties>
</file>