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C8ED-186F-43F5-BBEA-812AF0D6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DA9-59DD-4721-8E68-C72B287A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742-91E8-46CB-A6A9-4BA8A26C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4FE-5B74-47F5-AB3D-5CB2F582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7796-D17D-42DA-89EC-D8C67205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64A-488E-46EA-A1F0-EFF6D481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742-D1D3-4A55-B0DC-CF8BFD77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028-84D2-467F-B66F-CA1E76F5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ABF-4624-44E3-9D8F-F94A4219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C2F-403C-4314-89AE-E8184A8B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445-C956-4427-AC34-0A908EC2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0A6-A741-4825-B0DB-5D096A4E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D2B5-3FA2-4C1F-82DA-E392152A9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67080" y="838080"/>
          <a:ext cx="7012080" cy="8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838080"/>
                    <a:ext cx="7012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90720" y="1828800"/>
          <a:ext cx="5529240" cy="579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828800"/>
                    <a:ext cx="5529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990720" y="1905120"/>
          <a:ext cx="4665600" cy="5943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905120"/>
                    <a:ext cx="466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00:18:58Z</dcterms:created>
  <dc:creator>dnd</dc:creator>
  <dc:description/>
  <dc:language>en-US</dc:language>
  <cp:lastModifiedBy>Jamie Richards</cp:lastModifiedBy>
  <cp:lastPrinted>1999-01-07T00:25:20Z</cp:lastPrinted>
  <dcterms:modified xsi:type="dcterms:W3CDTF">1999-04-23T18:50:37Z</dcterms:modified>
  <cp:revision>4</cp:revision>
  <dc:subject/>
  <dc:title>No Slide Title</dc:title>
</cp:coreProperties>
</file>