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3A4-93C4-49D4-89BA-A32D1326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0CE8-BFA6-49A3-8270-4CBA8596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1576-38C8-435E-876B-CA137089C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A8EF-F707-4B73-96F3-59A58DA4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A29D-FD95-4716-8792-518873E2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8FD7-44DB-49E3-8CD6-1D626A18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7873-2FFA-41FB-B34B-EB055B24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F38F-57C2-4D0A-B975-32F2DD14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C2D3-33A9-4040-8D3B-C647636A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5B38-7A59-4650-AB38-EA489F77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BB0F-F84D-4FC2-9E6C-EEC01044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B381-ABAE-4A08-A100-76702E75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51C1-CB88-437C-9CFA-EB60E7F35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Navig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avigation is the process of navigating by any one of the many methods of planning or determining an aircraft’s position and cours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mply put, it is being able to determine where you are, where you you want to be, and how to get ther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ypes of Nav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47560" y="1523880"/>
            <a:ext cx="5638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ilot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 Recko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dio Navig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elestial Navig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ertial Navig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7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781680" y="4114800"/>
            <a:ext cx="18129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15:12:40Z</dcterms:created>
  <dc:creator>RC Air Cadets</dc:creator>
  <dc:description/>
  <dc:language>en-US</dc:language>
  <cp:lastModifiedBy>dnd</cp:lastModifiedBy>
  <cp:lastPrinted>1999-03-02T19:17:20Z</cp:lastPrinted>
  <dcterms:modified xsi:type="dcterms:W3CDTF">1999-03-30T14:14:37Z</dcterms:modified>
  <cp:revision>8</cp:revision>
  <dc:subject/>
  <dc:title>Fuel Systems</dc:title>
</cp:coreProperties>
</file>