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8D7C-67DD-4935-9A2A-F8D27806C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EFE7-973E-43BE-8AF3-96F7AB703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E26B-DE31-482B-B1A9-CD8ACF296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920D-9823-4FAF-AFE6-4B7DD0C6F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8AA0-18C6-4875-A9B7-4FD27D9AB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158E-E4C9-4E9B-BC48-C94159C0C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6C15-C4A7-46FC-AFE2-B01C03424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0105-5461-42B4-90BC-277BD20A2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4486-1762-49D9-924F-EBF45707E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8448-3CC9-4364-A467-637293A7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4961-FC6B-47AB-9F7F-CC660ED2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0EB8-C60D-4775-BF44-8FBE1F6A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6E7BF-08ED-4B5E-8F47-F171883B79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INGLE STATION C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words “THIS  I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frequency on which you are transmit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all sign of your 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all sign of the station call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invitation to reply (“OVER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15200" y="6553080"/>
            <a:ext cx="182880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ndout #1 - Mini-Qui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477120"/>
            <a:ext cx="13399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2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647712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141300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ce the number in the blank provided to indicate the order in which a single station call should be made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me:_____________________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17:11:36Z</dcterms:created>
  <dc:creator>DND</dc:creator>
  <dc:description/>
  <dc:language>en-US</dc:language>
  <cp:lastModifiedBy>dnd</cp:lastModifiedBy>
  <dcterms:modified xsi:type="dcterms:W3CDTF">1999-03-30T17:08:38Z</dcterms:modified>
  <cp:revision>2</cp:revision>
  <dc:subject/>
  <dc:title>   SINGLE STATION CALL Place the number in the blank provided to indicate the order in which a single station call should be made  Name:_____________________.</dc:title>
</cp:coreProperties>
</file>