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4C9-39E6-4009-8F04-B7A5C49B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C075-E165-4ED2-B519-212EB424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32DA-901C-4CBF-A662-0AE42A1A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C06-00E1-4801-92AB-C6F0FAB9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5A4-1F17-42B6-AA7C-D42649D4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1F5-DAB9-447C-A693-C1E98A52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0A1-CBAA-407B-B2AE-E85E0136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892-702D-4794-AB0C-99D7EC6C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B56-26EA-4A36-B114-33219F4A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081-3C91-416B-B4AF-30C6D231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FD4-2869-4D24-BEB1-E596817A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F23-7E35-4D1D-A8A6-EF6C64A0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9CCF-BB96-47FC-A9BC-3F26E964E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72400" y="198108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0"/>
            <a:ext cx="5715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2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A - Crossword Puzzle Answer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4600" y="914400"/>
            <a:ext cx="518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495680" y="4876920"/>
          <a:ext cx="53352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876920"/>
                    <a:ext cx="53352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733920" y="2286000"/>
          <a:ext cx="82692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286000"/>
                    <a:ext cx="8269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04920" y="5334120"/>
          <a:ext cx="44424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334120"/>
                    <a:ext cx="44424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7772400" y="1752480"/>
          <a:ext cx="838080" cy="243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1752480"/>
                    <a:ext cx="8380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429000"/>
            <a:ext cx="39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76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35196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35196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35196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81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1523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5345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246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21337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15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20:56:30Z</dcterms:created>
  <dc:creator>dnd</dc:creator>
  <dc:description/>
  <dc:language>en-US</dc:language>
  <cp:lastModifiedBy>dnd</cp:lastModifiedBy>
  <dcterms:modified xsi:type="dcterms:W3CDTF">1999-02-24T19:29:48Z</dcterms:modified>
  <cp:revision>2</cp:revision>
  <dc:subject/>
  <dc:title>No Slide Title</dc:title>
</cp:coreProperties>
</file>