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3815-4000-47A6-AAB6-9970DF558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299B-881F-412B-B4EC-AF93656E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8478-4BD4-429C-9C62-6AE266F19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C096-54E4-464A-8C6E-B7546F1FA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822C-1E96-4D0C-B95E-9FA879D9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6BDE-01CA-4211-A6C3-6FE0F673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CF28-0880-4AD4-89F9-E57BF8B4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A884-A98B-4D00-B211-9EA255F8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DBA0-3585-4F6C-89D2-3F78CC71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E180-D2EC-4BB0-A302-E7799685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D631-23E3-485B-8060-247E39B6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BB43-B517-4EEF-99A2-9F9A252E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041A-16B3-4C28-8706-F3A5EF37C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368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057400"/>
            <a:ext cx="6248520" cy="35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bal support is a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too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used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rif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v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mphasize; 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ff0000"/>
              </a:buClr>
              <a:buFont typeface="Comic Sans M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 variety and interest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you are trying to expl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81080" y="5715000"/>
            <a:ext cx="2819520" cy="2870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33360" y="418320"/>
            <a:ext cx="621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WHAT IS VERBAL SUPPOR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368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905120"/>
            <a:ext cx="6629400" cy="58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MPAR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is a bridge built by the instructor that bridges the gap between the known and the  unkn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sons are logical explanations that satisfy the question “WHY??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ATEMEN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amp; RE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equently an instructor must repeat what he/she said for emphasis. One way  to do this to restate it in a different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3360" y="418320"/>
            <a:ext cx="621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TYPES OF VERBAL 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368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905120"/>
            <a:ext cx="6477120" cy="60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example is an illustration use to clarify and simplify an id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are a systematic compilation of information (usually in numerical form) about some occurrence or thing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IMO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estimony is using personal experience or a quotation from a recognized authority to add credibility to what you are teaching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3360" y="418320"/>
            <a:ext cx="621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TYPES OF VERBAL 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09T22:59:19Z</cp:lastPrinted>
  <dcterms:modified xsi:type="dcterms:W3CDTF">1999-03-09T22:59:36Z</dcterms:modified>
  <cp:revision>22</cp:revision>
  <dc:subject/>
  <dc:title>No Slide Title</dc:title>
</cp:coreProperties>
</file>