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0FE-65ED-4968-8FBC-3EFF4349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8D6-91E2-4F0F-91E1-89D709A9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71E-92F3-48B4-86DA-53367C68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98A1-15AD-4BA1-919F-973F471F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D57-1A26-4F29-8382-92D694B2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EC3-4AD6-4811-99ED-15E81DF6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A09-D548-49C2-AB22-F818BE6A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38B-9CDC-4B9F-BC74-B4A55D5B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BDB-7DC3-45FF-8E6C-44EAD595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FD5C-6411-4D06-A1D3-3224179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7CD-4078-47FC-A35D-EF669524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8D9-100C-4A05-98AF-2E6B5A2D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C85B-0370-4BA5-AF22-7D3384BCB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4:57:24Z</cp:lastPrinted>
  <dcterms:modified xsi:type="dcterms:W3CDTF">1999-03-11T14:57:27Z</dcterms:modified>
  <cp:revision>19</cp:revision>
  <dc:subject/>
  <dc:title>No Slide Title</dc:title>
</cp:coreProperties>
</file>