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0056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384-36A1-4C40-B7A3-1023A7D7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0CC2-E2F4-427D-A112-2CD14D72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AFA-61BE-4D74-B142-3A7558FC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D0F7-D658-4B88-8219-DBFDEFC8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7DE-1060-4F3F-BCA9-81C949FE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499-59CE-41BD-BE53-35DC8A9E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5B6-57ED-43F5-B270-496D2EA4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B51-14D9-4E13-AF21-CE29CD0B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5F6-286E-4880-B4A0-A8A6C233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7F79-590C-4CC2-9075-523BC6E9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CDEB-39E2-4664-85F1-B959D68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AA4-C85B-42C6-A363-3BC67FCB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B29C-3D15-4DE5-B5E7-9CD1AB330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3530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find the position of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Indicate the distance along the X axis 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Indicate the distance along the Y axis 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 The combination of X-Y is the location of A.  (5,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1752480"/>
            <a:ext cx="0" cy="3810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5181480"/>
            <a:ext cx="3352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181480" y="175248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 flipV="1">
            <a:off x="5333760" y="1752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333760" y="533412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5334120"/>
            <a:ext cx="1526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240" y="495288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24680" y="502920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924320" y="51814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52880" y="1371600"/>
            <a:ext cx="76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562720"/>
            <a:ext cx="609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952880"/>
            <a:ext cx="609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9600" y="495288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5181480"/>
            <a:ext cx="2209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2  3  4  5  6  7  8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209680"/>
            <a:ext cx="30492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8 7 6 5 4 3 2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629400" y="2133720"/>
            <a:ext cx="0" cy="30477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2743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705360" y="20574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705720" y="251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6668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1600200"/>
            <a:ext cx="838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00200" y="15228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Principles of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8380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stings and Nor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16292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182880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52578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7242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95680" y="41911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365760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3124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2590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205740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4120" y="58672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33920" y="18288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81680" y="60199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2743200"/>
            <a:ext cx="533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O R T H  I  N 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18288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24382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971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35053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4038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45720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510552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95680" y="5486400"/>
            <a:ext cx="38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2      73       74       75       76       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28800"/>
            <a:ext cx="289548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st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from North to South. They are numbered from 00 to 99 and read from left to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 from East to West. They are numbered from 00 to 99 and read from top to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Order of Working a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3000"/>
            <a:ext cx="327636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Eas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lway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irst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id Reference.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rth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cond ha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GR.  This line forms 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ou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de of the grid squar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412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MEMBER: In the house and up the stair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1066680"/>
            <a:ext cx="4016520" cy="5288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r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7720" y="990720"/>
            <a:ext cx="57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lp Sgt Smith find tan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19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62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981080"/>
            <a:ext cx="761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89548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38862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5867280"/>
            <a:ext cx="762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905120"/>
            <a:ext cx="53352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172200"/>
            <a:ext cx="640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6                27              28               29             30              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3809880"/>
            <a:ext cx="5106960" cy="1906560"/>
          </a:xfrm>
          <a:custGeom>
            <a:avLst/>
            <a:gdLst/>
            <a:ahLst/>
            <a:rect l="l" t="t" r="r" b="b"/>
            <a:pathLst>
              <a:path w="3217" h="1201">
                <a:moveTo>
                  <a:pt x="0" y="1200"/>
                </a:moveTo>
                <a:lnTo>
                  <a:pt x="192" y="1008"/>
                </a:lnTo>
                <a:lnTo>
                  <a:pt x="480" y="912"/>
                </a:lnTo>
                <a:lnTo>
                  <a:pt x="816" y="912"/>
                </a:lnTo>
                <a:lnTo>
                  <a:pt x="1104" y="912"/>
                </a:lnTo>
                <a:lnTo>
                  <a:pt x="1248" y="816"/>
                </a:lnTo>
                <a:lnTo>
                  <a:pt x="1488" y="576"/>
                </a:lnTo>
                <a:lnTo>
                  <a:pt x="1968" y="480"/>
                </a:lnTo>
                <a:lnTo>
                  <a:pt x="1992" y="480"/>
                </a:lnTo>
                <a:lnTo>
                  <a:pt x="2448" y="192"/>
                </a:lnTo>
                <a:lnTo>
                  <a:pt x="3216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2590920"/>
            <a:ext cx="1982520" cy="2287440"/>
          </a:xfrm>
          <a:custGeom>
            <a:avLst/>
            <a:gdLst/>
            <a:ahLst/>
            <a:rect l="l" t="t" r="r" b="b"/>
            <a:pathLst>
              <a:path w="1249" h="1441">
                <a:moveTo>
                  <a:pt x="1104" y="1440"/>
                </a:moveTo>
                <a:lnTo>
                  <a:pt x="1248" y="1056"/>
                </a:lnTo>
                <a:lnTo>
                  <a:pt x="1248" y="1026"/>
                </a:lnTo>
                <a:lnTo>
                  <a:pt x="1248" y="720"/>
                </a:lnTo>
                <a:lnTo>
                  <a:pt x="1104" y="528"/>
                </a:lnTo>
                <a:lnTo>
                  <a:pt x="816" y="480"/>
                </a:lnTo>
                <a:lnTo>
                  <a:pt x="240" y="384"/>
                </a:lnTo>
                <a:lnTo>
                  <a:pt x="0" y="0"/>
                </a:lnTo>
              </a:path>
            </a:pathLst>
          </a:custGeom>
          <a:noFill/>
          <a:ln cap="rnd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05920" y="175248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153280" y="6172200"/>
            <a:ext cx="68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962440" y="3909960"/>
            <a:ext cx="390240" cy="98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395360" y="2058840"/>
            <a:ext cx="1119240" cy="727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095880" y="30481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28" name="jetfight" descr=""/>
          <p:cNvPicPr/>
          <p:nvPr/>
        </p:nvPicPr>
        <p:blipFill>
          <a:blip r:embed="rId4"/>
          <a:stretch/>
        </p:blipFill>
        <p:spPr>
          <a:xfrm>
            <a:off x="6095880" y="5105520"/>
            <a:ext cx="990720" cy="609480"/>
          </a:xfrm>
          <a:prstGeom prst="rect">
            <a:avLst/>
          </a:prstGeom>
          <a:ln w="0">
            <a:noFill/>
          </a:ln>
        </p:spPr>
      </p:pic>
      <p:pic>
        <p:nvPicPr>
          <p:cNvPr id="129" name="jetfight" descr=""/>
          <p:cNvPicPr/>
          <p:nvPr/>
        </p:nvPicPr>
        <p:blipFill>
          <a:blip r:embed="rId5"/>
          <a:stretch/>
        </p:blipFill>
        <p:spPr>
          <a:xfrm>
            <a:off x="3809880" y="2133720"/>
            <a:ext cx="990720" cy="623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52578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6-figure grid re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ay of pinpointing a fe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grid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ccurate to with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 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al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 is used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there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or 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ame feature in a grid square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e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giving a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5880" y="1903320"/>
            <a:ext cx="2827440" cy="2673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Six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05120" y="1295280"/>
            <a:ext cx="4981680" cy="449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33520" y="1219320"/>
            <a:ext cx="274320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6-figure grid reference divides a grid square in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square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Squ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5 brid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ll you know which one               to go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00400" y="3581280"/>
          <a:ext cx="674640" cy="14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3581280"/>
                    <a:ext cx="67464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aking A 6-Figure Grid Re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62520" y="1600200"/>
            <a:ext cx="4535280" cy="4143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0880" y="1447920"/>
            <a:ext cx="2590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“In the house, and up the stai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971800"/>
            <a:ext cx="2286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dge #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eas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s nor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-Figure GR for Bridge #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613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Use of a Rom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4838760" cy="3795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57200" y="1143000"/>
            <a:ext cx="2895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accurately measure    a six-figure grid re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corner of your paper on the landmark, and read off the 10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: 7673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7:28:40Z</dcterms:created>
  <dc:creator>Valued Customer</dc:creator>
  <dc:description/>
  <dc:language>en-US</dc:language>
  <cp:lastModifiedBy>DND</cp:lastModifiedBy>
  <cp:lastPrinted>1999-01-12T14:43:16Z</cp:lastPrinted>
  <dcterms:modified xsi:type="dcterms:W3CDTF">1999-01-13T12:02:52Z</dcterms:modified>
  <cp:revision>14</cp:revision>
  <dc:subject/>
  <dc:title>No Slide Title</dc:title>
</cp:coreProperties>
</file>