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7772-B480-49F6-8F3B-C1B879EB2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04F9-3EB0-49A9-972E-291E9D6B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B11B-7165-4432-B4E6-AFBD64ED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F042-F958-49A2-BD8E-FE67D127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4D12-9FDB-47E9-9BF2-BC1B9BAC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BE1E-AC2D-40BC-A5DD-2CDD095D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7CFF-91D9-47D9-94EE-495BA2E9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512F-91CE-4B65-A4CF-68F777DE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1586-6FC1-47D3-B14B-98B4278D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159F-0BF1-4929-B1A5-39B1B606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6792-61D4-4FB6-8921-CA41AE4A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DD1D-6BD7-414C-B422-EE1C23CA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4652-D5B2-4F31-9C7C-988734916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5500440" cy="810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58:12Z</dcterms:created>
  <dc:creator>dnd</dc:creator>
  <dc:description/>
  <dc:language>en-US</dc:language>
  <cp:lastModifiedBy>dnd</cp:lastModifiedBy>
  <cp:lastPrinted>1998-12-18T14:03:14Z</cp:lastPrinted>
  <dcterms:modified xsi:type="dcterms:W3CDTF">1999-02-24T14:00:56Z</dcterms:modified>
  <cp:revision>7</cp:revision>
  <dc:subject/>
  <dc:title>No Slide Title</dc:title>
</cp:coreProperties>
</file>