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8D1-74B5-4841-B497-18330832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999-FA8C-4BA1-978E-61352D31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980-0399-49AF-B168-DEAF4739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C1B-A409-4571-B202-5F0BC918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6C9-A44F-43C1-A79B-EB9E256F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149-B897-4456-9B6C-126A4EF0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293A-4B8E-478F-997E-1B079B57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420-5D06-4327-9DBF-64316CCB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11A-B595-4342-B74E-E5B9C6E3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DDA-D40B-4931-B721-228F6D67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04C-AE3B-429B-B5E8-AF509082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4B0-7AD9-4A5B-A2CA-90E6A428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BB32-E4AD-4946-B53C-901F5D576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44800" y="152280"/>
            <a:ext cx="51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ngine Gau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gauge2" descr=""/>
          <p:cNvPicPr/>
          <p:nvPr/>
        </p:nvPicPr>
        <p:blipFill>
          <a:blip r:embed="rId1"/>
          <a:srcRect l="4955" t="3399" r="39952" b="28377"/>
          <a:stretch/>
        </p:blipFill>
        <p:spPr>
          <a:xfrm>
            <a:off x="4925880" y="1674720"/>
            <a:ext cx="3684600" cy="343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480" y="52578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Pressure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525780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Temperature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auge1" descr=""/>
          <p:cNvPicPr/>
          <p:nvPr/>
        </p:nvPicPr>
        <p:blipFill>
          <a:blip r:embed="rId2"/>
          <a:srcRect l="16091" t="0" r="23169" b="61528"/>
          <a:stretch/>
        </p:blipFill>
        <p:spPr>
          <a:xfrm>
            <a:off x="533520" y="1800360"/>
            <a:ext cx="35020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6560" y="152280"/>
            <a:ext cx="51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ngine Gau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0720" y="5181480"/>
            <a:ext cx="30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linder-H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gauge3" descr=""/>
          <p:cNvPicPr/>
          <p:nvPr/>
        </p:nvPicPr>
        <p:blipFill>
          <a:blip r:embed="rId1"/>
          <a:srcRect l="25473" t="0" r="24110" b="61222"/>
          <a:stretch/>
        </p:blipFill>
        <p:spPr>
          <a:xfrm>
            <a:off x="654120" y="1916280"/>
            <a:ext cx="3308400" cy="3297240"/>
          </a:xfrm>
          <a:prstGeom prst="rect">
            <a:avLst/>
          </a:prstGeom>
          <a:ln w="0">
            <a:noFill/>
          </a:ln>
        </p:spPr>
      </p:pic>
      <p:pic>
        <p:nvPicPr>
          <p:cNvPr id="55" name="carbgauge" descr=""/>
          <p:cNvPicPr/>
          <p:nvPr/>
        </p:nvPicPr>
        <p:blipFill>
          <a:blip r:embed="rId2"/>
          <a:stretch/>
        </p:blipFill>
        <p:spPr>
          <a:xfrm>
            <a:off x="4981680" y="1905120"/>
            <a:ext cx="3400200" cy="3281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167800" y="5181480"/>
            <a:ext cx="30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uretor Ai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200" y="6551640"/>
            <a:ext cx="126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6560" y="152280"/>
            <a:ext cx="51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Engine Gaug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5257800"/>
            <a:ext cx="28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fold Press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gauge5" descr=""/>
          <p:cNvPicPr/>
          <p:nvPr/>
        </p:nvPicPr>
        <p:blipFill>
          <a:blip r:embed="rId1"/>
          <a:srcRect l="0" t="4996" r="56318" b="34970"/>
          <a:stretch/>
        </p:blipFill>
        <p:spPr>
          <a:xfrm>
            <a:off x="5105520" y="1884240"/>
            <a:ext cx="3300120" cy="3245040"/>
          </a:xfrm>
          <a:prstGeom prst="rect">
            <a:avLst/>
          </a:prstGeom>
          <a:ln w="0">
            <a:noFill/>
          </a:ln>
        </p:spPr>
      </p:pic>
      <p:pic>
        <p:nvPicPr>
          <p:cNvPr id="63" name="gauge4" descr=""/>
          <p:cNvPicPr/>
          <p:nvPr/>
        </p:nvPicPr>
        <p:blipFill>
          <a:blip r:embed="rId2"/>
          <a:srcRect l="0" t="11588" r="63833" b="36771"/>
          <a:stretch/>
        </p:blipFill>
        <p:spPr>
          <a:xfrm>
            <a:off x="609480" y="1828800"/>
            <a:ext cx="3276720" cy="3422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98160" y="52578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ch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20:12:16Z</dcterms:created>
  <dc:creator>RC Air Cadets</dc:creator>
  <dc:description/>
  <dc:language>en-US</dc:language>
  <cp:lastModifiedBy>dnd</cp:lastModifiedBy>
  <cp:lastPrinted>1999-03-01T14:58:12Z</cp:lastPrinted>
  <dcterms:modified xsi:type="dcterms:W3CDTF">1999-03-30T13:06:49Z</dcterms:modified>
  <cp:revision>30</cp:revision>
  <dc:subject/>
  <dc:title>No Slide Title</dc:title>
</cp:coreProperties>
</file>