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EB9-7E7A-478B-9FA3-B1F8885F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A6E-A7C3-4CE0-9630-BA825995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E1CD-62F6-4D23-B8B8-B6F30506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C57-6DA1-4B16-B9E8-9F91B588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A5B-D5CE-4956-9244-9CF8A920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B51-3FEC-4A19-B3D5-6E511D50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6B4-23F4-4355-9257-485BF5DE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0BED-4CEB-4D59-B06D-558C5F45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2E4D-5B3F-47C9-8007-13BE925B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9FF-4BB8-4749-AFE9-86DF06E9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033-B35E-4AD3-8EA4-C5E0167A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14F1-8E4B-435D-AF81-07ED3AE9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7BC4-32AA-4925-BD5D-BB04A7363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565452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13T15:20:17Z</dcterms:modified>
  <cp:revision>6</cp:revision>
  <dc:subject/>
  <dc:title>No Slide Title</dc:title>
</cp:coreProperties>
</file>