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A161-5C3D-40CA-9C7D-6878BE97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E33-0E2A-4E95-8020-C20D9B52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28F-93C8-411E-A401-2E0C225C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15D9-B799-4946-AD28-F7F24F5D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A6E0-F870-40FD-BF70-C6D19562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282-788D-4BE1-9F89-3818C085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395-5A60-4CBF-A2D4-EBEBB0D1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4CBF-E5E5-42F4-ADE4-F5E5E84C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E86-204E-457D-90C8-FBE4FC5C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206-1DB7-4F28-8E44-4D855C9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BCB-D980-47A6-99F2-CC9C8884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246-9C2E-4060-9484-4B49DC3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B74D-8142-406E-8163-CA44BED38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152280"/>
            <a:ext cx="505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9360" y="152280"/>
            <a:ext cx="456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The Propel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rop" descr=""/>
          <p:cNvPicPr/>
          <p:nvPr/>
        </p:nvPicPr>
        <p:blipFill>
          <a:blip r:embed="rId1"/>
          <a:srcRect l="0" t="0" r="2656" b="0"/>
          <a:stretch/>
        </p:blipFill>
        <p:spPr>
          <a:xfrm>
            <a:off x="152280" y="2268360"/>
            <a:ext cx="8839440" cy="2536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0" y="26668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02520" y="2286000"/>
            <a:ext cx="101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18120" y="22860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5800" y="2286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804440" y="234648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666880"/>
            <a:ext cx="609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638320" y="2666880"/>
            <a:ext cx="381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87120" y="2696040"/>
            <a:ext cx="542160" cy="70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20760" y="76320"/>
            <a:ext cx="50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ropeller 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tch" descr=""/>
          <p:cNvPicPr/>
          <p:nvPr/>
        </p:nvPicPr>
        <p:blipFill>
          <a:blip r:embed="rId1"/>
          <a:srcRect l="4337" t="7213" r="0" b="7213"/>
          <a:stretch/>
        </p:blipFill>
        <p:spPr>
          <a:xfrm>
            <a:off x="2357280" y="1117440"/>
            <a:ext cx="5091120" cy="5359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03680" y="341784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 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05200" y="166536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E OF R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1174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DE AN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the forward distance traveled by the propeller in one revolution.  It is defined by the blade angl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large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urs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en the propeller blade is set at a small angle it is call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ne pitc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YPES OF PROPELL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553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xed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justable-pit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lable-Pitch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Speed Prop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3:18:58Z</dcterms:created>
  <dc:creator>RC Air Cadets</dc:creator>
  <dc:description/>
  <dc:language>en-US</dc:language>
  <cp:lastModifiedBy>dnd</cp:lastModifiedBy>
  <cp:lastPrinted>1999-03-26T19:50:36Z</cp:lastPrinted>
  <dcterms:modified xsi:type="dcterms:W3CDTF">1999-03-30T13:05:48Z</dcterms:modified>
  <cp:revision>8</cp:revision>
  <dc:subject/>
  <dc:title>No Slide Title</dc:title>
</cp:coreProperties>
</file>