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75D25-D84A-460F-BFD2-C3CC7527D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6FB65-6BBA-4E02-BA9C-D3332BE0C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C8E1A-6D77-4251-8D90-44FD0FF11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4047F-6CE7-47F9-BCEC-D5FA6AEF1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7012-9676-452B-9B9E-BE071D4B0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764D0-D2D3-457C-8CCF-73A37CC6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AA65A-678E-4E07-9137-CA1099E3C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BDC3D-C637-463B-AFA8-EE718C3B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4766F-5F37-4690-9E61-50C8505D7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40DCD-8E87-492B-B635-020B6B617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3F868-6F7B-42D2-8B8D-CBDEB7B1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D6759-F775-4FB2-8039-2450B96B9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7AE4-BFD1-45B0-A271-E24DFB38A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520" y="4541760"/>
            <a:ext cx="26136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
          <p:cNvSpPr/>
          <p:nvPr/>
        </p:nvSpPr>
        <p:spPr>
          <a:xfrm>
            <a:off x="228600" y="228600"/>
            <a:ext cx="5105520" cy="488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 409.04 Level Thre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nex  A - Crossword Puzzle - Types of Verbal Suppor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3" name=""/>
          <p:cNvSpPr/>
          <p:nvPr/>
        </p:nvSpPr>
        <p:spPr>
          <a:xfrm>
            <a:off x="152280" y="1066680"/>
            <a:ext cx="1600200" cy="501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ACROSS:</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We shall defend our island, whatever the cost may be. We shall fight on the beaches. We shall fight on the landing grounds. We shall fight in the fields and in the streets and we shall fight in the hills. We shall never surrender”.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   “When I was a cadet, I used to spray shine my boots, but I eventually discovered that nothing works better than a cloth, boot polish and hard work.”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   This is an illustration used to clarify and simplify an idea.</a:t>
            </a:r>
            <a:endParaRPr b="0" lang="en-US" sz="1000" spc="-1" strike="noStrike">
              <a:solidFill>
                <a:srgbClr val="000000"/>
              </a:solidFill>
              <a:latin typeface="Times New Roman"/>
            </a:endParaRPr>
          </a:p>
        </p:txBody>
      </p:sp>
      <p:sp>
        <p:nvSpPr>
          <p:cNvPr id="44"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45" name=""/>
          <p:cNvSpPr/>
          <p:nvPr/>
        </p:nvSpPr>
        <p:spPr>
          <a:xfrm>
            <a:off x="44197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7242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38098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909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1148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44197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505320" y="28954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50292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2860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1148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2860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895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60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114800" y="53341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114800" y="41148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89548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2004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943600" y="28954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114800" y="50292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4114800" y="47242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114800" y="44197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114800" y="32004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114800" y="5638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1148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6386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2860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2860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242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5334120" y="38098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286000" y="35053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286000" y="13716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943600" y="137160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114800" y="2590920"/>
            <a:ext cx="304920" cy="30456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79"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0" name=""/>
          <p:cNvSpPr/>
          <p:nvPr/>
        </p:nvSpPr>
        <p:spPr>
          <a:xfrm>
            <a:off x="5943600" y="19810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3505320" y="38098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82" name=""/>
          <p:cNvSpPr/>
          <p:nvPr/>
        </p:nvSpPr>
        <p:spPr>
          <a:xfrm>
            <a:off x="228600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5943600" y="228600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943600" y="25909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809880" y="38098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5943600" y="1676520"/>
            <a:ext cx="30492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7242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200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3809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4114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44197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50292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590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286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981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16765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8" name=""/>
          <p:cNvSpPr/>
          <p:nvPr/>
        </p:nvSpPr>
        <p:spPr>
          <a:xfrm>
            <a:off x="35053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3818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68580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74674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7724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80773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6868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65530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248520" y="1066680"/>
            <a:ext cx="30456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5638680" y="1066680"/>
            <a:ext cx="304920" cy="304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3341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162920" y="1066680"/>
            <a:ext cx="30456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5943600" y="1066680"/>
            <a:ext cx="304920" cy="304920"/>
          </a:xfrm>
          <a:prstGeom prst="rect">
            <a:avLst/>
          </a:prstGeom>
          <a:noFill/>
          <a:ln w="12600">
            <a:solidFill>
              <a:srgbClr val="000000"/>
            </a:solidFill>
            <a:miter/>
          </a:ln>
        </p:spPr>
        <p:style>
          <a:lnRef idx="0"/>
          <a:fillRef idx="0"/>
          <a:effectRef idx="0"/>
          <a:fontRef idx="minor"/>
        </p:style>
        <p:txBody>
          <a:bodyPr wrap="none" lIns="0" rIns="18288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13" name=""/>
          <p:cNvSpPr/>
          <p:nvPr/>
        </p:nvSpPr>
        <p:spPr>
          <a:xfrm>
            <a:off x="7238880" y="1600200"/>
            <a:ext cx="1676520" cy="318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DOWN:</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   Only 50 cadets from this region will be selected will be selected for glider training out of approximately 3500 cadets in the region…so the competition is high. This is an example of what type of verbal support?</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These are logical explanations that satisfy the question, “Why?”.</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This represents a bridge that links the known to the unknown.</a:t>
            </a:r>
            <a:endParaRPr b="0" lang="en-US" sz="1000" spc="-1" strike="noStrike">
              <a:solidFill>
                <a:srgbClr val="000000"/>
              </a:solidFill>
              <a:latin typeface="Times New Roman"/>
            </a:endParaRPr>
          </a:p>
        </p:txBody>
      </p:sp>
      <p:pic>
        <p:nvPicPr>
          <p:cNvPr id="114" name="" descr=""/>
          <p:cNvPicPr/>
          <p:nvPr/>
        </p:nvPicPr>
        <p:blipFill>
          <a:blip r:embed="rId1"/>
          <a:stretch/>
        </p:blipFill>
        <p:spPr>
          <a:xfrm flipH="1" rot="10800000">
            <a:off x="2895480" y="4495680"/>
            <a:ext cx="652680" cy="1981440"/>
          </a:xfrm>
          <a:prstGeom prst="rect">
            <a:avLst/>
          </a:prstGeom>
          <a:ln w="0">
            <a:noFill/>
          </a:ln>
        </p:spPr>
      </p:pic>
      <p:pic>
        <p:nvPicPr>
          <p:cNvPr id="115" name="" descr=""/>
          <p:cNvPicPr/>
          <p:nvPr/>
        </p:nvPicPr>
        <p:blipFill>
          <a:blip r:embed="rId2"/>
          <a:stretch/>
        </p:blipFill>
        <p:spPr>
          <a:xfrm>
            <a:off x="7086600" y="5029200"/>
            <a:ext cx="1676520" cy="156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Valued Customer</dc:creator>
  <dc:description/>
  <dc:language>en-US</dc:language>
  <cp:lastModifiedBy>dnd</cp:lastModifiedBy>
  <cp:lastPrinted>1999-03-09T23:16:45Z</cp:lastPrinted>
  <dcterms:modified xsi:type="dcterms:W3CDTF">1999-03-09T23:16:47Z</dcterms:modified>
  <cp:revision>33</cp:revision>
  <dc:subject/>
  <dc:title>No Slide Title</dc:title>
</cp:coreProperties>
</file>