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B48-4784-42CE-A7A0-1AF13432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5015-32DA-49F4-996D-A849617A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93C-CFBD-4EA5-9BC3-D1B4E0D7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E5B1-AE92-4083-9FEE-A5DFB8F9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6ABC-0BE9-4DCC-A7AF-E8E4D563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C10-3038-4A5C-B3CA-D4B1CCB1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CF1-D3C9-4358-87D1-62F96F10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5BE-FC00-498C-9A7F-15C0A6B8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E0D3-7A8D-4B6E-B486-6E3E7CA3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6105-28BD-4AB9-9AD5-657B65A6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CA4-F3DE-4EFF-974F-78D38F1E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EAF-4FAB-46C6-9200-0819C0F5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356C-8202-4FD9-AA3C-DC395E2F1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Six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5257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6-figure grid 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ay of pinpointing a feat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rid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curate to with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al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6-figure GR is used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ther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or 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ame feature in a grid squar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we need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giving a lo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5880" y="1903320"/>
            <a:ext cx="2827440" cy="2673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Six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05120" y="1295280"/>
            <a:ext cx="4981680" cy="4496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219320"/>
            <a:ext cx="274320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6-figure grid reference divides a grid square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 squar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Squ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5 brid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you know which one               to go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200400" y="3581280"/>
          <a:ext cx="674640" cy="14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3581280"/>
                    <a:ext cx="67464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aking A 6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4535280" cy="4143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1447920"/>
            <a:ext cx="2590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“In the house, and up the stai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971800"/>
            <a:ext cx="228600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#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eas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s nor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Figure GR for Bridge #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13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se of a Ro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733920" y="1600200"/>
            <a:ext cx="4838760" cy="3795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1143000"/>
            <a:ext cx="2895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accurately measure    a six-figure grid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corner of your paper on the landmark, and read off the 10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: 7673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9T20:14:10Z</dcterms:created>
  <dc:creator>DND</dc:creator>
  <dc:description/>
  <dc:language>en-US</dc:language>
  <cp:lastModifiedBy>DND</cp:lastModifiedBy>
  <dcterms:modified xsi:type="dcterms:W3CDTF">1999-01-19T20:15:06Z</dcterms:modified>
  <cp:revision>1</cp:revision>
  <dc:subject/>
  <dc:title>The Six-Figure Grid Reference</dc:title>
</cp:coreProperties>
</file>