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076B-240B-481F-81E3-E17AE5149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103E-B283-43F1-A1FA-A2BB37898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4CD2-5EBB-4519-B578-00E00C9D5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44A2-552D-4B17-A167-E266D3B0E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B842-68AE-417B-BE7C-704CA7F4F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D5CD-DEAA-489F-B28E-E7BA3B97D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AE3C-3597-405A-9426-641CE2D82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888A-E068-4403-888C-7950548EE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9F2E-0547-4F52-9CE9-3EA20A61C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D03E-E071-46A6-9C4E-1927E9D9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0780-EBF8-4573-9581-5E2EB458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F1C2-9993-4CD3-91D3-E0BD3FF0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15891-649E-431D-8579-69F7206583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DISTRESS EXAMPLE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TION RE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XTROT OSCAR NOVEMBER ROMEO-FOXTROT OSCAR NOVEMBER ROMEO-FOXTROT OSCAR NOVEMBER ROMEO-THIS IS GANDER RADIO-GANDER RADIO-GANDER RADIO-ROGER MAYDAY GANDER RADIO 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153280" y="6545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ndout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0T18:04:26Z</dcterms:created>
  <dc:creator>DND</dc:creator>
  <dc:description/>
  <dc:language>en-US</dc:language>
  <cp:lastModifiedBy>dnd</cp:lastModifiedBy>
  <cp:lastPrinted>1999-01-20T18:19:40Z</cp:lastPrinted>
  <dcterms:modified xsi:type="dcterms:W3CDTF">1999-03-30T17:22:02Z</dcterms:modified>
  <cp:revision>4</cp:revision>
  <dc:subject/>
  <dc:title>DISTRESS EXAMPLE </dc:title>
</cp:coreProperties>
</file>