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5637-3869-4400-9839-82E41E693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1743-5866-4306-80BB-2FB89217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48C-C7B1-45CE-9C0C-2B67D94C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C68C-297A-4293-91AE-E5F277161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13D3-E66A-4EC0-8EE1-735295FD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3CD7-FE3C-437F-BDD2-4D48DC0C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B95-7145-42E0-B6F2-B31168E3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96B-2A96-49A2-8143-63442BC7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3F7-504C-4C5F-B4F8-AB2F329F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FE3-CF15-4D0A-98D8-46C45296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95D-1B69-4751-8D50-4FBE8D24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80E-1D17-400B-81BE-45D1D125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6739-EE7A-4619-9034-EFF4D68F6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4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3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Answer Key  - Order Giving Proc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1981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3505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3809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4114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4419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24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4114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2286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2895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480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4114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4114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4114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200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62920" y="4114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76520" y="2895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3200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3505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2590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3200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480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5029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3809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1981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2286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040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4114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5334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5334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5334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5334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334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62920" y="1676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5638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5334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3809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590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2286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2895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2590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3505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4419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4724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4120" y="5029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5334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2286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676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1066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2895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3200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1371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4120" y="1371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1371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1371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1371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748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1981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1981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7240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1981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1981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62920" y="1371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3200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9T14:54:13Z</cp:lastPrinted>
  <dcterms:modified xsi:type="dcterms:W3CDTF">1999-02-23T12:02:14Z</dcterms:modified>
  <cp:revision>28</cp:revision>
  <dc:subject/>
  <dc:title>No Slide Title</dc:title>
</cp:coreProperties>
</file>