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BA86-11A1-45C8-AE3A-3DD2E412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C382-E000-49E7-9FE0-BE9C2176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875-B0C3-4855-A447-2167991B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870-9AF2-4695-BF80-10A5D094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A7B-4CC6-4BA2-A4CF-BA210991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CA5-D113-41F8-9C3A-F1E894C4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52A-6384-4C06-9083-583C37AB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30BB-6ACD-400E-B0F6-97D8DFD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FF5-4161-4243-980A-DECD4FF1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DA5D-B686-4684-A8D2-EFC90F32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5EC-FF9E-4376-BBC6-EA08F4D0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852-3D6D-4479-B6DC-9D36AB6C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AD56-8974-4FA3-9992-9891B974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1880" y="876312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5943600"/>
            <a:ext cx="335304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FETY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572000"/>
            <a:ext cx="2895840" cy="111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CI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3276720"/>
            <a:ext cx="2514600" cy="109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1676520"/>
            <a:ext cx="2057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F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7315200"/>
            <a:ext cx="39430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62120" y="380880"/>
            <a:ext cx="5305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THE PRIORITY OF NEED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1-19T19:08:23Z</cp:lastPrinted>
  <dcterms:modified xsi:type="dcterms:W3CDTF">1999-01-21T14:17:07Z</dcterms:modified>
  <cp:revision>6</cp:revision>
  <dc:subject/>
  <dc:title>No Slide Title</dc:title>
</cp:coreProperties>
</file>