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3AE-ADC3-46A3-9255-986570A3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BCE9-3E0E-4745-BE27-5A9FF8AC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FD1-6265-4E18-8ECE-3468F9C4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959-1B32-41C8-9F71-A9198F682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299-C310-4D57-BF4B-FC3DAC10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5EC6-2989-4D2F-A8B2-17635EBD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A9FB-4C7A-4E76-BCDA-88E29084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A25-943B-4E0C-A0B5-B8BF73AF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5A9-43F7-4CC0-969D-900375BE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E9C2-806E-4EE6-AF80-0F2A1817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073-C9DF-4A2C-88D2-6D0F914E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F8E-074B-4DB4-8AB6-076412A9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F667-70FF-4C1E-96EC-5359A1AAF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12 COMMON EXPEC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GOOD LEADERSHI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KNOW WHAT IS EXPECTED OF THE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BE RECOGNIZED FOR GOOD      PERFORMANC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BE TREATED WITH DIGN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HAVE OPPORTUNITIES FOR PROMO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45240" y="3900600"/>
            <a:ext cx="2421000" cy="1814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932880" y="3962520"/>
            <a:ext cx="1617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ader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llower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844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12 COMMON EXPEC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11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ENJOY A CERTAIN FREEDO  OF AC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ENGAGE IN SOCIAL ACTIVITI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RECEIVE AN EXPLANATION FOR CHANG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BE ASSIGNED STIMULATING WORK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TO BE TREATED EQUALLY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6600ff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HIGH-CONTRIB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ritannic Bold"/>
              </a:rPr>
              <a:t>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77120" y="4419720"/>
            <a:ext cx="2340000" cy="2033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34320" y="4648320"/>
            <a:ext cx="1295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spect each other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8440" y="6572160"/>
            <a:ext cx="1291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8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4T13:25:15Z</cp:lastPrinted>
  <dcterms:modified xsi:type="dcterms:W3CDTF">1999-01-14T13:28:28Z</dcterms:modified>
  <cp:revision>5</cp:revision>
  <dc:subject/>
  <dc:title>No Slide Title</dc:title>
</cp:coreProperties>
</file>