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B227-261D-449D-887C-555C7FF81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E9F7-84DA-4A24-8256-19CAD783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862C-3F21-4555-B59F-DEA6B5E1E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152B-4890-4A5C-835E-DE3B4208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2E97-1962-4857-AC82-A1C61493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2B7C-6AB1-449B-B7F0-19F05C31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B65E-B5DE-46D4-8F87-56E984E3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9767-E3F4-400F-B5C1-2D47466D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874A-C052-4D18-A872-D0DD3DAE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9D13-098D-4B31-A7AE-4814DF3D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5AAE-8DE3-41D8-8B57-CF9769A0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A947-FF1A-47A4-B295-97322A0A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58FA-5DC3-4885-92BC-152465FE6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iizen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6095880" cy="78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58:12Z</dcterms:created>
  <dc:creator>dnd</dc:creator>
  <dc:description/>
  <dc:language>en-US</dc:language>
  <cp:lastModifiedBy>dnd</cp:lastModifiedBy>
  <cp:lastPrinted>1998-12-18T14:03:14Z</cp:lastPrinted>
  <dcterms:modified xsi:type="dcterms:W3CDTF">1999-01-04T18:05:20Z</dcterms:modified>
  <cp:revision>2</cp:revision>
  <dc:subject/>
  <dc:title>No Slide Title</dc:title>
</cp:coreProperties>
</file>