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BD0-6978-4478-A513-B61ADC93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7D7-0989-4812-AA24-89CEC15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E65-CA07-4F22-9A8C-87306ACA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1D4-1861-49EA-BDCE-B707D228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AF26-448E-449B-855B-DA3B5CD8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05D-7703-4C86-856B-71B3A74D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EC7-90DA-4BB0-9478-BE63599A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014-CDA2-46C2-8787-B59D11BD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BA3-3B2A-4C69-8B74-A2D85232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B0F-88FF-43EB-A657-1A31BE76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ED0-5C81-4B5A-AB96-B2B4E0D2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649-9C26-4593-8C43-91071E6D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72EA-DD84-49F7-A971-2F530F0DF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CIENCY LEVEL THREE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3080" y="1523880"/>
          <a:ext cx="880092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523880"/>
                    <a:ext cx="88009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HREE  SUMMER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63280" y="1447920"/>
            <a:ext cx="549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IDER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CADET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IVAL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HLETIC INSTRUCTORS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IAN LEVEL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ICAL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PHO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EROENGINE/AIR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ELECTRON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9T21:33:32Z</cp:lastPrinted>
  <dcterms:modified xsi:type="dcterms:W3CDTF">1999-03-09T21:34:46Z</dcterms:modified>
  <cp:revision>25</cp:revision>
  <dc:subject/>
  <dc:title>No Slide Title</dc:title>
</cp:coreProperties>
</file>