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AFD6-CEDD-4D7B-BCE4-97F26304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868-B8DC-483C-8AE8-48AC6BE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097-AD8A-4BBC-9EDD-C895F0E0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0E25-B289-40E7-AF8C-A0DA2D1CB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EB-D489-4FC1-8E77-8E1BE748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849-D0C9-45F8-9A9C-2AF87D69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53B-3816-4227-858D-BD7318F6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0BA4-6886-41CD-BD3B-FEA3778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8B3B-F808-4C49-AD75-D30BFC8E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C1B-538C-4C54-8A44-83E6F8C6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5F5E-8B65-48E2-9ADD-5BC9B7C1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6EE-DA86-4885-892A-4A67CBCC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D070-3BF3-4F1E-A77C-91B9B1346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ILL LESSON HEA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2909880" cy="3962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LIMIN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 CHE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1523880"/>
            <a:ext cx="3471840" cy="3733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.E.E.R.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217680" cy="395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ate the movement taught and the reason for teach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level of achie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the next le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3124080"/>
            <a:ext cx="2813040" cy="3048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62485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6343560"/>
            <a:ext cx="165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02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6324480"/>
            <a:ext cx="6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19:07:22Z</dcterms:created>
  <dc:creator>DND</dc:creator>
  <dc:description/>
  <dc:language>en-US</dc:language>
  <cp:lastModifiedBy>DND</cp:lastModifiedBy>
  <cp:lastPrinted>1999-02-09T14:34:26Z</cp:lastPrinted>
  <dcterms:modified xsi:type="dcterms:W3CDTF">1999-03-25T18:01:04Z</dcterms:modified>
  <cp:revision>8</cp:revision>
  <dc:subject/>
  <dc:title>DRILL LESSON HEADINGS</dc:title>
</cp:coreProperties>
</file>