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A26-7ADF-42C2-B2BD-41D889DD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B52-DD44-4495-9497-1BBAF19F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9B2-9DC0-4C81-B0CB-43C9C553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A0D-4A68-407B-A07A-306DE471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A87-7513-4B44-8FA7-D3012EC7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E745-9208-44FB-AC3F-D2629B36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8E0-11F2-4279-B246-5EF7B19E3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B3C-9699-455F-A509-EF14E8D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CAE-78FA-4385-94F3-A3105111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5DF-3BFC-4BD7-8081-80C0E2BC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E4B-BC25-4162-97CA-D716A14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58B3-94A8-4316-8903-5E428F23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45F4-0CA2-43CE-B1D3-8E2C4BB5A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 1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CALL WARNING OTHER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-PAN-PAN-CLEVELAND TOWER-THIS IS DE HAVILLAND FOXTROT GOLF FOXTROT ECHO-ADVISE STINSON FOUR NINE ONE NOVEMBER THAT HIS UNDERCARAGE IS DAMAGED-O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27:14Z</dcterms:created>
  <dc:creator>DND</dc:creator>
  <dc:description/>
  <dc:language>en-US</dc:language>
  <cp:lastModifiedBy>dnd</cp:lastModifiedBy>
  <dcterms:modified xsi:type="dcterms:W3CDTF">1999-03-30T18:21:41Z</dcterms:modified>
  <cp:revision>2</cp:revision>
  <dc:subject/>
  <dc:title>URGENCY EXAMPLE 1 AIRCRAFT CALL WARNING OTHER AIRCRAFT</dc:title>
</cp:coreProperties>
</file>