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2C7-6A91-41AC-B6F1-5FF9E8325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4C1-5A91-4CF4-8E04-BC3D13A7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37F-F8BC-4197-899B-1471106B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2F2-4E57-473A-B48F-48345206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D7A-BD68-47AE-AFCF-586C639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CCD-29C1-4359-B1A3-3DB7606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C5D-E2C1-4FB0-8EE2-BE4998B4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FB4-5586-4553-8DC9-FB88D75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DF8-8CA7-4BBA-BAD4-67454BC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79C-A108-4CC1-8C06-8B8A63D7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1478-C0BC-4EF1-BF2F-33C07A8D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F06-ACFF-4C52-BDD3-D3351BCE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9FA2-CC92-446A-AF9B-26F136AD2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MARGINAL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90720"/>
            <a:ext cx="80773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to use a map properly, you must understand the information found on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133720"/>
            <a:ext cx="525780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 Name of the Map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 Number of the Map Sh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 Date of the Map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 Magnetic Decl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 Explanation of a Grid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 Reference Plate of Conventional 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 Index to Adjacent Map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 Map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.  Scale B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07040" y="2355840"/>
          <a:ext cx="254952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07040" y="2355840"/>
                    <a:ext cx="254952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553080" y="2057400"/>
            <a:ext cx="609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0666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 conventional sign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905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666880"/>
            <a:ext cx="18288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2819520"/>
            <a:ext cx="1981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ved - 2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9880" y="2666880"/>
            <a:ext cx="1905120" cy="0"/>
          </a:xfrm>
          <a:prstGeom prst="line">
            <a:avLst/>
          </a:prstGeom>
          <a:ln w="50760">
            <a:solidFill>
              <a:srgbClr val="ff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733920" y="2743200"/>
            <a:ext cx="2057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ved - less than 2 la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53080" y="2666880"/>
            <a:ext cx="190512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81952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t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8098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BRI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4572000"/>
            <a:ext cx="22860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8564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235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548640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4340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11444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876920" y="457164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19720" y="44197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9880" y="541008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oden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4572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1680" y="480060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315200" y="457164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5105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55272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15200" y="51055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4197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334120"/>
            <a:ext cx="2362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onry  (concrete)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06668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TRANSMISSION 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175248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 T T T T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371600"/>
            <a:ext cx="17524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1981080"/>
            <a:ext cx="83844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137160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1981080"/>
            <a:ext cx="762120" cy="0"/>
          </a:xfrm>
          <a:prstGeom prst="line">
            <a:avLst/>
          </a:prstGeom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137160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20968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powe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2895480"/>
            <a:ext cx="4114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TU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50532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294920" y="38098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209680" y="3504960"/>
            <a:ext cx="22860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657600"/>
            <a:ext cx="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3809880"/>
            <a:ext cx="228600" cy="152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90360" y="373392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733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6232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657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11480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road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3505320"/>
            <a:ext cx="15264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65760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562360" y="3505320"/>
            <a:ext cx="15228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365760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724280" y="3886200"/>
            <a:ext cx="15264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8862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657600"/>
            <a:ext cx="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886200"/>
            <a:ext cx="15228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267080" y="3733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267080" y="380988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73392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80988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91120" y="4114800"/>
            <a:ext cx="297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d or highway tu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800600"/>
            <a:ext cx="381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 RI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5537160"/>
            <a:ext cx="2287440" cy="522360"/>
          </a:xfrm>
          <a:custGeom>
            <a:avLst/>
            <a:gdLst/>
            <a:ahLst/>
            <a:rect l="l" t="t" r="r" b="b"/>
            <a:pathLst>
              <a:path w="1441" h="329">
                <a:moveTo>
                  <a:pt x="0" y="64"/>
                </a:moveTo>
                <a:lnTo>
                  <a:pt x="24" y="32"/>
                </a:lnTo>
                <a:lnTo>
                  <a:pt x="48" y="24"/>
                </a:lnTo>
                <a:lnTo>
                  <a:pt x="72" y="8"/>
                </a:lnTo>
                <a:lnTo>
                  <a:pt x="96" y="0"/>
                </a:lnTo>
                <a:lnTo>
                  <a:pt x="120" y="0"/>
                </a:lnTo>
                <a:lnTo>
                  <a:pt x="144" y="0"/>
                </a:lnTo>
                <a:lnTo>
                  <a:pt x="168" y="0"/>
                </a:lnTo>
                <a:lnTo>
                  <a:pt x="192" y="0"/>
                </a:lnTo>
                <a:lnTo>
                  <a:pt x="216" y="0"/>
                </a:lnTo>
                <a:lnTo>
                  <a:pt x="240" y="0"/>
                </a:lnTo>
                <a:lnTo>
                  <a:pt x="264" y="0"/>
                </a:lnTo>
                <a:lnTo>
                  <a:pt x="288" y="0"/>
                </a:lnTo>
                <a:lnTo>
                  <a:pt x="312" y="0"/>
                </a:lnTo>
                <a:lnTo>
                  <a:pt x="336" y="16"/>
                </a:lnTo>
                <a:lnTo>
                  <a:pt x="360" y="24"/>
                </a:lnTo>
                <a:lnTo>
                  <a:pt x="384" y="40"/>
                </a:lnTo>
                <a:lnTo>
                  <a:pt x="408" y="48"/>
                </a:lnTo>
                <a:lnTo>
                  <a:pt x="432" y="56"/>
                </a:lnTo>
                <a:lnTo>
                  <a:pt x="448" y="80"/>
                </a:lnTo>
                <a:lnTo>
                  <a:pt x="472" y="88"/>
                </a:lnTo>
                <a:lnTo>
                  <a:pt x="488" y="112"/>
                </a:lnTo>
                <a:lnTo>
                  <a:pt x="512" y="120"/>
                </a:lnTo>
                <a:lnTo>
                  <a:pt x="536" y="128"/>
                </a:lnTo>
                <a:lnTo>
                  <a:pt x="560" y="144"/>
                </a:lnTo>
                <a:lnTo>
                  <a:pt x="592" y="152"/>
                </a:lnTo>
                <a:lnTo>
                  <a:pt x="672" y="160"/>
                </a:lnTo>
                <a:lnTo>
                  <a:pt x="720" y="168"/>
                </a:lnTo>
                <a:lnTo>
                  <a:pt x="768" y="176"/>
                </a:lnTo>
                <a:lnTo>
                  <a:pt x="816" y="184"/>
                </a:lnTo>
                <a:lnTo>
                  <a:pt x="840" y="184"/>
                </a:lnTo>
                <a:lnTo>
                  <a:pt x="864" y="184"/>
                </a:lnTo>
                <a:lnTo>
                  <a:pt x="888" y="184"/>
                </a:lnTo>
                <a:lnTo>
                  <a:pt x="912" y="184"/>
                </a:lnTo>
                <a:lnTo>
                  <a:pt x="936" y="184"/>
                </a:lnTo>
                <a:lnTo>
                  <a:pt x="960" y="184"/>
                </a:lnTo>
                <a:lnTo>
                  <a:pt x="992" y="184"/>
                </a:lnTo>
                <a:lnTo>
                  <a:pt x="1016" y="184"/>
                </a:lnTo>
                <a:lnTo>
                  <a:pt x="1040" y="184"/>
                </a:lnTo>
                <a:lnTo>
                  <a:pt x="1064" y="184"/>
                </a:lnTo>
                <a:lnTo>
                  <a:pt x="1096" y="184"/>
                </a:lnTo>
                <a:lnTo>
                  <a:pt x="1120" y="176"/>
                </a:lnTo>
                <a:lnTo>
                  <a:pt x="1144" y="168"/>
                </a:lnTo>
                <a:lnTo>
                  <a:pt x="1168" y="168"/>
                </a:lnTo>
                <a:lnTo>
                  <a:pt x="1192" y="160"/>
                </a:lnTo>
                <a:lnTo>
                  <a:pt x="1216" y="144"/>
                </a:lnTo>
                <a:lnTo>
                  <a:pt x="1240" y="136"/>
                </a:lnTo>
                <a:lnTo>
                  <a:pt x="1264" y="136"/>
                </a:lnTo>
                <a:lnTo>
                  <a:pt x="1288" y="128"/>
                </a:lnTo>
                <a:lnTo>
                  <a:pt x="1312" y="112"/>
                </a:lnTo>
                <a:lnTo>
                  <a:pt x="1336" y="104"/>
                </a:lnTo>
                <a:lnTo>
                  <a:pt x="1360" y="88"/>
                </a:lnTo>
                <a:lnTo>
                  <a:pt x="1384" y="80"/>
                </a:lnTo>
                <a:lnTo>
                  <a:pt x="1408" y="72"/>
                </a:lnTo>
                <a:lnTo>
                  <a:pt x="1432" y="48"/>
                </a:lnTo>
                <a:lnTo>
                  <a:pt x="1440" y="208"/>
                </a:lnTo>
                <a:lnTo>
                  <a:pt x="1296" y="256"/>
                </a:lnTo>
                <a:lnTo>
                  <a:pt x="1272" y="272"/>
                </a:lnTo>
                <a:lnTo>
                  <a:pt x="1248" y="288"/>
                </a:lnTo>
                <a:lnTo>
                  <a:pt x="1224" y="296"/>
                </a:lnTo>
                <a:lnTo>
                  <a:pt x="1200" y="304"/>
                </a:lnTo>
                <a:lnTo>
                  <a:pt x="1176" y="304"/>
                </a:lnTo>
                <a:lnTo>
                  <a:pt x="1152" y="304"/>
                </a:lnTo>
                <a:lnTo>
                  <a:pt x="1128" y="320"/>
                </a:lnTo>
                <a:lnTo>
                  <a:pt x="1104" y="320"/>
                </a:lnTo>
                <a:lnTo>
                  <a:pt x="1072" y="328"/>
                </a:lnTo>
                <a:lnTo>
                  <a:pt x="1048" y="328"/>
                </a:lnTo>
                <a:lnTo>
                  <a:pt x="1024" y="328"/>
                </a:lnTo>
                <a:lnTo>
                  <a:pt x="1000" y="328"/>
                </a:lnTo>
                <a:lnTo>
                  <a:pt x="976" y="328"/>
                </a:lnTo>
                <a:lnTo>
                  <a:pt x="952" y="328"/>
                </a:lnTo>
                <a:lnTo>
                  <a:pt x="928" y="328"/>
                </a:lnTo>
                <a:lnTo>
                  <a:pt x="904" y="328"/>
                </a:lnTo>
                <a:lnTo>
                  <a:pt x="880" y="328"/>
                </a:lnTo>
                <a:lnTo>
                  <a:pt x="856" y="328"/>
                </a:lnTo>
                <a:lnTo>
                  <a:pt x="832" y="328"/>
                </a:lnTo>
                <a:lnTo>
                  <a:pt x="808" y="328"/>
                </a:lnTo>
                <a:lnTo>
                  <a:pt x="784" y="320"/>
                </a:lnTo>
                <a:lnTo>
                  <a:pt x="760" y="312"/>
                </a:lnTo>
                <a:lnTo>
                  <a:pt x="736" y="304"/>
                </a:lnTo>
                <a:lnTo>
                  <a:pt x="712" y="296"/>
                </a:lnTo>
                <a:lnTo>
                  <a:pt x="688" y="296"/>
                </a:lnTo>
                <a:lnTo>
                  <a:pt x="664" y="288"/>
                </a:lnTo>
                <a:lnTo>
                  <a:pt x="640" y="272"/>
                </a:lnTo>
                <a:lnTo>
                  <a:pt x="616" y="272"/>
                </a:lnTo>
                <a:lnTo>
                  <a:pt x="592" y="272"/>
                </a:lnTo>
                <a:lnTo>
                  <a:pt x="528" y="264"/>
                </a:lnTo>
                <a:lnTo>
                  <a:pt x="480" y="264"/>
                </a:lnTo>
                <a:lnTo>
                  <a:pt x="456" y="248"/>
                </a:lnTo>
                <a:lnTo>
                  <a:pt x="432" y="224"/>
                </a:lnTo>
                <a:lnTo>
                  <a:pt x="408" y="216"/>
                </a:lnTo>
                <a:lnTo>
                  <a:pt x="384" y="208"/>
                </a:lnTo>
                <a:lnTo>
                  <a:pt x="368" y="184"/>
                </a:lnTo>
                <a:lnTo>
                  <a:pt x="344" y="176"/>
                </a:lnTo>
                <a:lnTo>
                  <a:pt x="320" y="168"/>
                </a:lnTo>
                <a:lnTo>
                  <a:pt x="296" y="152"/>
                </a:lnTo>
                <a:lnTo>
                  <a:pt x="272" y="144"/>
                </a:lnTo>
                <a:lnTo>
                  <a:pt x="248" y="144"/>
                </a:lnTo>
                <a:lnTo>
                  <a:pt x="224" y="128"/>
                </a:lnTo>
                <a:lnTo>
                  <a:pt x="200" y="120"/>
                </a:lnTo>
                <a:lnTo>
                  <a:pt x="176" y="120"/>
                </a:lnTo>
                <a:lnTo>
                  <a:pt x="152" y="120"/>
                </a:lnTo>
                <a:lnTo>
                  <a:pt x="128" y="120"/>
                </a:lnTo>
                <a:lnTo>
                  <a:pt x="104" y="120"/>
                </a:lnTo>
                <a:lnTo>
                  <a:pt x="80" y="120"/>
                </a:lnTo>
                <a:lnTo>
                  <a:pt x="56" y="128"/>
                </a:lnTo>
                <a:lnTo>
                  <a:pt x="32" y="144"/>
                </a:lnTo>
                <a:lnTo>
                  <a:pt x="8" y="160"/>
                </a:lnTo>
                <a:lnTo>
                  <a:pt x="0" y="160"/>
                </a:lnTo>
                <a:lnTo>
                  <a:pt x="0" y="136"/>
                </a:lnTo>
                <a:lnTo>
                  <a:pt x="0" y="112"/>
                </a:lnTo>
                <a:lnTo>
                  <a:pt x="0" y="64"/>
                </a:lnTo>
                <a:lnTo>
                  <a:pt x="0" y="64"/>
                </a:lnTo>
              </a:path>
            </a:pathLst>
          </a:custGeom>
          <a:solidFill>
            <a:srgbClr val="3333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30800" y="5259240"/>
            <a:ext cx="15235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7" y="0"/>
                </a:moveTo>
                <a:arcTo wR="10800" hR="10800" stAng="-5407162" swAng="5407162"/>
                <a:lnTo>
                  <a:pt x="10800" y="10800"/>
                </a:lnTo>
                <a:close/>
              </a:path>
              <a:path fill="none" w="21600" h="21600">
                <a:moveTo>
                  <a:pt x="10777" y="0"/>
                </a:moveTo>
                <a:arcTo wR="10800" hR="10800" stAng="-5407162" swAng="5407162"/>
              </a:path>
            </a:pathLst>
          </a:custGeom>
          <a:noFill/>
          <a:ln cap="rnd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0680000">
            <a:off x="4863960" y="4999320"/>
            <a:ext cx="275544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8" y="0"/>
                </a:moveTo>
                <a:arcTo wR="10800" hR="10800" stAng="-5403961" swAng="5403961"/>
                <a:lnTo>
                  <a:pt x="10800" y="10800"/>
                </a:lnTo>
                <a:close/>
              </a:path>
              <a:path fill="none" w="21600" h="21600">
                <a:moveTo>
                  <a:pt x="10788" y="0"/>
                </a:moveTo>
                <a:arcTo wR="10800" hR="10800" stAng="-5403961" swAng="5403961"/>
              </a:path>
            </a:pathLst>
          </a:custGeom>
          <a:noFill/>
          <a:ln cap="rnd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0" y="59436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90920" y="586728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590560" y="5943600"/>
            <a:ext cx="75960" cy="76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6095880"/>
            <a:ext cx="1904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5181480"/>
            <a:ext cx="2209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river 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066680"/>
            <a:ext cx="3504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 RAIL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828800"/>
            <a:ext cx="2667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0" cy="304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133720"/>
            <a:ext cx="2286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tr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1752480"/>
            <a:ext cx="2514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168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1600200"/>
            <a:ext cx="0" cy="304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8680" y="1454040"/>
            <a:ext cx="291960" cy="596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09680"/>
            <a:ext cx="2133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lroad s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2819520"/>
            <a:ext cx="3047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3160" y="3511440"/>
            <a:ext cx="368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40040" y="3587760"/>
            <a:ext cx="368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200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33526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30960" y="3511440"/>
            <a:ext cx="368280" cy="29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3200400"/>
            <a:ext cx="304560" cy="152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552720" y="3352680"/>
            <a:ext cx="22860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476760" y="3429000"/>
            <a:ext cx="75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3200400"/>
            <a:ext cx="249120" cy="230040"/>
          </a:xfrm>
          <a:custGeom>
            <a:avLst/>
            <a:gdLst/>
            <a:ahLst/>
            <a:rect l="l" t="t" r="r" b="b"/>
            <a:pathLst>
              <a:path w="157" h="145">
                <a:moveTo>
                  <a:pt x="0" y="0"/>
                </a:moveTo>
                <a:lnTo>
                  <a:pt x="48" y="36"/>
                </a:lnTo>
                <a:lnTo>
                  <a:pt x="84" y="36"/>
                </a:lnTo>
                <a:lnTo>
                  <a:pt x="120" y="60"/>
                </a:lnTo>
                <a:lnTo>
                  <a:pt x="156" y="84"/>
                </a:lnTo>
                <a:lnTo>
                  <a:pt x="144" y="96"/>
                </a:lnTo>
                <a:lnTo>
                  <a:pt x="120" y="132"/>
                </a:lnTo>
                <a:lnTo>
                  <a:pt x="84" y="132"/>
                </a:lnTo>
                <a:lnTo>
                  <a:pt x="48" y="132"/>
                </a:lnTo>
                <a:lnTo>
                  <a:pt x="0" y="144"/>
                </a:lnTo>
                <a:lnTo>
                  <a:pt x="12" y="108"/>
                </a:lnTo>
                <a:lnTo>
                  <a:pt x="12" y="72"/>
                </a:lnTo>
                <a:lnTo>
                  <a:pt x="0" y="0"/>
                </a:lnTo>
                <a:lnTo>
                  <a:pt x="36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505320"/>
            <a:ext cx="1218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19720" y="3505320"/>
            <a:ext cx="129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4290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4267080"/>
            <a:ext cx="335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 HE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495680"/>
            <a:ext cx="1752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029200"/>
            <a:ext cx="990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562720"/>
            <a:ext cx="274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2200" y="4421160"/>
            <a:ext cx="24379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0"/>
                </a:moveTo>
                <a:arcTo wR="10800" hR="10800" stAng="-5404476" swAng="5404476"/>
                <a:lnTo>
                  <a:pt x="10800" y="10800"/>
                </a:lnTo>
                <a:close/>
              </a:path>
              <a:path fill="none" w="21600" h="21600">
                <a:moveTo>
                  <a:pt x="10786" y="0"/>
                </a:moveTo>
                <a:arcTo wR="10800" hR="10800" stAng="-5404476" swAng="5404476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510552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2760" y="4878360"/>
            <a:ext cx="2590200" cy="121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5371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53710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920" y="4649760"/>
            <a:ext cx="22852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05520" y="5257800"/>
            <a:ext cx="53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0620000">
            <a:off x="5391360" y="4924800"/>
            <a:ext cx="228600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774" swAng="54047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774" swAng="5404774"/>
              </a:path>
            </a:pathLst>
          </a:custGeom>
          <a:noFill/>
          <a:ln cap="rnd" w="255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4876920"/>
            <a:ext cx="1752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ou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CONVENTIONAL SIGN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066680"/>
            <a:ext cx="624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 MISCELLANEOUS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19051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932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2286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19051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198108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2590920"/>
            <a:ext cx="182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me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1981080"/>
            <a:ext cx="1752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2133720"/>
            <a:ext cx="1752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657600" y="182844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2057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191120" y="182844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2057400"/>
            <a:ext cx="15228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2514600"/>
            <a:ext cx="144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578640" y="1930320"/>
            <a:ext cx="558720" cy="330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6400440" y="18288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400440" y="22860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62920" y="18288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62920" y="2286000"/>
            <a:ext cx="152280" cy="76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51460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vo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505320"/>
            <a:ext cx="4953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morize the most common Conventional Signs - it will save you time when map reading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446200" cy="270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19T18:45:38Z</dcterms:created>
  <dc:creator>Valued Customer</dc:creator>
  <dc:description/>
  <dc:language>en-US</dc:language>
  <cp:lastModifiedBy>DND</cp:lastModifiedBy>
  <cp:lastPrinted>1999-01-11T17:42:50Z</cp:lastPrinted>
  <dcterms:modified xsi:type="dcterms:W3CDTF">1999-01-11T17:42:52Z</dcterms:modified>
  <cp:revision>8</cp:revision>
  <dc:subject/>
  <dc:title>No Slide Title</dc:title>
</cp:coreProperties>
</file>