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38C9-4CDC-4985-B56B-58FBA3355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6422-3191-42AE-B78F-D4708928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3D1A-C587-4CB5-83C6-00E4BEAE4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C1E6-D4D6-4020-A387-25FA78CA9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2360-4091-4474-8F43-D73A3FCF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769C-0333-44CE-8CBA-963531EF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A52C-E8F2-4913-8099-DA648DE7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EC26-6ADC-4BC2-BED4-4551E2AB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1A0D-B06F-4137-9131-34E0C584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DAAB-9F6C-4AF3-8142-7D0F64CD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81AC-39D7-4FED-A406-095D84B4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6C7C-EF37-4164-92DD-72C3D34B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3838-5536-4C74-B6AF-6E447B5AE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5640" y="6572160"/>
            <a:ext cx="136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6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924680" y="6572160"/>
            <a:ext cx="1016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8800"/>
            <a:ext cx="8331480" cy="43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enables you to organize your less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enables you to remain faithful to the objectiv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an use it as an occasional reminder;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an use it as protection against stage fright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mory lap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380160"/>
            <a:ext cx="764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ADVANTAGES OF USING A LESSON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10T00:51:01Z</cp:lastPrinted>
  <dcterms:modified xsi:type="dcterms:W3CDTF">1999-03-10T00:51:03Z</dcterms:modified>
  <cp:revision>34</cp:revision>
  <dc:subject/>
  <dc:title>No Slide Title</dc:title>
</cp:coreProperties>
</file>