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58DC-2541-4911-A1C6-EF689DD97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79A0-85A9-4D45-9E5F-431F3788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023-2DDF-45EB-9226-7A641AF31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838-9462-406F-8CC1-6C75CD85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691-CF75-4FAD-BE48-0BEC3F81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10FF-74BA-4537-B206-C1E74DEA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565-E394-4D39-8832-4475638D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9474-C4E5-470C-A6D1-8094ACE5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787-2CF9-48EF-8C53-D7C98E93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D1E-7F2D-4166-9539-059FBB65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4BF-DA7E-42DD-A186-9CD79944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806-F0DA-46CB-9286-633315E4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F70B-1E22-4D9F-B8FF-722659795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0120" y="6545160"/>
            <a:ext cx="1491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2-17T20:15:57Z</cp:lastPrinted>
  <dcterms:modified xsi:type="dcterms:W3CDTF">1999-03-11T15:31:57Z</dcterms:modified>
  <cp:revision>20</cp:revision>
  <dc:subject/>
  <dc:title>No Slide Title</dc:title>
</cp:coreProperties>
</file>