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63E-DB1B-474B-9FD9-BC26EBB5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83C-F5A7-44CA-BE92-A6E0576A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87A-BAEB-4E0C-90B8-E06A7D0E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DF9A-F817-4BA0-9847-DF5CBC5F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6AC-F71B-4DAB-8CB2-9FE3CA0A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F9A-2B7A-4F25-9EE7-34ACD64B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F50-9611-46AC-A442-758FEB78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EEF-7D0F-478F-B1B3-67887780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F23-E7BA-4F61-AE47-3FF12FB8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6A6-775B-4784-95D3-F359F76E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308-A14D-4AAD-A31F-F8820AE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CEEF-96CF-4B31-803B-E3088A83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66C0-83C8-4031-865B-DA7C1DC3C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-HOUR SYSTEM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45 a.m. - 00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00 noon - 1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:45 p.m. - 23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:00 midnight - 2400 or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00800" y="2133720"/>
            <a:ext cx="22795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DIOTELEPHONE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LL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KNOWLEDGEMENT OR 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6095880" y="2514600"/>
            <a:ext cx="22100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DIO T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402200" y="1752480"/>
            <a:ext cx="11002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hout into the microph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distance of 12 cm between the lips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phone when transmit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ane or obscene language is strictly prohibi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slang te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486400" y="4343400"/>
          <a:ext cx="259092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4343400"/>
                    <a:ext cx="259092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3:10:36Z</dcterms:created>
  <dc:creator>DND</dc:creator>
  <dc:description/>
  <dc:language>en-US</dc:language>
  <cp:lastModifiedBy>dnd</cp:lastModifiedBy>
  <cp:lastPrinted>1999-01-19T19:48:30Z</cp:lastPrinted>
  <dcterms:modified xsi:type="dcterms:W3CDTF">1999-03-30T18:33:54Z</dcterms:modified>
  <cp:revision>6</cp:revision>
  <dc:subject/>
  <dc:title>TIME AND DATE</dc:title>
</cp:coreProperties>
</file>