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00B-5B13-4D6F-8045-07679303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3BC-6C98-4048-A52B-20F23D8E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CDAC-A8E8-4482-9213-AF7F9C58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092-4235-45C2-8DDF-B10DF081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53E-5990-48E4-A8FC-CC748D87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966-4D14-4E87-88B0-1F2FDFF0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D7BB-2E8B-43B5-900C-9E7300E5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03A5-3BE4-4A3A-A94A-EA6EA58D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9A8-5076-4F49-9E3E-43D6021A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E52-307D-4B85-B622-103A2752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ACE3-6C0A-41E5-BDE5-68320171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78D-A0E7-4947-A987-E028CC9E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1021-4865-4458-B3FE-B95A919AA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1120" y="152280"/>
            <a:ext cx="46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Supercharg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551280" y="3108240"/>
            <a:ext cx="172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cha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51640" y="23464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ur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52720" y="182880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ke Manif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supercharger2" descr=""/>
          <p:cNvPicPr/>
          <p:nvPr/>
        </p:nvPicPr>
        <p:blipFill>
          <a:blip r:embed="rId1"/>
          <a:srcRect l="18938" t="2888" r="21331" b="5579"/>
          <a:stretch/>
        </p:blipFill>
        <p:spPr>
          <a:xfrm>
            <a:off x="2514600" y="1219320"/>
            <a:ext cx="3809880" cy="5181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76720" y="12952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523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420880" y="3328920"/>
            <a:ext cx="1120680" cy="578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912640" y="2550240"/>
            <a:ext cx="669240" cy="3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486040" y="2057400"/>
            <a:ext cx="1066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1120" y="152280"/>
            <a:ext cx="463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urbocharg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urbo%20charger2" descr=""/>
          <p:cNvPicPr/>
          <p:nvPr/>
        </p:nvPicPr>
        <p:blipFill>
          <a:blip r:embed="rId1"/>
          <a:srcRect l="3539" t="52264" r="23169" b="16104"/>
          <a:stretch/>
        </p:blipFill>
        <p:spPr>
          <a:xfrm>
            <a:off x="457200" y="1371600"/>
            <a:ext cx="6934320" cy="4735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205040" y="350532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ochar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30520" y="167652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53280" y="265104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0" y="5318280"/>
            <a:ext cx="237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ion Manif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80040" y="5089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ur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81040" y="50896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 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95920" y="1945800"/>
            <a:ext cx="666360" cy="223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629040" y="28195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629040" y="37339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562720" y="40384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6581880" y="4603320"/>
            <a:ext cx="627480" cy="47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90720" y="2666520"/>
            <a:ext cx="1447560" cy="2667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990720" y="4876920"/>
            <a:ext cx="14475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7:38:52Z</dcterms:created>
  <dc:creator>RC Air Cadets</dc:creator>
  <dc:description/>
  <dc:language>en-US</dc:language>
  <cp:lastModifiedBy>dnd</cp:lastModifiedBy>
  <cp:lastPrinted>1999-03-02T19:07:42Z</cp:lastPrinted>
  <dcterms:modified xsi:type="dcterms:W3CDTF">1999-03-30T13:09:09Z</dcterms:modified>
  <cp:revision>19</cp:revision>
  <dc:subject/>
  <dc:title>No Slide Title</dc:title>
</cp:coreProperties>
</file>