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785-7A02-411E-84A3-1FEA1F02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228-83E1-4A53-8032-EE4816E6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ADED-C751-4A56-BCF1-9A5DBAA87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2F84-7381-4008-A3D2-C57A1C41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6E65-E4DC-4843-BEE1-B1AC6A6B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566-6E27-4F9A-9612-66253FDA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174F-6C13-4BB7-8F7F-59FE8965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E80-F5A7-4346-9FC9-BE97FDAB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175-24BC-4E06-99A2-4BA784E4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624-66E3-4F45-80D1-F07C8681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B37-90BE-415F-BFF4-5EAB4A16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4B6-9FB4-4A5E-A7F6-71B03551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2839-BEEA-4290-923E-A63DBAD3B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81480" y="762120"/>
          <a:ext cx="8688600" cy="99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762120"/>
                    <a:ext cx="86886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0" y="1905120"/>
          <a:ext cx="6562800" cy="519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05120"/>
                    <a:ext cx="656280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62120" y="2438280"/>
          <a:ext cx="5105160" cy="442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438280"/>
                    <a:ext cx="510516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5T23:35:12Z</dcterms:modified>
  <cp:revision>23</cp:revision>
  <dc:subject/>
  <dc:title>No Slide Title</dc:title>
</cp:coreProperties>
</file>