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E815-4F0D-45A3-A776-A6FBFEA1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6B9A-E599-474A-B70B-4627DFFD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D5E2-C05E-4199-95C7-C51FF273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41E3-9FB7-4277-B180-F06A893C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F4FA-35F7-4D86-BA79-83F12A71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97B5-2907-451F-8609-0E6E769E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3BAC-0160-4910-AC30-9DE1AF04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5DC-6D24-48CB-9929-5DB37769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B1B7-12A7-4A14-BD6D-A376205B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5126-701B-4254-9CDF-D486E0CF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1ED5-C160-452A-AB26-0B9AFFFF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B1BC-0E8D-4F9D-9414-1183E500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7AB7-D513-4BB8-B354-86B8C6A07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RGENCY SIG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used PAN 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priority except over di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ons wait 3 minutes after he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ing further they can res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24080" y="4648320"/>
            <a:ext cx="320040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RGENCY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80880" y="1676520"/>
            <a:ext cx="10896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gency signal “PAN PAN” (three tim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me of the station addressed or the wor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“ALL STATIONS” (three tim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ds “THIS IS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ntification of the aircraf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ture of the urgency cond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ntions of the person in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ent position, the flight level or the altitude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the heading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other useful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hone" descr=""/>
          <p:cNvPicPr/>
          <p:nvPr/>
        </p:nvPicPr>
        <p:blipFill>
          <a:blip r:embed="rId1">
            <a:grayscl/>
          </a:blip>
          <a:srcRect l="0" t="0" r="79666" b="42682"/>
          <a:stretch/>
        </p:blipFill>
        <p:spPr>
          <a:xfrm>
            <a:off x="7162920" y="2666880"/>
            <a:ext cx="1523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RGENCY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998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-PAN-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ONTO TOWER THIS IS DE HAVIL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XTROT GOLF FOXTROT 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E STINSON FOXTROT HOTEL OSC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MEO THAT HIS UNDERCARRI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IS DAM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URGENCY CALL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the sentences so that they are in the proper order of a urgency cal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: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other useful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s “THIS I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ntification of the aircra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rgency signal “PAN PAN” (Three tim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ture of the urgency cond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me of the station addressed or the words “ALL THE STATIONS” (Three tim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ntions of the persons in com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position, the flight level or the altitude and the hea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communication has priority over urgency communications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5:46:34Z</dcterms:created>
  <dc:creator>DND</dc:creator>
  <dc:description/>
  <dc:language>en-US</dc:language>
  <cp:lastModifiedBy>dnd</cp:lastModifiedBy>
  <cp:lastPrinted>1999-01-19T19:43:16Z</cp:lastPrinted>
  <dcterms:modified xsi:type="dcterms:W3CDTF">1999-03-30T18:37:59Z</dcterms:modified>
  <cp:revision>8</cp:revision>
  <dc:subject/>
  <dc:title>URGENCY SIGNAL</dc:title>
</cp:coreProperties>
</file>