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F9D-B7B3-4D91-91E1-27B907C4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C35-EFC3-4531-AF78-91C3ADF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FDE-C3D2-4E78-97F3-62CDEABC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B12-FD96-4803-B80E-F013D22C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B5B-956F-4CED-9257-FAFCC67F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FC73-C9EC-4FE0-912B-8AB0F913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C134-764A-4178-A75A-CF0E0125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2F8-E282-4E7D-9501-B63BC2D1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F4E-96F8-497D-A4A6-A6309A4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6C6-7B84-4D45-8193-8480666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51D-DD74-43D1-B28D-4EF8F6D0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938-7F49-4A6F-BB33-84379F8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AD11-E02D-4DB2-8DFC-C3ADF1968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rection is measured clockwise from north to the nearest degree and is expressed in a three figure group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rth=000, East=090, South=180, West=27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circle of direction is called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ass Ro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ompass Ro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ose" descr=""/>
          <p:cNvPicPr/>
          <p:nvPr/>
        </p:nvPicPr>
        <p:blipFill>
          <a:blip r:embed="rId1"/>
          <a:srcRect l="0" t="9142" r="9164" b="16564"/>
          <a:stretch/>
        </p:blipFill>
        <p:spPr>
          <a:xfrm>
            <a:off x="2057400" y="1352520"/>
            <a:ext cx="50292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rotrac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rotractor" descr=""/>
          <p:cNvPicPr/>
          <p:nvPr/>
        </p:nvPicPr>
        <p:blipFill>
          <a:blip r:embed="rId1"/>
          <a:stretch/>
        </p:blipFill>
        <p:spPr>
          <a:xfrm>
            <a:off x="1676520" y="1312920"/>
            <a:ext cx="556236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 Plot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lotter" descr=""/>
          <p:cNvPicPr/>
          <p:nvPr/>
        </p:nvPicPr>
        <p:blipFill>
          <a:blip r:embed="rId1"/>
          <a:srcRect l="0" t="13613" r="0" b="13559"/>
          <a:stretch/>
        </p:blipFill>
        <p:spPr>
          <a:xfrm>
            <a:off x="228600" y="1865160"/>
            <a:ext cx="876312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20:56Z</dcterms:modified>
  <cp:revision>16</cp:revision>
  <dc:subject/>
  <dc:title>Navigating Position</dc:title>
</cp:coreProperties>
</file>