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C0F8-4A6B-4DF7-94B6-DF8C463D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424-68D4-472B-B7D4-4A1389AA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8E02-ECA7-4D26-8633-2ACA8FA6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B00-4992-437F-AB2F-07F3DB8B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FA2-9DC0-464D-91D9-C16FA6F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39B-F7E3-47BB-8228-EA8B6E5F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1791-E60F-46BD-9B97-A15B0EB6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D8F-C2D8-448B-AECB-01CF82C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B36-3D2F-4DC3-834D-B69B9D9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890-E8D5-4656-BA05-29E6CF91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765-2B28-49A1-AE14-DA8AF71A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BBB3-E504-441F-8376-DAF23E56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0398-807F-4BE4-AC90-66215B3F6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Advanc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4038480" y="5029200"/>
            <a:ext cx="501840" cy="990720"/>
          </a:xfrm>
          <a:prstGeom prst="rect">
            <a:avLst/>
          </a:prstGeom>
          <a:ln w="0">
            <a:noFill/>
          </a:ln>
        </p:spPr>
      </p:pic>
      <p:pic>
        <p:nvPicPr>
          <p:cNvPr id="164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371600"/>
            <a:ext cx="500040" cy="914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62120" y="2666880"/>
            <a:ext cx="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ng Flank - Retiring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647712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00800" y="1828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962520" y="5105520"/>
          <a:ext cx="637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105520"/>
                    <a:ext cx="637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886200" y="1295280"/>
          <a:ext cx="65232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295280"/>
                    <a:ext cx="6523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H="1" flipV="1">
            <a:off x="762120" y="2666520"/>
            <a:ext cx="1440" cy="22100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Righ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3962520" y="525780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3886200" y="1676520"/>
            <a:ext cx="914400" cy="5061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 flipH="1">
            <a:off x="5638320" y="5791320"/>
            <a:ext cx="221004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3520" y="838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ing Flank when Moving to the Left in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267080" y="1752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7010280" y="2895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35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3505320" y="5257800"/>
          <a:ext cx="106668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5257800"/>
                    <a:ext cx="10666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3429000" y="1447920"/>
          <a:ext cx="990720" cy="65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1447920"/>
                    <a:ext cx="990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4" name=""/>
          <p:cNvSpPr/>
          <p:nvPr/>
        </p:nvSpPr>
        <p:spPr>
          <a:xfrm flipV="1">
            <a:off x="5867280" y="5638320"/>
            <a:ext cx="221004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7524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24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66688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053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4120" y="29718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172200" y="29718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17524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7521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521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18288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9807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1333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9047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9047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666880" y="21337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266688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66652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2666520" y="2133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74320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289512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776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2819160" y="228600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81916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5053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5049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049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5053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35812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7339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8858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36576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6572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4197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193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4193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4197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956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6483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48002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5720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5716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21337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333760" y="21337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533376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533412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541008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5562720" y="228600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714640" y="2438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548640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48604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72200" y="213372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6172200" y="21337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6171840" y="21337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6172200" y="2133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6248520" y="2133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6400440" y="22860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6553080" y="2438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324480" y="228600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6324120" y="2286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05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209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743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895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71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24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81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657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733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98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862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62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4197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495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572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48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006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769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3809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485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00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771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553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288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3809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100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864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5627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6386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267080" y="1600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3-25T14:15:50Z</cp:lastPrinted>
  <dcterms:modified xsi:type="dcterms:W3CDTF">1999-03-25T17:59:38Z</dcterms:modified>
  <cp:revision>21</cp:revision>
  <dc:subject/>
  <dc:title>No Slide Title</dc:title>
</cp:coreProperties>
</file>