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077-62CD-46FB-B517-68367786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D60-F1E2-4FDD-90FB-E2BB3FB2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918-B3DB-4158-AA21-33CC84F6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0B2-28E2-45E5-BCF8-40D5B96F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BE5-6873-4DB6-AF0A-25C797A5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4C8-7FF2-4FD0-AAA7-FE2A4DE9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CFA-525B-4417-A9CD-44FB40DF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4653-AEF7-4776-AC3E-478FE28B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6077-273A-471C-B991-DBD73973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8D0-DA99-4621-AAC4-BC0810BB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C41-B50B-4749-BAFD-D84EAE8BF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0E0-A300-44AF-ABF9-045B54E0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A2DB-45C8-4FFF-A030-2875987C7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one667956" descr=""/>
          <p:cNvPicPr/>
          <p:nvPr/>
        </p:nvPicPr>
        <p:blipFill>
          <a:blip r:embed="rId1"/>
          <a:srcRect l="20786" t="28041" r="71125" b="21766"/>
          <a:stretch/>
        </p:blipFill>
        <p:spPr>
          <a:xfrm>
            <a:off x="7620120" y="2514600"/>
            <a:ext cx="1228680" cy="32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RRECTIONS AND REPE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ORRECTING THE WORD “CORRECTION” IS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SKING FOR SOMETHING TO BE REPEATED THE WORDS “SAY AGAIN” AR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40" y="6545160"/>
            <a:ext cx="1356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PETI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SSNA GOLF ALPHA TANGO HO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Y FOR TAKE OFF ON RUNWAY ZERO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 RIGHT TURN OUT-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040" y="6545160"/>
            <a:ext cx="1356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19520" y="4281480"/>
            <a:ext cx="36576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9:15:04Z</dcterms:created>
  <dc:creator>DND</dc:creator>
  <dc:description/>
  <dc:language>en-US</dc:language>
  <cp:lastModifiedBy>dnd</cp:lastModifiedBy>
  <dcterms:modified xsi:type="dcterms:W3CDTF">1999-03-30T18:31:59Z</dcterms:modified>
  <cp:revision>8</cp:revision>
  <dc:subject/>
  <dc:title>REPLYING</dc:title>
</cp:coreProperties>
</file>