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927-B199-45B5-923A-62EEB4B1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628-20F8-4191-9AA5-B8D7844A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9740-FE31-42EE-A1E5-614B51E2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676-7559-4FB0-855E-8FB45DEA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0B4-909A-4C61-A41B-23892364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D8C-DFAB-4110-A883-8C662BC2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0BB-A335-4C3C-A04F-6AF3C0E1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A2C-1EDB-4366-82C8-DE73F21F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CD3-6DD6-43CE-A164-C11773AF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CB28-FF57-40B5-8F5B-1AA8D9CC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677-2FE6-4E80-BF0D-003138E3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37D-EEFC-4241-8105-EDBE4AB6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D9E7-B81E-489D-85D9-64F71ED07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SIG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when threatened by grave or imminent danger or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ware of a threat of grave or imminent d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4267080"/>
            <a:ext cx="344016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DAY spoken three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s THI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ll sign of the station in di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981080" y="2971800"/>
          <a:ext cx="525780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971800"/>
                    <a:ext cx="52578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MESSAG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533520" y="380880"/>
            <a:ext cx="11582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2" marL="1040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ress signal “MAYDAY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ll sign of station in distr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ure of the distress condition and kind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ance required (i.e. what has happene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ntion of the person in comma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00400" y="4952880"/>
            <a:ext cx="28954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MESSAG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533880" y="10666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iculars of its posi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persons 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rd and injuries (if applicabl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ther information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ght facilitate rescue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ll signal of the st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ist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35304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DAY-MAYDAY-MAY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FOXTROT OSCAR NOVEMBER ROM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ZERO MILES SOUTH OF GRAND FALLS AT ONE SEVEN TWO FIVE EAS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THOUS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OULS A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SSNA 185 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ATTEMPT CRASH LANDING ON 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-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CEIPT OF A DISTRESS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ll sign of the station in di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s THIS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ll sign of the station acknowledging recei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s RECEIVED MAY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124080" y="3962520"/>
          <a:ext cx="2667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962520"/>
                    <a:ext cx="2667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CEIPT OF DISTRESS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XTROT OSCAR NOVEMBER ROM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GANDER RADIO-GANDER RADIO-GANDER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MAY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NDER RADIO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ISTRESS PROCEDURE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the sentences so that they are in the proper order of a distress procedur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__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ulars of its 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ther information that might facilitate resc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 sign of the station in distress. (o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ess signal “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YD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e of the distress condition and kind of assistance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ntion of the person in com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 sign of station in distress. (Three tim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 of persons on board and injuries. (If applic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4:33:50Z</dcterms:created>
  <dc:creator>DND</dc:creator>
  <dc:description/>
  <dc:language>en-US</dc:language>
  <cp:lastModifiedBy>dnd</cp:lastModifiedBy>
  <cp:lastPrinted>1999-03-12T19:20:08Z</cp:lastPrinted>
  <dcterms:modified xsi:type="dcterms:W3CDTF">1999-03-30T18:37:02Z</dcterms:modified>
  <cp:revision>12</cp:revision>
  <dc:subject/>
  <dc:title>DISTRESS SIGNAL</dc:title>
</cp:coreProperties>
</file>