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E4A1-9C03-4D7E-93FE-6045BBA1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D11-9663-4D91-9C1E-D3160E8C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FF6-1DA1-4EFD-9A30-EB7ADDDC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920B-DFB0-4F2B-8997-24783BB8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7BD2-2807-4D46-8950-023E4300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98E-13EC-4DAD-9E96-79AD42A6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5DF-8399-4DBF-81CC-0EDFC54B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B65F-1C69-4E21-9E59-AEF31EE3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4DB1-6EDE-424E-9D6E-D68B607A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A2B-F6AE-47C2-B476-02A74256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29A5-3714-4CB5-BCE8-108D9CBE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E085-B586-4B9A-AC47-5C7BAC9A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5CBC-F06C-4A05-951E-C0F740609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he 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phere" descr=""/>
          <p:cNvPicPr/>
          <p:nvPr/>
        </p:nvPicPr>
        <p:blipFill>
          <a:blip r:embed="rId1"/>
          <a:srcRect l="7592" t="0" r="11411" b="4386"/>
          <a:stretch/>
        </p:blipFill>
        <p:spPr>
          <a:xfrm>
            <a:off x="2057400" y="1447920"/>
            <a:ext cx="5486400" cy="497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 flipV="1">
            <a:off x="3804120" y="1678320"/>
            <a:ext cx="87840" cy="22428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5469120" y="5416920"/>
            <a:ext cx="110880" cy="214200"/>
          </a:xfrm>
          <a:prstGeom prst="line">
            <a:avLst/>
          </a:prstGeom>
          <a:ln w="5724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09040" y="167652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56680" y="557856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s in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ly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5720" y="13716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 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5720" y="54864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 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429000" y="5257800"/>
            <a:ext cx="1981080" cy="4572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81480" y="1693800"/>
            <a:ext cx="552240" cy="34596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638320" y="1981080"/>
            <a:ext cx="1143000" cy="358164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885840" y="1752120"/>
            <a:ext cx="2895480" cy="228600"/>
          </a:xfrm>
          <a:prstGeom prst="line">
            <a:avLst/>
          </a:prstGeom>
          <a:ln w="28440">
            <a:solidFill>
              <a:srgbClr val="4d4d4d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Magnetic Po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ag2" descr=""/>
          <p:cNvPicPr/>
          <p:nvPr/>
        </p:nvPicPr>
        <p:blipFill>
          <a:blip r:embed="rId1"/>
          <a:srcRect l="11629" t="0" r="16427" b="0"/>
          <a:stretch/>
        </p:blipFill>
        <p:spPr>
          <a:xfrm>
            <a:off x="1523880" y="1425600"/>
            <a:ext cx="61722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Vari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angle between the true meridian and the magnetic meridian.  Therefore, in the Northern Hemisphere, variation is the angle between true north and magnetic north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es drawn on a chart joining places having the same variation are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ogonic lin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ines drawn on a chart joining places having no variation are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gonic lin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23:08:58Z</dcterms:created>
  <dc:creator>RCIS(A)</dc:creator>
  <dc:description/>
  <dc:language>en-US</dc:language>
  <cp:lastModifiedBy>dnd</cp:lastModifiedBy>
  <cp:lastPrinted>1999-03-26T20:28:20Z</cp:lastPrinted>
  <dcterms:modified xsi:type="dcterms:W3CDTF">1999-03-30T14:16:49Z</dcterms:modified>
  <cp:revision>36</cp:revision>
  <dc:subject/>
  <dc:title>Navigating Position</dc:title>
</cp:coreProperties>
</file>