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D16-9B92-455F-97E3-B016C240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7FC-ACA9-45BE-AD1F-E6982B45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1EF-9D02-4611-AB5F-6D188B50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01C-20A3-4C96-830D-E5E3A79F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61D-761A-4B56-A025-309959EF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369-0123-4DB2-9386-D1DAEBA9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D98-3102-4855-A9CB-39B8F140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53E-B214-44CB-9E55-7A7AE06E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3A9-339D-45F1-87C9-DCAFCFAA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C76-24B1-4F19-A3AC-345BC9C4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745-777E-4779-B753-74C292B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D55-81DF-4092-A5AB-8B711AFD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FB73-9269-41A3-A06D-C46ED61D2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63880" y="152280"/>
            <a:ext cx="513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Carburet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rb" descr=""/>
          <p:cNvPicPr/>
          <p:nvPr/>
        </p:nvPicPr>
        <p:blipFill>
          <a:blip r:embed="rId1"/>
          <a:srcRect l="0" t="0" r="15406" b="16010"/>
          <a:stretch/>
        </p:blipFill>
        <p:spPr>
          <a:xfrm>
            <a:off x="990720" y="1066680"/>
            <a:ext cx="74102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97080" y="76320"/>
            <a:ext cx="48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Carburetor 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ce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476760" cy="542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8160" y="3733920"/>
            <a:ext cx="155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MPY 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5400" y="10666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40680" y="257508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82120" y="524196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8640" y="4143960"/>
            <a:ext cx="542160" cy="7038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337080" y="2734200"/>
            <a:ext cx="888840" cy="176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5280" y="1460520"/>
            <a:ext cx="6480" cy="888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796680" y="5438880"/>
            <a:ext cx="1607040" cy="187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ingy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413480" cy="5386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38088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each part of the carburetor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3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6002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8954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8862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57150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54864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876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27432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10080" y="2209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27432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29920" y="380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7621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7:38:52Z</dcterms:created>
  <dc:creator>RC Air Cadets</dc:creator>
  <dc:description/>
  <dc:language>en-US</dc:language>
  <cp:lastModifiedBy>dnd</cp:lastModifiedBy>
  <cp:lastPrinted>1999-03-01T18:26:34Z</cp:lastPrinted>
  <dcterms:modified xsi:type="dcterms:W3CDTF">1999-03-30T13:11:26Z</dcterms:modified>
  <cp:revision>4</cp:revision>
  <dc:subject/>
  <dc:title>No Slide Title</dc:title>
</cp:coreProperties>
</file>