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659-9DAB-451B-87CF-8AF8F4040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7C4-ABA1-4046-8FA7-DA1F13C6C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5080-5E7E-4EAE-91C0-960B2431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4E13-8B18-4BE4-A428-CF4ACEBD2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CA4-5DD1-4493-9C02-001EC486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0C9-7152-442B-8D88-D3260CAA7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DF54-26BE-49E5-B219-20AB238B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B4FC-0CF8-44A0-BD9D-693F3AB4F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B84D-397B-40AE-88AC-3BE42328C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F9EF-C71B-4557-BE76-CC43FAE4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982A-DADF-46BE-A1D4-F393729D3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930-31A2-473E-8CB6-7D4D86FA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DABB-8F0A-4939-AA6C-A54D7348D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23T15:24:37Z</dcterms:modified>
  <cp:revision>21</cp:revision>
  <dc:subject/>
  <dc:title>No Slide Title</dc:title>
</cp:coreProperties>
</file>