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A2C8-BC13-49B2-9B64-1E0FDED75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14A5-0706-49ED-9E7A-E3BE55600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634F-8A20-453D-92E3-5FB6E228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6EEC-CED1-4FA8-9575-8EED66530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3FCE-7009-427D-8FD5-6D829B24F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FFA0-8CA4-4E80-B14A-0A5611C3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53A4-2AD9-4476-8400-3E228222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7C5E-9252-42A1-91C9-11E0B1805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6B45-D2DE-48AE-B150-CA8F7CF7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F13B-056A-44D6-934A-F7FD1D13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33EA-7C2B-4995-9977-D86B1362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141A-2F72-4951-9D67-B4AEE297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67568-7EC9-4A19-8505-5E3ABFFE6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DET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5105520" y="5638680"/>
            <a:ext cx="1334880" cy="3008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14400" y="6858000"/>
            <a:ext cx="677880" cy="1333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048120" y="7543800"/>
            <a:ext cx="914400" cy="8888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371600" y="2971800"/>
            <a:ext cx="1227240" cy="6858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57200" y="4724280"/>
            <a:ext cx="1008000" cy="774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962520" y="2666880"/>
            <a:ext cx="879480" cy="12304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5257800" y="4114800"/>
            <a:ext cx="1251000" cy="1057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2286000" y="4495680"/>
            <a:ext cx="2209680" cy="2111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143000" y="609480"/>
            <a:ext cx="4343400" cy="141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cycling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9640" y="8763120"/>
            <a:ext cx="126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4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838080"/>
            <a:ext cx="5715000" cy="11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he Three R's</a:t>
            </a:r>
            <a:endParaRPr b="1" i="1" lang="en-US" sz="24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4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9640" y="8763120"/>
            <a:ext cx="1265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4.04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676520" y="3200400"/>
            <a:ext cx="3581280" cy="35542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514600" y="25146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Redu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28600" y="5715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Re-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00600" y="57913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Re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04920" y="7402680"/>
            <a:ext cx="1066680" cy="1020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676520" y="7404120"/>
            <a:ext cx="1066680" cy="1017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3048120" y="7402680"/>
            <a:ext cx="1066680" cy="1020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5"/>
          <a:stretch/>
        </p:blipFill>
        <p:spPr>
          <a:xfrm>
            <a:off x="4343400" y="7402680"/>
            <a:ext cx="1066680" cy="102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6"/>
          <a:stretch/>
        </p:blipFill>
        <p:spPr>
          <a:xfrm>
            <a:off x="5638680" y="7402680"/>
            <a:ext cx="1067040" cy="10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5T20:18:40Z</dcterms:created>
  <dc:creator>dnd</dc:creator>
  <dc:description/>
  <dc:language>en-US</dc:language>
  <cp:lastModifiedBy>dnd</cp:lastModifiedBy>
  <cp:lastPrinted>1999-01-06T13:00:59Z</cp:lastPrinted>
  <dcterms:modified xsi:type="dcterms:W3CDTF">1999-02-22T14:18:13Z</dcterms:modified>
  <cp:revision>9</cp:revision>
  <dc:subject/>
  <dc:title>No Slide Title</dc:title>
</cp:coreProperties>
</file>