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CEEE-8457-476A-95D0-D01479BF3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0CDA-288A-457B-B40F-F91B640B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B141-76BE-4A1D-ADA5-7B956D17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7ADD-3147-4FE8-948D-7C7CCCBAB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85E9-ED9E-4462-BE61-0DEDAAB8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9728-77C6-4B7D-A7C0-1F6B0A52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CDDA-78BE-414E-BEFD-D918CE89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99AC-A1C2-479D-9E66-C0AB03F2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31A-8C76-41BF-BF7E-5D9CCE89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41E-6ECD-42B1-B286-48EDBF5F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BFF9-1E4F-40E7-94ED-2EB80D55B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41F-E352-455F-A509-2984105B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4DD-9196-4BB9-9990-479645798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ERCI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762120" y="1600200"/>
            <a:ext cx="9906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deep breath before reading each of the following sentences. Then read the entire sentence out loud before taking another br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w let it work! Mischief, thou art afoot! Take thou what course thou wi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t your speech be with grace, seasoned salt, that ye may know how ye ought to answer every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Mohammedan moon rides at midnight in the moun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s of ancient Ara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08840" y="6613560"/>
            <a:ext cx="213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2 - Voice Exercises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4T12:59:21Z</dcterms:modified>
  <cp:revision>5</cp:revision>
  <dc:subject/>
  <dc:title>FACTORS THAT AFFECT THE HUMAN VOICE </dc:title>
</cp:coreProperties>
</file>