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DBE8-C7A8-4807-BEE5-B7C4B1FE5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7EA8-899B-46F8-B74A-DAA4F4540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6A65-3333-41DE-B917-97992978E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0389-74FA-4D26-AE80-862B65FDB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43B0-9363-48D4-99AD-13177BB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FE25-B9E0-4B4F-8C6C-8E73F449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0FB0-DAF2-4C5D-921C-39C45AACE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4EC9-3402-493F-807A-1E43A77A0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0A59-AFB4-489E-AC84-68A45A71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7C50-05E3-49DD-990D-6C6FAD0E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37B6-F6FF-4A67-A10F-93C8B1DA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67D8-F981-40B5-869A-89F1733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F0B77-F9A1-47C0-876E-CB28FB293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AN-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an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N-TO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eanto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eight2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2260440" cy="5343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 OF RIDGE 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0600" y="1523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20004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PRUCE BOUGH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EES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0880" y="21337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LLEN TREE 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newtre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1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4:41:36Z</dcterms:created>
  <dc:creator>DND</dc:creator>
  <dc:description/>
  <dc:language>en-US</dc:language>
  <cp:lastModifiedBy>DND</cp:lastModifiedBy>
  <cp:lastPrinted>1999-03-01T14:46:34Z</cp:lastPrinted>
  <dcterms:modified xsi:type="dcterms:W3CDTF">1999-03-01T18:43:16Z</dcterms:modified>
  <cp:revision>11</cp:revision>
  <dc:subject/>
  <dc:title>SPRUCE BOUGH COVERING</dc:title>
</cp:coreProperties>
</file>