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D1A2-072F-44C5-B4BC-F52B3C3DB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16B1-0EBF-4091-AB24-5DC716AD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014-47CB-4F2F-A979-DA58677F0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5751-7DBB-46E6-82A1-6930ADFE3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BD6-1A70-4CE1-B2A2-009D2CA0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B9E1-8BBC-4B73-9E1F-282FECF59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3D9-32F6-47C8-8500-C6D36A6E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89ED-644D-42E9-A6E2-EDDF766A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C98-99E5-4125-9739-B58B8A8B6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B374-E765-47DE-85ED-70744F55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6A4-1FD1-4B65-AD78-8E8D0871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531-47DB-41B8-ACBA-8E67BD60D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B9E2-D52E-4703-8372-9196ABFDF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76520"/>
          <a:ext cx="553392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553392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410080" y="838080"/>
          <a:ext cx="7088400" cy="81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838080"/>
                    <a:ext cx="70884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03400" y="1600200"/>
          <a:ext cx="5754600" cy="6629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3400" y="1600200"/>
                    <a:ext cx="57546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334120" y="838080"/>
          <a:ext cx="7468920" cy="85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838080"/>
                    <a:ext cx="74689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990720" y="1752480"/>
          <a:ext cx="5562360" cy="525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752480"/>
                    <a:ext cx="5562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990720" y="1600200"/>
          <a:ext cx="5234040" cy="63244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600200"/>
                    <a:ext cx="52340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14:51Z</dcterms:modified>
  <cp:revision>7</cp:revision>
  <dc:subject/>
  <dc:title>No Slide Title</dc:title>
</cp:coreProperties>
</file>