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5E96-DCCB-4388-AFB3-BC517E27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255B-E9A3-49D9-A69E-D581EE2D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DFE8-37A7-4C36-BF5C-7944475B5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A92-18C2-4D0F-859F-91C70FB1B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6F9E-40DB-46E2-88A4-2EB97668F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E7C1-136B-4CFC-9A16-C1111877C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9B7D-A133-468A-8F0B-C8AEDDA1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A4BF-06F7-4E67-9923-011C8561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C26C-FC17-407C-965F-BBE57DA20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0155-35FC-4970-ABF9-55E8D125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6447-EBB5-47A3-876C-0466BC65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A8BE-B25E-4319-8D05-1099EFB0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B9D5-C294-438E-8D99-485320088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267080" y="838080"/>
          <a:ext cx="7012080" cy="8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838080"/>
                    <a:ext cx="70120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90720" y="1828800"/>
          <a:ext cx="5529240" cy="579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828800"/>
                    <a:ext cx="5529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523880" y="1828800"/>
          <a:ext cx="4319640" cy="6781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828800"/>
                    <a:ext cx="431964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00:18:58Z</dcterms:created>
  <dc:creator>dnd</dc:creator>
  <dc:description/>
  <dc:language>en-US</dc:language>
  <cp:lastModifiedBy>Jamie Richards</cp:lastModifiedBy>
  <cp:lastPrinted>1999-01-07T00:25:20Z</cp:lastPrinted>
  <dcterms:modified xsi:type="dcterms:W3CDTF">1999-04-23T18:51:32Z</dcterms:modified>
  <cp:revision>5</cp:revision>
  <dc:subject/>
  <dc:title>No Slide Title</dc:title>
</cp:coreProperties>
</file>