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C750-937E-4DEA-A50A-1DFB09C5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213E-BE4D-4F99-9CEC-0A8122F4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70D0-D5B4-487E-8BF1-1453DD12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0285-5453-43F9-A88A-00DD2DAE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1E56-A84C-4E95-AF26-7A0B8601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98F0-DD7C-46A6-89CD-9448C39D6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04F-9D74-4DCF-9BF5-2A26794C4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948-9240-4CA0-BFAC-FA042C25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D77-237D-4EAC-8209-F76ECC5B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26E2-FD93-4151-B518-F13F8778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7562-2DC0-4AF3-A249-9DC1447D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328-E4A6-4323-9889-80B42755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99410-99E9-4A7A-B8B9-6A1382C8C4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8080" y="6572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LEADERS MUST HAVE CONFIDENCE I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soc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mse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2713320" cy="4003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05720" y="2362320"/>
            <a:ext cx="1571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20:18:40Z</dcterms:created>
  <dc:creator>dnd</dc:creator>
  <dc:description/>
  <dc:language>en-US</dc:language>
  <cp:lastModifiedBy>dnd</cp:lastModifiedBy>
  <cp:lastPrinted>1999-01-06T13:00:59Z</cp:lastPrinted>
  <dcterms:modified xsi:type="dcterms:W3CDTF">1999-02-19T19:22:45Z</dcterms:modified>
  <cp:revision>16</cp:revision>
  <dc:subject/>
  <dc:title>No Slide Title</dc:title>
</cp:coreProperties>
</file>