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7809-F534-44C8-961D-EFDE1C857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51F2-A80A-45C1-AE10-298BC134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E43D-4567-43AC-9F76-17DD35652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5B18-475B-4583-A7DA-B0A8CABFA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03B3-4B33-46AA-AB8C-7AEFC783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BE22-E076-4752-A379-D3E34BE2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C72F-F5BC-4644-9ABB-65538079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2DE8-C57B-48E4-8EB9-60BBD899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8E90-C90A-40A6-906F-CCC5FC16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65D7-465A-4540-A039-3F71A0D7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3711-BE40-49AB-B8B0-2FF19005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BF20-1C25-4882-90B4-5DFDECF0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B6A8-5D5C-4058-9211-950E482D93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03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ICIENCY LEVEL TWO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43080" y="1523880"/>
          <a:ext cx="8800920" cy="510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1523880"/>
                    <a:ext cx="88009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03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TWO  SUMMER COUR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62120" y="1143000"/>
          <a:ext cx="11753640" cy="693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43000"/>
                    <a:ext cx="11753640" cy="693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1-28T21:30:18Z</cp:lastPrinted>
  <dcterms:modified xsi:type="dcterms:W3CDTF">1999-01-28T21:35:57Z</dcterms:modified>
  <cp:revision>24</cp:revision>
  <dc:subject/>
  <dc:title>No Slide Title</dc:title>
</cp:coreProperties>
</file>