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D9B2-9740-44E7-A8DC-DD11616BE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EE05-A371-4B63-BDD2-AD0F5255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2F12-FB4A-43C8-8562-A6D6C8F01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BFF4-4D97-432F-B4F1-AFB3B124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89AB-F82C-46E3-B82A-1E4EC94D4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1B6E-DDFD-4BF7-A57D-EBF48A67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393E-F912-48FE-B036-7ABEFE0EF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8E5F-D24A-4556-A4B6-AEDF5F302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F3A8-DA14-4586-8FCD-B650F4B6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D07C-C40F-48EE-8EE7-2BF6FDE0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EC3B-FFA5-4768-8CA0-08C78BFE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6E0E-D840-421B-955F-29D97CC6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8E447-896E-4656-9E7B-26508FAF7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8400"/>
            <a:ext cx="41148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2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B - Crossword Puzzle - Qualities of a Lead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43800" y="304920"/>
          <a:ext cx="66348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04920"/>
                    <a:ext cx="6634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962520" y="5181480"/>
          <a:ext cx="68580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181480"/>
                    <a:ext cx="685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0020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343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4038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37339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34290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40384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43434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990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3124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5920" y="4952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3434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40384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6483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9528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257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5562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9907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858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2952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002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5257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4952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5562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4343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5867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6172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5920" y="2209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1600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2819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05920" y="2514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3124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05920" y="2209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1905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3733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80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685800"/>
            <a:ext cx="152388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ROS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 Firmness of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  Ability to disreg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ar, and act wit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ve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  When a leader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ally accounta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 their action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3 w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514600"/>
            <a:ext cx="192060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OW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Take time to sh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  how thing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 d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To decide on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sue quickly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ffectiv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A strong interes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miration or gr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ger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 The state of  be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e and faithful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oted to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 Being reli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 Fair and just in charac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behavior, free of dece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untruthfu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. Feeling of self-reliance o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1-29T14:15:23Z</cp:lastPrinted>
  <dcterms:modified xsi:type="dcterms:W3CDTF">1999-02-19T14:51:49Z</dcterms:modified>
  <cp:revision>15</cp:revision>
  <dc:subject/>
  <dc:title>No Slide Title</dc:title>
</cp:coreProperties>
</file>