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0B18-92C8-4721-B70B-FDC0857B5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AC4-CDB4-42FD-A345-E660FF3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3CE7-BE0D-4145-875C-927EE382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8DA-107E-4A59-9B98-BB48C3872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F148-69F0-4A09-8B89-FB27C30F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9E55-0ED7-4BA8-BAC2-5B9EE4899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8CCD-DD26-414B-AC78-5985DDE1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DA88-2276-4735-B672-DCED69266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DB3-3CF1-4AC3-8C5C-6BEF379E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FF9C-38A9-4158-BD1D-EEA414E4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CA14-B5E3-4523-B91D-34567998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D56E-E8D6-4F8D-A126-335019BA1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A1B3-F964-49DE-9319-E4C499F4B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ilet" descr=""/>
          <p:cNvPicPr/>
          <p:nvPr/>
        </p:nvPicPr>
        <p:blipFill>
          <a:blip r:embed="rId1"/>
          <a:srcRect l="24341" t="27920" r="55050" b="47195"/>
          <a:stretch/>
        </p:blipFill>
        <p:spPr>
          <a:xfrm>
            <a:off x="6172200" y="4251240"/>
            <a:ext cx="2193840" cy="2079720"/>
          </a:xfrm>
          <a:prstGeom prst="rect">
            <a:avLst/>
          </a:prstGeom>
          <a:ln w="0">
            <a:noFill/>
          </a:ln>
        </p:spPr>
      </p:pic>
      <p:pic>
        <p:nvPicPr>
          <p:cNvPr id="42" name="seal" descr=""/>
          <p:cNvPicPr/>
          <p:nvPr/>
        </p:nvPicPr>
        <p:blipFill>
          <a:blip r:embed="rId2"/>
          <a:srcRect l="22675" t="21179" r="56619" b="54150"/>
          <a:stretch/>
        </p:blipFill>
        <p:spPr>
          <a:xfrm>
            <a:off x="6400800" y="2133720"/>
            <a:ext cx="2138400" cy="1912680"/>
          </a:xfrm>
          <a:prstGeom prst="rect">
            <a:avLst/>
          </a:prstGeom>
          <a:ln w="0">
            <a:noFill/>
          </a:ln>
        </p:spPr>
      </p:pic>
      <p:pic>
        <p:nvPicPr>
          <p:cNvPr id="43" name="fan" descr=""/>
          <p:cNvPicPr/>
          <p:nvPr/>
        </p:nvPicPr>
        <p:blipFill>
          <a:blip r:embed="rId3"/>
          <a:srcRect l="18175" t="14389" r="59924" b="56549"/>
          <a:stretch/>
        </p:blipFill>
        <p:spPr>
          <a:xfrm>
            <a:off x="457200" y="1154160"/>
            <a:ext cx="2203560" cy="2198520"/>
          </a:xfrm>
          <a:prstGeom prst="rect">
            <a:avLst/>
          </a:prstGeom>
          <a:ln w="0">
            <a:noFill/>
          </a:ln>
        </p:spPr>
      </p:pic>
      <p:pic>
        <p:nvPicPr>
          <p:cNvPr id="44" name="yield" descr=""/>
          <p:cNvPicPr/>
          <p:nvPr/>
        </p:nvPicPr>
        <p:blipFill>
          <a:blip r:embed="rId4"/>
          <a:srcRect l="21173" t="11793" r="58724" b="59948"/>
          <a:stretch/>
        </p:blipFill>
        <p:spPr>
          <a:xfrm>
            <a:off x="685800" y="3429000"/>
            <a:ext cx="1600200" cy="168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0960" y="152280"/>
            <a:ext cx="558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unctions of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440" y="156672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Coo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800" y="27874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Se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440" y="400680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Lubric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160" y="53020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Flu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f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6160" y="17208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6160" y="301608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6160" y="42354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0400" y="551664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20440" y="550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50120" y="2454120"/>
            <a:ext cx="2084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12:56:01Z</dcterms:created>
  <dc:creator>RC Air Cadets</dc:creator>
  <dc:description/>
  <dc:language>en-US</dc:language>
  <cp:lastModifiedBy>dnd</cp:lastModifiedBy>
  <cp:lastPrinted>1999-02-26T17:18:48Z</cp:lastPrinted>
  <dcterms:modified xsi:type="dcterms:W3CDTF">1999-03-29T15:18:52Z</dcterms:modified>
  <cp:revision>11</cp:revision>
  <dc:subject/>
  <dc:title>No Slide Title</dc:title>
</cp:coreProperties>
</file>