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F508-3907-44CC-BFA2-966BC16A9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3D8B-19CA-4B0A-A54A-C4699388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DEB6-23CE-4112-BA9C-4CD52F511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B91E-4BBB-4506-AB85-A9036D6D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2AFA-32C0-498D-AF10-5CDFAF4B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4199-1929-49CB-AE2D-30836938D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5FD-52F3-4561-9207-1F8FF7EB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6ED4-03BF-4E40-BD63-57F27F88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3701-2B7A-4DB3-98AB-55B8EEFF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BF45-9C19-4343-8311-2EA4DE59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9CB-276C-4532-965C-DE9AF948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361-A84A-4990-8A16-345937E92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F4D7-D8B2-458B-8BD1-61F3F454B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ston2" descr=""/>
          <p:cNvPicPr/>
          <p:nvPr/>
        </p:nvPicPr>
        <p:blipFill>
          <a:blip r:embed="rId1"/>
          <a:stretch/>
        </p:blipFill>
        <p:spPr>
          <a:xfrm>
            <a:off x="2041560" y="990720"/>
            <a:ext cx="481644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560" y="152280"/>
            <a:ext cx="76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ernal Combustion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29559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02040" y="3031200"/>
            <a:ext cx="1119240" cy="10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4471560" y="2336760"/>
            <a:ext cx="1231200" cy="368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177000" y="3996360"/>
            <a:ext cx="580320" cy="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27360" y="127944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k Plu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760" y="37940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75480" y="2651040"/>
            <a:ext cx="15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81160" y="1736640"/>
            <a:ext cx="94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85000" y="1736640"/>
            <a:ext cx="110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5056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516672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jet" descr=""/>
          <p:cNvPicPr/>
          <p:nvPr/>
        </p:nvPicPr>
        <p:blipFill>
          <a:blip r:embed="rId1"/>
          <a:stretch/>
        </p:blipFill>
        <p:spPr>
          <a:xfrm>
            <a:off x="966960" y="1771560"/>
            <a:ext cx="6805440" cy="3333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34000" y="152280"/>
            <a:ext cx="30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Jet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88920" y="1905120"/>
            <a:ext cx="157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29960" y="1905120"/>
            <a:ext cx="26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ustion Cha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2120" y="1905120"/>
            <a:ext cx="25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 Tur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68400" y="48610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In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48769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Bur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2286000"/>
            <a:ext cx="9903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1983960" y="3654360"/>
            <a:ext cx="524880" cy="122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962520" y="2286000"/>
            <a:ext cx="76176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668400" y="4281120"/>
            <a:ext cx="784800" cy="60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105520" y="2286000"/>
            <a:ext cx="12189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urbo" descr=""/>
          <p:cNvPicPr/>
          <p:nvPr/>
        </p:nvPicPr>
        <p:blipFill>
          <a:blip r:embed="rId1"/>
          <a:stretch/>
        </p:blipFill>
        <p:spPr>
          <a:xfrm>
            <a:off x="593640" y="1969920"/>
            <a:ext cx="7255080" cy="344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042280" y="173160"/>
            <a:ext cx="50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urboprop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15200" y="167652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34880" y="51055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ar 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5680" y="510552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1828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4440" y="1676520"/>
            <a:ext cx="16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u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8120" y="1828800"/>
            <a:ext cx="157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85760" y="5029200"/>
            <a:ext cx="164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40400" y="50292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In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867280" y="4495680"/>
            <a:ext cx="10670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723920" y="3885840"/>
            <a:ext cx="762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505320" y="3809520"/>
            <a:ext cx="68580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23623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981080" y="3962160"/>
            <a:ext cx="38124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209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647960" y="2362320"/>
            <a:ext cx="7596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472000" y="2227320"/>
            <a:ext cx="713880" cy="94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urbo%20prop" descr=""/>
          <p:cNvPicPr/>
          <p:nvPr/>
        </p:nvPicPr>
        <p:blipFill>
          <a:blip r:embed="rId1"/>
          <a:srcRect l="6304" t="8770" r="0" b="6918"/>
          <a:stretch/>
        </p:blipFill>
        <p:spPr>
          <a:xfrm>
            <a:off x="266760" y="1370160"/>
            <a:ext cx="2705040" cy="1155600"/>
          </a:xfrm>
          <a:prstGeom prst="rect">
            <a:avLst/>
          </a:prstGeom>
          <a:ln w="0">
            <a:noFill/>
          </a:ln>
        </p:spPr>
      </p:pic>
      <p:pic>
        <p:nvPicPr>
          <p:cNvPr id="94" name="jet" descr=""/>
          <p:cNvPicPr/>
          <p:nvPr/>
        </p:nvPicPr>
        <p:blipFill>
          <a:blip r:embed="rId2"/>
          <a:srcRect l="4032" t="12346" r="0" b="4666"/>
          <a:stretch/>
        </p:blipFill>
        <p:spPr>
          <a:xfrm>
            <a:off x="227160" y="5153040"/>
            <a:ext cx="2943000" cy="1247760"/>
          </a:xfrm>
          <a:prstGeom prst="rect">
            <a:avLst/>
          </a:prstGeom>
          <a:ln w="0">
            <a:noFill/>
          </a:ln>
        </p:spPr>
      </p:pic>
      <p:pic>
        <p:nvPicPr>
          <p:cNvPr id="95" name="piston2" descr=""/>
          <p:cNvPicPr/>
          <p:nvPr/>
        </p:nvPicPr>
        <p:blipFill>
          <a:blip r:embed="rId3"/>
          <a:srcRect l="13141" t="6653" r="15232" b="3167"/>
          <a:stretch/>
        </p:blipFill>
        <p:spPr>
          <a:xfrm>
            <a:off x="685800" y="2657520"/>
            <a:ext cx="1719360" cy="2600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2560" y="365040"/>
            <a:ext cx="483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y each engine typ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8040" y="441360"/>
            <a:ext cx="319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31920" y="175248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47760" y="365760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47760" y="55627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12:59:42Z</dcterms:created>
  <dc:creator>RC Air Cadets</dc:creator>
  <dc:description/>
  <dc:language>en-US</dc:language>
  <cp:lastModifiedBy>dnd</cp:lastModifiedBy>
  <cp:lastPrinted>1999-02-25T13:36:32Z</cp:lastPrinted>
  <dcterms:modified xsi:type="dcterms:W3CDTF">1999-03-24T20:22:57Z</dcterms:modified>
  <cp:revision>7</cp:revision>
  <dc:subject/>
  <dc:title>No Slide Title</dc:title>
</cp:coreProperties>
</file>