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6E99-BD08-463F-800C-E014BADD0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F7BA-3B9C-4AA7-9DBC-D80EC97D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0FB3-13FE-4480-A176-C885EBB5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3465-3908-444A-B586-B865367CE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875-9494-4C15-A882-0F0E664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DA22-76BE-40B4-8718-0B08BC08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E9E-9E5C-4CF0-98A6-D5486A40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EB6-22F6-450A-89C9-A5BAA9C1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06A3-C856-460E-A8D1-6BD667BB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593-B867-4365-AFAC-7080C83C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6A3E-E911-4BE1-B56F-A83689EE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C70-B299-437D-9BFC-DC92168B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A5AE-EC0C-4095-A61C-E03F730C32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1-07T00:39:44Z</dcterms:modified>
  <cp:revision>23</cp:revision>
  <dc:subject/>
  <dc:title>No Slide Title</dc:title>
</cp:coreProperties>
</file>