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571B-D1AE-4164-BB68-682B9000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C88-DC43-4DD0-A7A5-810F3C45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7F7E-07D6-484F-854B-1DFBC3C35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8025-D7E6-46FC-A355-4986E1953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C82A-91DE-4767-A6CB-37B3388A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0C95-BC71-40C2-B122-F900EB3BD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BF1F-7DA4-4648-A813-8E93070E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ACB5-EE71-4248-AEC2-6C9BCB86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60E-60F5-460F-8D7D-5CB840AD3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1658-294A-4BB5-B959-0C8966C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F9EC-6418-4873-83A3-3849BB73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1DD0-F02E-43BB-B760-1896CF8D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414B-312D-4DC3-9BD9-5DC3E73B0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83160" y="152280"/>
            <a:ext cx="36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ake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ntake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7920" y="152280"/>
            <a:ext cx="56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ression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ompression" descr=""/>
          <p:cNvPicPr/>
          <p:nvPr/>
        </p:nvPicPr>
        <p:blipFill>
          <a:blip r:embed="rId1"/>
          <a:stretch/>
        </p:blipFill>
        <p:spPr>
          <a:xfrm>
            <a:off x="293688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52280"/>
            <a:ext cx="37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wer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ower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4880" y="15228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haust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xhaust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ntake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98144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compression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90512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power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190512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exhaust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1905120" cy="3886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6019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6019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6019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6019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57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 of each stroke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9080" y="457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838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20:12:16Z</dcterms:created>
  <dc:creator>RC Air Cadets</dc:creator>
  <dc:description/>
  <dc:language>en-US</dc:language>
  <cp:lastModifiedBy>dnd</cp:lastModifiedBy>
  <cp:lastPrinted>1999-02-26T20:16:12Z</cp:lastPrinted>
  <dcterms:modified xsi:type="dcterms:W3CDTF">1999-03-24T20:23:44Z</dcterms:modified>
  <cp:revision>10</cp:revision>
  <dc:subject/>
  <dc:title>No Slide Title</dc:title>
</cp:coreProperties>
</file>