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B4A41-ABE8-4F5E-89D6-6B5B7857C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945EB-4ACF-48D9-816E-34B0A6876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8E1F8-6804-4C4B-BE44-E7210BBEF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89E04-C2EE-49C9-874B-41DE13D82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72772-244D-4C41-B989-9A60EC18B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19C14-6DFC-4080-9B93-6FFAF8769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10B47-BEC4-4C5A-8236-8F54C5A29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AEFAA-FF6A-4137-B728-29CDC6DF3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A447D-2609-46D8-AC2B-F6CDC49B6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E4130-4178-44B4-8BD0-9C1230B71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28174-B69E-4BAF-92A3-AD4424A18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84D6D-0711-41B0-A139-01844EC71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873F0-E7AD-4FC1-8B77-42C8944CA9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228600"/>
          <a:ext cx="8763120" cy="198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28600"/>
                    <a:ext cx="8763120" cy="19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304920" y="1981080"/>
            <a:ext cx="236196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Britannic Bold"/>
              </a:rPr>
              <a:t>EATING WEL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200400" y="2743200"/>
            <a:ext cx="27432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Britannic Bold"/>
              </a:rPr>
              <a:t>BEING ACTIV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943600" y="2438280"/>
            <a:ext cx="320040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Britannic Bold"/>
              </a:rPr>
              <a:t>FEELING   GOOD ABOUT YOURSELF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2280" y="3352680"/>
            <a:ext cx="2959200" cy="3187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4114800"/>
            <a:ext cx="2806920" cy="242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958000" y="5029200"/>
            <a:ext cx="3186000" cy="1511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457200" y="3657600"/>
          <a:ext cx="2362320" cy="2576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3657600"/>
                    <a:ext cx="2362320" cy="257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3276720" y="4114800"/>
          <a:ext cx="2514600" cy="2209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276720" y="4114800"/>
                    <a:ext cx="2514600" cy="22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6705720" y="4952880"/>
          <a:ext cx="1676160" cy="14479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705720" y="4952880"/>
                    <a:ext cx="1676160" cy="14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671480" y="228600"/>
          <a:ext cx="6086520" cy="20574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671480" y="228600"/>
                    <a:ext cx="6086520" cy="20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/>
          <p:nvPr/>
        </p:nvSpPr>
        <p:spPr>
          <a:xfrm>
            <a:off x="75240" y="6545160"/>
            <a:ext cx="16052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406.01a Level Th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724280" y="6583320"/>
            <a:ext cx="4267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andout #1 - Maintaining a Safe and Healthy Lifesty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Valued Customer</dc:creator>
  <dc:description/>
  <dc:language>en-US</dc:language>
  <cp:lastModifiedBy>dnd</cp:lastModifiedBy>
  <cp:lastPrinted>1999-03-11T15:57:02Z</cp:lastPrinted>
  <dcterms:modified xsi:type="dcterms:W3CDTF">1999-03-11T15:57:04Z</dcterms:modified>
  <cp:revision>21</cp:revision>
  <dc:subject/>
  <dc:title>No Slide Title</dc:title>
</cp:coreProperties>
</file>