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3EBE-951F-494D-8934-2FE3472C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9839-D4E2-476C-9160-E0EFC71DF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6079-7A76-4CF7-9031-0D759742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738F-4EC8-45AC-AD0C-FFA039D0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2EFC-18A4-43F6-8174-6A3FE43C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2CC0-9AC0-4CA8-8B10-FD7A7E67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BD2B-29EE-465D-9A16-25623FA9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EEFB-D5A2-49D1-94E8-0833E3D6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1342-9FD8-45B8-A6C1-4A1DD5D74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AC62-ED07-46CF-BAB5-9AFE33C2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EC9F-EB31-4B04-BEC1-6978CD88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421F6-FFD2-45A2-B782-29AF92BB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85E0A-2B32-4478-8DDB-090B3FCBBD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MY CADET JUNIOR NCM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381320" cy="1019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52480" y="3200400"/>
            <a:ext cx="14004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33400" y="4724280"/>
            <a:ext cx="154332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05320" y="1752480"/>
            <a:ext cx="2130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3429000"/>
            <a:ext cx="3368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rpo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89480" y="4906800"/>
            <a:ext cx="4282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ster Corpo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MY CADET SENIOR NCM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1447920" cy="1209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24080" y="1143000"/>
            <a:ext cx="286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ge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24080" y="2666880"/>
            <a:ext cx="486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rrant Offi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5334120"/>
            <a:ext cx="5029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ef Warrant Offi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600200" y="365760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523880" y="487692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24080" y="3733920"/>
            <a:ext cx="571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ter Warrant Offi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5029200"/>
            <a:ext cx="1381320" cy="1019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14004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352680" y="2438280"/>
            <a:ext cx="1543320" cy="1295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1447920" cy="1209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505320" y="9907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57200" y="236232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3352680" y="403848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0" y="518148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80988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251460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121932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137160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266688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449568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295280"/>
            <a:ext cx="30481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Master Warrant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Serge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Chief Warrant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Master Cor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 Warrant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. Corpor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57913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 letter with correct rank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80880"/>
            <a:ext cx="754380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Y CADET RANK MATCHING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095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64008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04T22:22:14Z</cp:lastPrinted>
  <dcterms:modified xsi:type="dcterms:W3CDTF">1999-02-16T22:33:16Z</dcterms:modified>
  <cp:revision>21</cp:revision>
  <dc:subject/>
  <dc:title>No Slide Title</dc:title>
</cp:coreProperties>
</file>