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26CE4-70D4-4433-B6A0-CA32FB96E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9D91-786B-4486-AAF7-7B43E87E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7C59-CC8B-40F7-A88B-33B15532F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528E-06D2-40E1-A959-67488EE8B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CF99-E7F8-4290-846F-3FE7FC08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BB69-D16F-47AB-8CBE-D01F37EE4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7582-4E81-4DEB-8CCA-1364FE3D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44F4-BAF9-449F-9F20-8AAAD94A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77DD-5592-4772-8097-18656D50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9F52-90E8-4F43-A8CE-80EAF77B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135E-1525-47BF-8A66-76F7A91B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926E-77AF-4D34-BFEC-AADC61DC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7F47-899B-4B0B-B825-BD767914F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RABBIT SN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Rabbit" descr=""/>
          <p:cNvPicPr/>
          <p:nvPr/>
        </p:nvPicPr>
        <p:blipFill>
          <a:blip r:embed="rId1"/>
          <a:srcRect l="0" t="0" r="0" b="24075"/>
          <a:stretch/>
        </p:blipFill>
        <p:spPr>
          <a:xfrm>
            <a:off x="0" y="152388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QUIRREL SN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squirrel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543800" cy="5029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6T18:15:56Z</dcterms:created>
  <dc:creator>DND</dc:creator>
  <dc:description/>
  <dc:language>en-US</dc:language>
  <cp:lastModifiedBy>DND</cp:lastModifiedBy>
  <dcterms:modified xsi:type="dcterms:W3CDTF">1999-03-01T13:12:24Z</dcterms:modified>
  <cp:revision>2</cp:revision>
  <dc:subject/>
  <dc:title>RABBIT SNARE</dc:title>
</cp:coreProperties>
</file>