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58DA-FB08-4B1C-AA2A-4CB248B2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351E-943B-4341-82D0-D68D18EA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0CE4-FA38-49BF-B090-F78FF56E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A3AB-AC99-4BF1-833D-436284DDB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18E-2548-4CE0-A380-1E93E34E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EC34-EDEC-4C18-AF0A-C6902F80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138C-42CD-4DD2-960E-B0CAED2F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211-CA3A-441C-BED7-157EEAC6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48D1-5102-4629-B182-CE664AF5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45B-4FF7-49AD-BE58-26B0AAB5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AE9-1C00-44B1-9EFF-B24C40C2F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4AB2-32EC-469D-9E5B-3CC0A5EB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4B029-6909-4E46-9D8D-553214FCB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forward motion of an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types of drag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site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 drag is further broken into two typ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site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ite drag is the drag produced by those parts of the aircraft t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ribute to the production of lif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drag created by the form or shape of a body as it resists motion through the air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tendency of air flowing over a body to cling to it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duced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drag is the drag produced by those parts of the aircraft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roduction of l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result of the wing’s work and therefore a part of lift and can never be eli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rag2" descr=""/>
          <p:cNvPicPr/>
          <p:nvPr/>
        </p:nvPicPr>
        <p:blipFill>
          <a:blip r:embed="rId1"/>
          <a:stretch/>
        </p:blipFill>
        <p:spPr>
          <a:xfrm>
            <a:off x="946080" y="1339920"/>
            <a:ext cx="7740720" cy="417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6400" y="196524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160" y="4952880"/>
            <a:ext cx="17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6765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ELAG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KIN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2360" y="152280"/>
            <a:ext cx="35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pes of Dr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5:00:22Z</cp:lastPrinted>
  <dcterms:modified xsi:type="dcterms:W3CDTF">1999-03-24T19:53:32Z</dcterms:modified>
  <cp:revision>3</cp:revision>
  <dc:subject/>
  <dc:title>No Slide Title</dc:title>
</cp:coreProperties>
</file>