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E6BD-44C7-4823-B9DD-D6142F64F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36A3-A2B7-40EC-BFDF-E7D8FE6D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E955-5F68-4492-AB1F-55D773E1B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39F1-9CEC-499F-AE5D-5146A5527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2F0-3833-4063-9873-84159A31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6B34-1241-439E-9AF9-7D8C568E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DE14-2B3D-4B8E-BE95-B78813245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607-C94D-465E-BCDB-B963227D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FFE8-E25C-4CAE-B1C7-4BC3CD6BF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6280-2E2C-4934-9E10-FB72AEA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3046-DAB9-4B9D-AD59-5B104D9C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D2E-2B5C-44E5-BA27-2623E851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5101-4FBF-4E14-8917-400D9DB96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ill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39928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20:56Z</dcterms:created>
  <dc:creator>DND</dc:creator>
  <dc:description/>
  <dc:language>en-US</dc:language>
  <cp:lastModifiedBy>DND</cp:lastModifiedBy>
  <cp:lastPrinted>1999-01-07T20:06:04Z</cp:lastPrinted>
  <dcterms:modified xsi:type="dcterms:W3CDTF">1999-01-07T20:06:08Z</dcterms:modified>
  <cp:revision>2</cp:revision>
  <dc:subject/>
  <dc:title>No Slide Title</dc:title>
</cp:coreProperties>
</file>