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9687-342C-45E3-AC12-21F12AFB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2500-E4BF-495E-86E2-70098FD3E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6F31-A543-429F-9752-8CF2213CB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72D5-FEB1-4FC6-B6F9-7962206D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914-3290-453A-B2C7-697FF41D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E4D-8B72-4ED8-865D-2F4DA864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2EE-F4C7-4C4C-8B81-A7E57EA0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965F-8ECC-4509-A353-2E0FCD633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B036-D548-4549-9195-838BE433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BCC4-51C8-46CE-98DC-767617EA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E5CF-C9FB-4F93-A5BB-0707FE94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5D0B-40C9-4059-866A-78B58065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7BF1-8349-44BB-BE2D-1C09B3DDA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eaker" descr=""/>
          <p:cNvPicPr/>
          <p:nvPr/>
        </p:nvPicPr>
        <p:blipFill>
          <a:blip r:embed="rId1"/>
          <a:srcRect l="0" t="0" r="39844" b="0"/>
          <a:stretch/>
        </p:blipFill>
        <p:spPr>
          <a:xfrm>
            <a:off x="5181480" y="16002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CONF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0"/>
            <a:ext cx="4648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PREPARED TO SPEAK ANY TIME ANY PLACE ON SUBJECTS THAT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YOURSELF BY INTELLEGENT PRACTISE TO ORGANIZE YOUR THOUGHTS QUICKLY AND EFFECTIV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UR GUIDELINES FOR IMPROMPTU SPEE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362320"/>
            <a:ext cx="5943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SP FIRS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A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INTRODUCTION, MAIN          IDEAS AND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REASONING AND IMMAG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7:48:36Z</dcterms:created>
  <dc:creator>DND</dc:creator>
  <dc:description/>
  <dc:language>en-US</dc:language>
  <cp:lastModifiedBy>DND</cp:lastModifiedBy>
  <dcterms:modified xsi:type="dcterms:W3CDTF">1999-03-08T14:26:02Z</dcterms:modified>
  <cp:revision>2</cp:revision>
  <dc:subject/>
  <dc:title>DEVELOPING CONFIDENCE</dc:title>
</cp:coreProperties>
</file>