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0C6-EC15-4A4C-8193-C88AFEFFD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B15D-5DC7-463A-A1B4-214342B2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8F75-6C20-47C1-BFCD-0C0610FCA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A54-7BA9-4BE6-B4A5-4BFFE8DC4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25D2-05E2-4081-9380-66CAC7B5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420-F1A8-4DF4-B587-6F94F52E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2F21-FD38-4068-94C6-17D01685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F66A-5A0C-411B-86B8-3B22B1A2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5327-E2F9-433E-80ED-33B4478D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9360-1665-4269-96CE-18055CF1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A5BC-4F92-42E9-91DB-7DC0D5CA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3F7-75BA-40EF-83C5-B925D441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7C8B-D45D-49EA-9FBF-61C7448A8E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76280" y="2133720"/>
          <a:ext cx="4783320" cy="609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2133720"/>
                    <a:ext cx="4783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5:14Z</dcterms:modified>
  <cp:revision>11</cp:revision>
  <dc:subject/>
  <dc:title>No Slide Title</dc:title>
</cp:coreProperties>
</file>