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1A0E-B74A-4C97-BC4E-B972C8D5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3EB-579D-4B25-8AED-8339A4A9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2BE-5AB3-4860-AAFB-CC1187EE4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9FE0-C198-4FB4-B81B-8DE98593E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60A5-94ED-483C-95CA-21D39FBE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4E3-9BD8-46DF-84D0-E61690EB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B53-3273-4C4E-9597-8F4E11AB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9498B-D4B6-45E1-BB3F-54BA438B0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E331-CA11-4135-B9B7-1E17D010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BB14-5617-4E80-9148-2E4849A8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E34-BBBC-42B2-88F3-9B7CDA95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33B0-09D9-4DF4-91D5-0F549600F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8F2E-15E3-4E2B-921E-29A7F6E98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oulli’s Principle states that the total energy in a system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uid system has energy in the form of speed an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peed increases, pressure decreases and if speed decreases, pressure incr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0720" y="152280"/>
            <a:ext cx="50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ern" descr=""/>
          <p:cNvPicPr/>
          <p:nvPr/>
        </p:nvPicPr>
        <p:blipFill>
          <a:blip r:embed="rId1"/>
          <a:stretch/>
        </p:blipFill>
        <p:spPr>
          <a:xfrm>
            <a:off x="3733920" y="4800600"/>
            <a:ext cx="165420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4952880"/>
            <a:ext cx="1295280" cy="655920"/>
          </a:xfrm>
          <a:prstGeom prst="wedgeRoundRectCallout">
            <a:avLst>
              <a:gd name="adj1" fmla="val -86763"/>
              <a:gd name="adj2" fmla="val 72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otal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 a system rem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ant . .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irfoil5" descr=""/>
          <p:cNvPicPr/>
          <p:nvPr/>
        </p:nvPicPr>
        <p:blipFill>
          <a:blip r:embed="rId1"/>
          <a:stretch/>
        </p:blipFill>
        <p:spPr>
          <a:xfrm>
            <a:off x="662040" y="2700360"/>
            <a:ext cx="7818480" cy="179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8480" y="316080"/>
            <a:ext cx="48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 Airfoil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33320" y="152280"/>
            <a:ext cx="37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aking" descr=""/>
          <p:cNvPicPr/>
          <p:nvPr/>
        </p:nvPicPr>
        <p:blipFill>
          <a:blip r:embed="rId1"/>
          <a:stretch/>
        </p:blipFill>
        <p:spPr>
          <a:xfrm>
            <a:off x="2303640" y="838080"/>
            <a:ext cx="4536720" cy="562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29320" y="152280"/>
            <a:ext cx="28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king Li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7728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18:56Z</dcterms:created>
  <dc:creator>RC Air Cadets</dc:creator>
  <dc:description/>
  <dc:language>en-US</dc:language>
  <cp:lastModifiedBy>dnd</cp:lastModifiedBy>
  <cp:lastPrinted>1999-02-23T20:02:30Z</cp:lastPrinted>
  <dcterms:modified xsi:type="dcterms:W3CDTF">1999-03-24T13:03:27Z</dcterms:modified>
  <cp:revision>8</cp:revision>
  <dc:subject/>
  <dc:title>Bernoulli’s Principle</dc:title>
</cp:coreProperties>
</file>