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F35-FE05-4BD1-9E0C-6AB436C6F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9575-AB40-46DB-9690-9A02F802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AB53-9F25-4852-8DC1-31F722C6D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2A3A-DDD6-4D37-BB4C-5B553712A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D451-8F3F-44E2-B8B6-46B276ED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198-8C11-486B-A2E7-7B4A5268B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7666-31F3-45D9-8D87-148563CC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08C-6F1E-417A-B941-9F5D5A67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AAC-8AEF-48DD-A0B6-0616774A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FBB2-1800-45A6-B15C-08A897E0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D2D6-84FD-4803-BAF5-9AE1A97D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3199-5673-4620-AF22-B20F9B0A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849C-51A5-45D8-B9FC-185602762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5320" y="90360"/>
            <a:ext cx="49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Four Fo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4forces" descr=""/>
          <p:cNvPicPr/>
          <p:nvPr/>
        </p:nvPicPr>
        <p:blipFill>
          <a:blip r:embed="rId1"/>
          <a:srcRect l="0" t="13911" r="0" b="17778"/>
          <a:stretch/>
        </p:blipFill>
        <p:spPr>
          <a:xfrm>
            <a:off x="685800" y="1752480"/>
            <a:ext cx="8023320" cy="403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51160" y="35654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720" y="34894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5280" y="55627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4480" y="1508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2200" y="277920"/>
            <a:ext cx="50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l in each of the four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correct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4forces" descr=""/>
          <p:cNvPicPr/>
          <p:nvPr/>
        </p:nvPicPr>
        <p:blipFill>
          <a:blip r:embed="rId1"/>
          <a:srcRect l="0" t="13911" r="0" b="17778"/>
          <a:stretch/>
        </p:blipFill>
        <p:spPr>
          <a:xfrm>
            <a:off x="685800" y="1752480"/>
            <a:ext cx="8023320" cy="403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65600" y="5562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4200" y="1447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42120" y="3505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3400" y="3505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85200" y="38088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20:22:02Z</dcterms:created>
  <dc:creator>RC Air Cadets</dc:creator>
  <dc:description/>
  <dc:language>en-US</dc:language>
  <cp:lastModifiedBy>dnd</cp:lastModifiedBy>
  <cp:lastPrinted>1999-01-21T13:57:20Z</cp:lastPrinted>
  <dcterms:modified xsi:type="dcterms:W3CDTF">1999-03-24T13:02:01Z</dcterms:modified>
  <cp:revision>10</cp:revision>
  <dc:subject/>
  <dc:title>No Slide Title</dc:title>
</cp:coreProperties>
</file>