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1178-82E2-4CA0-9565-6DFC04A0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92E-1875-4E1C-9472-CA3A93F8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F343-03A5-49C7-B840-770EFB39D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F67-3ECA-4918-8B31-0AEB7BF15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919D-F25B-4625-8DC0-4215BDBE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A304-6D28-4811-8205-30BDFF98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9994-E1FE-4671-9355-F08FE30C1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55B3-92B4-4447-BFF9-118DEADC1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5298-F43B-40DA-B6F9-98B1AFA1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A96-DAF4-4E15-975E-7EC16BB57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5AFA-BE17-4316-AB19-095E0C9D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544D-DFAD-43BE-85E6-1009E84E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D861-EF5D-4464-A43A-420E4F17E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80880" y="914400"/>
            <a:ext cx="11125080" cy="172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– Alp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– In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– Queb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– Yank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Brav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Juli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 – Rom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- Zu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– Charl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– Ki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– S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– Del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 – L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– Ta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– Ec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 – M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– 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– Foxtr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Nove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 – V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– Gol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– Os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– Whis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Hot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– Pap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– X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HONETIC ALPHAB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720" y="66135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adio" descr=""/>
          <p:cNvPicPr/>
          <p:nvPr/>
        </p:nvPicPr>
        <p:blipFill>
          <a:blip r:embed="rId1"/>
          <a:srcRect l="0" t="0" r="62520" b="63307"/>
          <a:stretch/>
        </p:blipFill>
        <p:spPr>
          <a:xfrm>
            <a:off x="6248520" y="2514600"/>
            <a:ext cx="22827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19320"/>
            <a:ext cx="28195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- ZEE-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- W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-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- FOW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720" y="66135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219320"/>
            <a:ext cx="3504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- F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- 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- 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- 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- NIN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omsqn" descr=""/>
          <p:cNvPicPr/>
          <p:nvPr/>
        </p:nvPicPr>
        <p:blipFill>
          <a:blip r:embed="rId1"/>
          <a:srcRect l="0" t="0" r="76968" b="53138"/>
          <a:stretch/>
        </p:blipFill>
        <p:spPr>
          <a:xfrm>
            <a:off x="5238720" y="1676520"/>
            <a:ext cx="39052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4T15:32:14Z</dcterms:created>
  <dc:creator>DND</dc:creator>
  <dc:description/>
  <dc:language>en-US</dc:language>
  <cp:lastModifiedBy>DND</cp:lastModifiedBy>
  <cp:lastPrinted>1999-01-14T15:52:08Z</cp:lastPrinted>
  <dcterms:modified xsi:type="dcterms:W3CDTF">1999-01-29T19:55:20Z</dcterms:modified>
  <cp:revision>6</cp:revision>
  <dc:subject/>
  <dc:title>PHONETIC ALPHABET</dc:title>
</cp:coreProperties>
</file>