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502A-64A8-40D6-9D61-F143E75BB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73BA-3139-46ED-BC4D-C99790D28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997A-E088-4583-B5E2-EE12D9AC5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E897-5892-4B24-A52D-F6F7908E2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FB9D-4F08-4512-A740-3E1773566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DFC9-7D46-4EDC-8531-46426C80D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6513-6278-4C39-B8E5-F97410567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860E-E0CE-4967-AA62-994D51ED0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6326-D63D-4859-94A1-AEBE1ADE9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2512-1154-4F83-8B0F-0E2545E7F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BD5D-A829-4798-AC27-521AB426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E6E7-8AC5-4D33-B183-06FE71DE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EBEEB-CE07-4FE5-93DA-FBD84882F2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ston2" descr=""/>
          <p:cNvPicPr/>
          <p:nvPr/>
        </p:nvPicPr>
        <p:blipFill>
          <a:blip r:embed="rId1"/>
          <a:stretch/>
        </p:blipFill>
        <p:spPr>
          <a:xfrm>
            <a:off x="2041560" y="990720"/>
            <a:ext cx="4816440" cy="57909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63560" y="152280"/>
            <a:ext cx="763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Internal Combustion Eng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356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6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58840" y="295596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s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3002040" y="3031200"/>
            <a:ext cx="1119240" cy="109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3177000" y="3996360"/>
            <a:ext cx="580320" cy="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9240" bIns="-39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27360" y="1279440"/>
            <a:ext cx="155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rk Plu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57760" y="379404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yli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81160" y="1736640"/>
            <a:ext cx="94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ak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985000" y="1736640"/>
            <a:ext cx="1101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hau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950560" y="2146680"/>
            <a:ext cx="725040" cy="16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240" bIns="-30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5166720" y="2146680"/>
            <a:ext cx="725040" cy="16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240" bIns="-30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4428360" y="3689640"/>
            <a:ext cx="1125360" cy="12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560" bIns="-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37960" y="3505320"/>
            <a:ext cx="20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ing R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4504680" y="5365800"/>
            <a:ext cx="1125000" cy="12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13920" y="5165640"/>
            <a:ext cx="141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anksh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592360" y="152280"/>
            <a:ext cx="387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adial Eng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radial" descr=""/>
          <p:cNvPicPr/>
          <p:nvPr/>
        </p:nvPicPr>
        <p:blipFill>
          <a:blip r:embed="rId1"/>
          <a:stretch/>
        </p:blipFill>
        <p:spPr>
          <a:xfrm>
            <a:off x="1981080" y="1285920"/>
            <a:ext cx="5419800" cy="51148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356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6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431720" y="152280"/>
            <a:ext cx="595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Horizontally Oppos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56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6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horizontal" descr=""/>
          <p:cNvPicPr/>
          <p:nvPr/>
        </p:nvPicPr>
        <p:blipFill>
          <a:blip r:embed="rId1"/>
          <a:stretch/>
        </p:blipFill>
        <p:spPr>
          <a:xfrm>
            <a:off x="2009880" y="1701720"/>
            <a:ext cx="5122800" cy="45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472200" y="152280"/>
            <a:ext cx="201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In-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356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6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inline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58914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ston2" descr=""/>
          <p:cNvPicPr/>
          <p:nvPr/>
        </p:nvPicPr>
        <p:blipFill>
          <a:blip r:embed="rId1"/>
          <a:stretch/>
        </p:blipFill>
        <p:spPr>
          <a:xfrm>
            <a:off x="2041560" y="990720"/>
            <a:ext cx="4816440" cy="57909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57200" y="38088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l in the parts of the internal combustion engine in the correct sp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56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6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3002040" y="3031200"/>
            <a:ext cx="1119240" cy="109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177000" y="3996360"/>
            <a:ext cx="580320" cy="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9240" bIns="-39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950560" y="2146680"/>
            <a:ext cx="725040" cy="16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240" bIns="-30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5166720" y="2146680"/>
            <a:ext cx="725040" cy="16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240" bIns="-30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4428360" y="3689640"/>
            <a:ext cx="1125360" cy="12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560" bIns="-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4504680" y="5365800"/>
            <a:ext cx="1125000" cy="12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9880" y="152388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5880" y="213372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5880" y="3809880"/>
            <a:ext cx="1524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19920" y="5638680"/>
            <a:ext cx="1752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1523880" y="419112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1523520" y="327672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1371600" y="236232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40840" y="38088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29400" y="76212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5T12:59:42Z</dcterms:created>
  <dc:creator>RC Air Cadets</dc:creator>
  <dc:description/>
  <dc:language>en-US</dc:language>
  <cp:lastModifiedBy>dnd</cp:lastModifiedBy>
  <cp:lastPrinted>1999-02-25T13:36:32Z</cp:lastPrinted>
  <dcterms:modified xsi:type="dcterms:W3CDTF">1999-03-24T20:21:37Z</dcterms:modified>
  <cp:revision>10</cp:revision>
  <dc:subject/>
  <dc:title>No Slide Title</dc:title>
</cp:coreProperties>
</file>