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A479-4219-49EE-A242-E8AF76F2B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B91D-0675-43D8-A5FD-2C4383D6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4E1-7C82-40A0-9FA7-55E6016E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30EC-3F2D-470B-B66E-69556229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21CD-07BC-4661-BA36-173F4969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3FD57-A9E1-43C2-9E1C-A8F5B7C9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367-3560-43D9-A855-508258E83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7F82-3385-4F97-BE27-8C3552C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7FF5-30BE-4AD4-A55D-8CAC21D9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A31B-50E0-48B4-8D02-0585116E7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1FF9-EB4F-4EB6-8DE0-923699C6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849-44F8-4EAB-8398-BB3BCA8A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18A6-1889-4155-BAB4-9053D6D8D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838080"/>
            <a:ext cx="8229600" cy="9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QUALIFIED CAD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TRAINING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7920" y="2133720"/>
            <a:ext cx="52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0800" y="2819520"/>
            <a:ext cx="63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&amp; RECREATION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9360" y="3429000"/>
            <a:ext cx="34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411480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TO TAKE TO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320840"/>
            <a:ext cx="292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w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m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e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 s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back 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an t-shi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320840"/>
            <a:ext cx="4419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calling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ing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medication (take prescri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hygien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/magaz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 polish/kiwi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pair eyeglasses if w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22:38:12Z</cp:lastPrinted>
  <dcterms:modified xsi:type="dcterms:W3CDTF">1999-03-08T22:40:09Z</dcterms:modified>
  <cp:revision>26</cp:revision>
  <dc:subject/>
  <dc:title>No Slide Title</dc:title>
</cp:coreProperties>
</file>