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9F1C-F781-4A60-A1BB-8AAE6BF4B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FACF-3176-4BEA-83DC-FECEA145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68DF-511E-4AC4-A580-339828322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64CC-106A-42A6-97DE-F0611A67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5A6A-0540-4E4F-B221-847D5EBB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39C9-CADB-4D0A-8418-820C022B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2880-7964-4F82-AC1C-A8B9D9AF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1B69-C455-46A1-B7AB-E3D1A97B7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7CF-D49E-4DE2-A0D9-B89551AD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C688-47D2-4A32-BF3D-C312E3FC4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2ACA-02CA-45ED-9261-EF3AE4AF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DC9-0EB0-4A5B-B248-ACDD9E8E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433E-A7D2-4A26-9CCA-627659708D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4T18:05:20Z</dcterms:modified>
  <cp:revision>2</cp:revision>
  <dc:subject/>
  <dc:title>No Slide Title</dc:title>
</cp:coreProperties>
</file>