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393-F734-4E96-BE0C-5FB195784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8B4F-CDC2-40CD-8AB0-BE271BA0B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A50C-750A-4E17-BA76-EE7236DD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BE21-C5C6-402A-8FD1-FCB02185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CBA6-971E-45CA-BFA1-5B421E91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B176-6107-4FD4-AE1B-BB70999A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AB2-9D67-4C8C-BD2E-F1BDCC90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306A-96E3-4B46-B1D6-65A6AE6D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23C-5D00-4C61-B8B8-B28C0945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7E96-9F4F-4AC9-910F-8713268F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170-F052-4334-BFB5-018C6391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6953-9FB1-466A-BD23-F82EF23B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37A5-1B61-4228-A1CF-71EA3CB82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0320" y="152280"/>
            <a:ext cx="426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trol Surf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0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ntrols2" descr=""/>
          <p:cNvPicPr/>
          <p:nvPr/>
        </p:nvPicPr>
        <p:blipFill>
          <a:blip r:embed="rId1"/>
          <a:stretch/>
        </p:blipFill>
        <p:spPr>
          <a:xfrm>
            <a:off x="380880" y="1442880"/>
            <a:ext cx="8123400" cy="4653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78200" y="36576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L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0600" y="37180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L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7320" y="150804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V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6040" y="152388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924680" y="487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9320" y="376200"/>
            <a:ext cx="386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Ailer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il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43600" cy="4707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76920" y="4419720"/>
            <a:ext cx="2666880" cy="16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96320" y="452520"/>
            <a:ext cx="35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Rud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6172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udder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615000" cy="4577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62720" y="4648320"/>
            <a:ext cx="21333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73360" y="452520"/>
            <a:ext cx="38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Eleva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7732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ele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513920" cy="4676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76920" y="4648320"/>
            <a:ext cx="3657600" cy="16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4:54:28Z</dcterms:created>
  <dc:creator>RC Air Cadets</dc:creator>
  <dc:description/>
  <dc:language>en-US</dc:language>
  <cp:lastModifiedBy>dnd</cp:lastModifiedBy>
  <cp:lastPrinted>1999-02-23T17:33:05Z</cp:lastPrinted>
  <dcterms:modified xsi:type="dcterms:W3CDTF">1999-03-24T13:05:07Z</dcterms:modified>
  <cp:revision>10</cp:revision>
  <dc:subject/>
  <dc:title>No Slide Title</dc:title>
</cp:coreProperties>
</file>