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E212-6789-4D90-8874-376D3DB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56D4-5F30-47CE-8D01-494E0058C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726E-6CD9-49F5-91D1-EB1D5D7A6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CFF8-839C-4B4D-9E58-CA283DD4F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39B-AE7C-4774-B38A-F0DC7FE1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7DCE-FE9F-4C42-9BD8-ED3C3C3D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D1E-200D-4B9A-889B-7236B86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C364-A6BA-45A5-96D9-9D3274BE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3A0-01A6-4F65-A348-E87F25952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B6C-D6FD-44D5-BF13-4086DAA7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9E5-5BA4-47DD-88F3-C67ABB308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B92C-30AB-428D-B4FF-B8F447ED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6682-5DBD-4191-B298-79D1878E0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416" descr=""/>
          <p:cNvPicPr/>
          <p:nvPr/>
        </p:nvPicPr>
        <p:blipFill>
          <a:blip r:embed="rId5"/>
          <a:srcRect l="1936" t="0" r="0" b="0"/>
          <a:stretch/>
        </p:blipFill>
        <p:spPr>
          <a:xfrm>
            <a:off x="1168560" y="2057400"/>
            <a:ext cx="474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9:16Z</dcterms:modified>
  <cp:revision>9</cp:revision>
  <dc:subject/>
  <dc:title>No Slide Title</dc:title>
</cp:coreProperties>
</file>