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5545-ED17-4E6D-9974-DFE9A04C7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6294-4EC3-4303-BEDA-4ED47353D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0927-C0D4-4F3F-BBD5-C8FC8F6E4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E74E-AB1F-4617-B7F6-9DA48AFB6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04B2-51A6-474A-9159-7E142236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A32-0D7E-454B-B62B-0606EFDC8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8D71-A1E0-4524-9271-B6A90808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2402-4664-47A6-9DDB-B2B214130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6066-949A-4E12-B2CE-E86669A0B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15572-AAD3-49B8-9A9E-247D6D6D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CBF8-288C-45C2-BEE6-262521A5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BDA6-D804-45FC-B3E8-C3D4D19F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ACE8-5BB5-4A1E-BB6A-172483F89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72880"/>
            <a:ext cx="58658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he Three Levels of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0400" y="2254320"/>
            <a:ext cx="58104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.  Municip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.  Provinci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3.  Feder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72040" y="6019920"/>
            <a:ext cx="2685960" cy="2685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2880" y="876312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72880"/>
            <a:ext cx="586584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he Branches of the Federal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0400" y="2254320"/>
            <a:ext cx="581040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.  Execu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.  Legisla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. Judi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2880" y="876312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House" descr=""/>
          <p:cNvPicPr/>
          <p:nvPr/>
        </p:nvPicPr>
        <p:blipFill>
          <a:blip r:embed="rId1"/>
          <a:stretch/>
        </p:blipFill>
        <p:spPr>
          <a:xfrm>
            <a:off x="1752480" y="6400800"/>
            <a:ext cx="3505320" cy="2255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6477120"/>
            <a:ext cx="152280" cy="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7-03-18T15:08:14Z</cp:lastPrinted>
  <dcterms:modified xsi:type="dcterms:W3CDTF">1999-01-05T15:18:47Z</dcterms:modified>
  <cp:revision>6</cp:revision>
  <dc:subject/>
  <dc:title>No Slide Title</dc:title>
</cp:coreProperties>
</file>