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6D75-599F-4BBD-8A63-95A44D20E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CD39-FE78-43DC-967D-97920F81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65C3-493B-41F0-B325-43368485C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904F-C067-4A26-AC1A-725D088D2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3DAA-A0F2-451D-ADBE-05C51D37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F622-E8BC-48D1-9F9A-F80540E3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B2B5-C79B-4177-90A1-F699E68F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4B56-F0BF-4189-81FB-E41FB8EE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8E7-C1D0-43CD-BE0E-E8F75102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3DCA-4B3B-4A4C-8E0D-0C384161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9FE7-AC8D-44CB-BC83-761BA19E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7C68-3B6B-4704-9BFE-F6C25A6A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FEF3-2677-4F2E-8795-3F7BC85409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ead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091200" cy="83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9-01-08T13:16:59Z</dcterms:modified>
  <cp:revision>5</cp:revision>
  <dc:subject/>
  <dc:title>No Slide Title</dc:title>
</cp:coreProperties>
</file>