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81B4-C9A2-406D-B868-FE55BECA2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572D-E6C1-4D33-A649-19ED7F4A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098D-CBDD-40B4-A017-A896BCE68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65D6-B8E1-47C1-AFF5-98C02EBBC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701D-F07F-4BFE-AF4D-284E6302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E3E6-6859-40ED-B398-F9987914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1A7B-9155-4FE8-8B94-B00ED609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F981-2D0C-481B-80A4-368CE53C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42B9-86AA-4028-98F2-58D44343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C0AD-43BC-464E-9FFB-78B1467E0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83C9-EAEA-4C10-820E-D6F456AB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0616-67DE-4B29-AE17-C63A456D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3640-A0C2-4A51-9F85-9DF1B2138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Effect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4800600" cy="73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3:35:04Z</dcterms:created>
  <dc:creator>DND</dc:creator>
  <dc:description/>
  <dc:language>en-US</dc:language>
  <cp:lastModifiedBy>DND</cp:lastModifiedBy>
  <cp:lastPrinted>1998-12-18T13:39:01Z</cp:lastPrinted>
  <dcterms:modified xsi:type="dcterms:W3CDTF">1998-12-18T13:40:08Z</dcterms:modified>
  <cp:revision>1</cp:revision>
  <dc:subject/>
  <dc:title>No Slide Title</dc:title>
</cp:coreProperties>
</file>