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AF9A-82C3-4EAA-A133-A7FA836AD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AD2-D8BB-412F-BC90-E7191CF6A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A9EE-5D38-4F31-AF6D-85393A863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717C-5D39-4C56-9E05-F19E4C833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0142-4489-4CB3-8969-6C6A0F1C9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FAA5-17FE-4FFC-9D38-1A83C148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94D-D667-4D1F-A873-FE8B01346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C21-629A-4F59-8FBC-DE8A1381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F064-CBE7-4EEE-A4CD-3E955F6C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977-DEB2-40B7-8115-BD389C8C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99EE-0312-4991-A573-2D7A8DFEA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57FC-F5F0-4172-93D7-F19E2E11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D611-4E1F-4AFA-A668-A82F2739F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cracy - Ira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igarch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Guatema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emocracy -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00" y="6545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15000" y="4724280"/>
            <a:ext cx="2362320" cy="1200240"/>
          </a:xfrm>
          <a:prstGeom prst="rect">
            <a:avLst/>
          </a:prstGeom>
          <a:ln w="0">
            <a:noFill/>
          </a:ln>
        </p:spPr>
      </p:pic>
      <p:pic>
        <p:nvPicPr>
          <p:cNvPr id="46" name="iraq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2286000" cy="1254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66680" y="22860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orms of Govern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48" name="Guatemala" descr=""/>
          <p:cNvPicPr/>
          <p:nvPr/>
        </p:nvPicPr>
        <p:blipFill>
          <a:blip r:embed="rId3"/>
          <a:stretch/>
        </p:blipFill>
        <p:spPr>
          <a:xfrm>
            <a:off x="1066680" y="4648320"/>
            <a:ext cx="221004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8:08:03Z</dcterms:created>
  <dc:creator>dnd</dc:creator>
  <dc:description/>
  <dc:language>en-US</dc:language>
  <cp:lastModifiedBy>dnd</cp:lastModifiedBy>
  <cp:lastPrinted>1999-03-05T12:12:33Z</cp:lastPrinted>
  <dcterms:modified xsi:type="dcterms:W3CDTF">1999-03-05T12:12:36Z</dcterms:modified>
  <cp:revision>6</cp:revision>
  <dc:subject/>
  <dc:title>Forms of Government</dc:title>
</cp:coreProperties>
</file>