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D7E-CEFE-4A78-BD67-06C56272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7E1D-F8DD-4402-9FBD-0A69BF09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488-9860-41FC-8BC0-D0BDCAB6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695-1E64-4B61-8D46-7B0AF8A57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AF7E-EF85-42F4-AD4A-FCF810C9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154C-6CC8-435D-9B30-13D8361B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6D8D-0DB5-4351-B738-F671075E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D0BC-07E9-456F-8DD4-0BE4746A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4DB0-79C6-49D3-90D9-FF5684E1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7F46-5C23-4A07-BF93-FCE600E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32FD-52E3-4E38-A410-0BCEDA90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616F-41C1-472D-AACE-2C810B2F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F038-7D13-40BE-942F-C345E6276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5:57:41Z</dcterms:modified>
  <cp:revision>10</cp:revision>
  <dc:subject/>
  <dc:title>No Slide Title</dc:title>
</cp:coreProperties>
</file>