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A933-B95B-4FA6-AE7B-4B5131CF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B3B-4F00-4A69-AA13-D32848C98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FF18-A399-4195-82DE-59208F0B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B969-0A91-4EA4-89D6-F3158A244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C8C1-D637-4937-A7FA-C151ED38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A60C-37D5-4A99-BFEB-8EBAE78D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9576-FDF1-441F-B64B-C357A6B0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ED62-B0D4-440A-95F3-D94674B7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CA33-5586-4519-BCFA-66162C7E8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39D2-8C6A-4B58-B795-00E0E510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C57-A0F6-4C3D-9B7A-BFF6B897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5B6-F59F-49BE-9B19-277DD8AE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0D7-61DF-42A0-B74F-05863A80E0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whispering each of the following clear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thing each word separately. Have some other person listen to you from more than 25 feet away. Say your name, your age, your home squadron. Read a sentence from a book. Perform this drill at least 3 full times. Keep slowing down your pace, making sure you use your jaw, lips and tongue on every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3 - Voice Exercises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3:00:09Z</dcterms:modified>
  <cp:revision>5</cp:revision>
  <dc:subject/>
  <dc:title>FACTORS THAT AFFECT THE HUMAN VOICE </dc:title>
</cp:coreProperties>
</file>