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89A6-6CFB-47AE-8F7F-3FC1A549F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E365-E196-4334-896C-376C56406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BAED-2FB3-4D25-9493-A5ECE7B80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B5C2B-2A27-46C8-AE69-8813B5938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628A-603D-4F48-8120-6EB016E94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C755-A1DC-4947-A051-F3F9D4E31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D625-5F3D-4970-9D5A-CCB461C0F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D13C-C861-49F7-954C-7CC13E917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54D0-4048-495E-A58D-EF2EF2435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8234-5FF2-458B-BB6C-73EDBEFFD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83BD-A349-4000-B2FC-F550F2C3C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BE69-DFCF-49E9-AE41-8E8C429CE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32F3F-DB3D-4111-930B-C4C0F379BE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441640" y="6545160"/>
            <a:ext cx="6346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940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03.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9120" y="3749760"/>
            <a:ext cx="2138400" cy="1112760"/>
          </a:xfrm>
          <a:prstGeom prst="rect">
            <a:avLst/>
          </a:prstGeom>
          <a:solidFill>
            <a:srgbClr val="99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87840" y="3975120"/>
            <a:ext cx="799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960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30800" y="4316400"/>
            <a:ext cx="1302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Series E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49120" y="1695600"/>
            <a:ext cx="2138400" cy="1112760"/>
          </a:xfrm>
          <a:prstGeom prst="rect">
            <a:avLst/>
          </a:prstGeom>
          <a:solidFill>
            <a:srgbClr val="99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6840" y="1920960"/>
            <a:ext cx="18723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odern Tim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40520" y="2263680"/>
            <a:ext cx="12855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Series F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98840" y="325440"/>
            <a:ext cx="2138400" cy="1112760"/>
          </a:xfrm>
          <a:prstGeom prst="rect">
            <a:avLst/>
          </a:prstGeom>
          <a:solidFill>
            <a:srgbClr val="99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59920" y="550800"/>
            <a:ext cx="1546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arly Tim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87720" y="893880"/>
            <a:ext cx="1302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Series A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98840" y="5032440"/>
            <a:ext cx="2138400" cy="1112760"/>
          </a:xfrm>
          <a:prstGeom prst="rect">
            <a:avLst/>
          </a:prstGeom>
          <a:solidFill>
            <a:srgbClr val="99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991320" y="5087880"/>
            <a:ext cx="12837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ost War,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37560" y="5429160"/>
            <a:ext cx="799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950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979080" y="5772240"/>
            <a:ext cx="13190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Series D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664320" y="1695600"/>
            <a:ext cx="2136960" cy="1112760"/>
          </a:xfrm>
          <a:prstGeom prst="rect">
            <a:avLst/>
          </a:prstGeom>
          <a:solidFill>
            <a:srgbClr val="99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403040" y="1749600"/>
            <a:ext cx="799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920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403040" y="2092320"/>
            <a:ext cx="799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930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151400" y="2433600"/>
            <a:ext cx="1302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Series B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664320" y="3749760"/>
            <a:ext cx="2136960" cy="1112760"/>
          </a:xfrm>
          <a:prstGeom prst="rect">
            <a:avLst/>
          </a:prstGeom>
          <a:solidFill>
            <a:srgbClr val="99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81400" y="3803760"/>
            <a:ext cx="18403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Worl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487280" y="4146480"/>
            <a:ext cx="6177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a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142760" y="4487760"/>
            <a:ext cx="13190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Series C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1276200" y="839520"/>
            <a:ext cx="1800" cy="8557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1276200" y="839880"/>
            <a:ext cx="22226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76200" y="2808360"/>
            <a:ext cx="1800" cy="9414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775640" y="2808360"/>
            <a:ext cx="1440" cy="9414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37240" y="839880"/>
            <a:ext cx="213840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775640" y="839880"/>
            <a:ext cx="1440" cy="8557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775640" y="4862520"/>
            <a:ext cx="1440" cy="770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637240" y="5632560"/>
            <a:ext cx="213840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76200" y="4862520"/>
            <a:ext cx="1800" cy="770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276200" y="5632560"/>
            <a:ext cx="22226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87520" y="2808360"/>
            <a:ext cx="422280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553120" y="2882880"/>
            <a:ext cx="40104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VIATION TRIVIA GAM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2880" y="3290760"/>
            <a:ext cx="22914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GAME BOAR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1-13T18:23:50Z</cp:lastPrinted>
  <dcterms:modified xsi:type="dcterms:W3CDTF">1999-01-13T18:24:14Z</dcterms:modified>
  <cp:revision>23</cp:revision>
  <dc:subject/>
  <dc:title>No Slide Title</dc:title>
</cp:coreProperties>
</file>