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A261-42C3-4B88-9B96-FFF6651F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1B0-D7DB-4FCF-BC36-5341D791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EE1-7455-41DF-953D-BEA273A5E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08C6-E98E-4D06-8C7B-2BA6CC16A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273E-A3A3-4444-B5FF-14CF9E4F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78E1-D527-4F70-B98C-1E091C0B3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28FE-13BE-456F-B7B4-88AAE5F2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EC4-70A8-447D-A969-A3D7225F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B76E-7D69-4184-8CD1-356AF31B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65C-D910-4898-9334-C7C89CBCB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438A-BE5B-49E0-9DD0-D2A4466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DB35-8433-4E65-ACBE-99FA252F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E30D-DF15-45A7-8AE6-2152C213E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200" y="6572160"/>
            <a:ext cx="1271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e your ideas and thought clear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your cadets informed of all ev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good personal initiati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strengths and weaknesse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 your cadets as you would like to be t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4:02:20Z</dcterms:created>
  <dc:creator>dnd</dc:creator>
  <dc:description/>
  <dc:language>en-US</dc:language>
  <cp:lastModifiedBy>dnd</cp:lastModifiedBy>
  <dcterms:modified xsi:type="dcterms:W3CDTF">1999-01-11T14:08:21Z</dcterms:modified>
  <cp:revision>2</cp:revision>
  <dc:subject/>
  <dc:title>The Principles of Leadership</dc:title>
</cp:coreProperties>
</file>