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02F-E521-498F-8846-86CFF2EE6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B551-AD9B-45E8-8C91-1E5D83C20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6F0-12BC-4B56-B0D6-51EA461D1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1EA8-37BE-4C7C-9AC2-22B55B409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6FD5-9153-47C2-AF0E-DD77D1D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7817-055A-4888-9601-AFA25DE0C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2DA-014A-4D6B-AD53-3D085E8D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2A5E-697B-47EF-8800-C72EFE955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9E2A-BB3F-48AB-B5D0-80F8DCEA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B237-B23D-4C99-A04C-C6568A5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7569-B255-4FE0-91A7-84DA9AF8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5241-2ED0-435A-BE30-17ADAA2C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768E-DC72-4C54-8E49-CDE2C725BF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Answer Key 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95480" y="5334120"/>
          <a:ext cx="685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334120"/>
                    <a:ext cx="68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3886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581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41911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44956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1911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8006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1055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143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447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752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533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2T20:21:17Z</dcterms:modified>
  <cp:revision>19</cp:revision>
  <dc:subject/>
  <dc:title>No Slide Title</dc:title>
</cp:coreProperties>
</file>