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E964-C570-4380-AD7C-DD53B00EB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0226-F2A1-41B6-845B-52F4D4460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EC02-CBF2-458D-92D5-1A0205CFA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C986-D9F9-4A84-BA0D-97E267891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149B-6947-42B4-A423-11641529F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70A6-DCEC-4BA4-B7B3-E06B31EE5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C5E8-D5F8-4F1B-9ECC-0B1576B76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A6E5-3148-409A-9C7B-9DDDDF67A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9DF2-0935-42DB-A85E-D7A66EAE0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CD5E-2EBE-46A2-8288-3895850D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C7DD-6B6D-412F-83B5-C306DBB8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9EE3-236F-49AA-A52D-D6920734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7B22E-0906-42BE-99AB-F2B42BC956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FACTORS THAT AFFECT THE HUMAN VOIC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I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OLU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speaker" descr=""/>
          <p:cNvPicPr/>
          <p:nvPr/>
        </p:nvPicPr>
        <p:blipFill>
          <a:blip r:embed="rId1"/>
          <a:srcRect l="0" t="0" r="35094" b="0"/>
          <a:stretch/>
        </p:blipFill>
        <p:spPr>
          <a:xfrm>
            <a:off x="4648320" y="1752480"/>
            <a:ext cx="3946320" cy="4572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0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WHAT THE CHARACTERISTICS OF THE HUMAN VOICE HELP YOU TO 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 EXPRESS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ROL BREA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ROL VOICE SP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0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553080" y="2286000"/>
            <a:ext cx="190512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OTHER H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 COLORF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 ENTHUSIAS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 YOURSEL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CORD YOUR VO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0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95680" y="2438280"/>
            <a:ext cx="42674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7T13:55:40Z</dcterms:created>
  <dc:creator>DND</dc:creator>
  <dc:description/>
  <dc:language>en-US</dc:language>
  <cp:lastModifiedBy>dnd</cp:lastModifiedBy>
  <cp:lastPrinted>1999-01-07T15:26:00Z</cp:lastPrinted>
  <dcterms:modified xsi:type="dcterms:W3CDTF">1999-03-23T20:07:44Z</dcterms:modified>
  <cp:revision>4</cp:revision>
  <dc:subject/>
  <dc:title>FACTORS THAT AFFECT THE HUMAN VOICE </dc:title>
</cp:coreProperties>
</file>