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DF7A-FFC8-40C1-80D5-3D790AA02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CA54-38A1-4024-A0B5-3B0C7536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051-A3EC-4E6A-9B68-1E5907507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9448-BEF0-4EB0-B2E2-C06A8F1DE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92FC-4FFE-4651-ADE0-31DB8FC9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3E0E-5DDF-4CCE-9D52-EAE8DED07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6B5F-694E-4BB8-99CC-1BCCA478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599C-9209-4D2F-A56A-3CF92B9D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EEEE-82D3-48E3-814D-895BC328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ACD3-5618-46A5-9316-038BFFC0E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DAC-39C7-4120-B10E-DEE5671A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8E39-9546-44D5-8807-0A1F0D942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6F0F2-D216-46B1-BE7C-7FDD271E5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OTW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lking: Running sh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king: Hiking b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kl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inforced t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86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INGS TO BE AWARE OF WHEN HI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ce Your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ink Freque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king uph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king Downh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2254320"/>
            <a:ext cx="3809880" cy="356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LKING UPH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uphill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295280"/>
            <a:ext cx="5329080" cy="512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08280" y="1600200"/>
            <a:ext cx="275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n the lengt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strid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uphi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ing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thm. L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,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feet flat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LKING DOWNH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ownhill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523880"/>
            <a:ext cx="5029200" cy="469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828800"/>
            <a:ext cx="264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hill, open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de and 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slightly.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ry to go fa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ing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ard on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ees, especi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r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ckp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9:16:44Z</dcterms:created>
  <dc:creator>DND</dc:creator>
  <dc:description/>
  <dc:language>en-US</dc:language>
  <cp:lastModifiedBy>DND</cp:lastModifiedBy>
  <cp:lastPrinted>1999-03-01T19:48:14Z</cp:lastPrinted>
  <dcterms:modified xsi:type="dcterms:W3CDTF">1999-03-01T19:52:45Z</dcterms:modified>
  <cp:revision>3</cp:revision>
  <dc:subject/>
  <dc:title>FOOTWEAR</dc:title>
</cp:coreProperties>
</file>