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BF21-3C7F-4D61-AE29-5463D73B3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CD17-7648-42C1-9C07-99BA51BA7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C79-ED2E-4CB9-AA86-A822CF0B2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27E9-F90E-4BFD-845F-2DBC1A765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2CF4-E6CA-4137-8470-4DE3A107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515C-5051-4236-A59B-DC009116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FF93-11E3-4078-AB42-88934648F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7068-095F-402C-ADDC-1882F421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15D4-7DF4-44DD-BF02-0108AA06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A8F-15B0-4512-A98A-09FF5B189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23B5-50BF-440E-91F0-793B5913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F54A-F74C-40F1-B887-2D82ADA7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1B03-8444-4BAF-9674-E58FE6B51F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0"/>
          <a:ext cx="853416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85800" y="25146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95520" y="2001960"/>
          <a:ext cx="6086520" cy="40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5520" y="2001960"/>
                    <a:ext cx="608652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0" y="3276720"/>
          <a:ext cx="3048120" cy="291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276720"/>
                    <a:ext cx="304812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248520" y="3276720"/>
          <a:ext cx="2819160" cy="289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48520" y="3276720"/>
                    <a:ext cx="28191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18080" y="657216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04920" y="0"/>
          <a:ext cx="853416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85800" y="25146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95520" y="2077920"/>
          <a:ext cx="6086520" cy="405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5520" y="2077920"/>
                    <a:ext cx="608652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3505320"/>
          <a:ext cx="3703680" cy="26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505320"/>
                    <a:ext cx="37036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640480" y="3505320"/>
          <a:ext cx="3503520" cy="25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40480" y="3505320"/>
                    <a:ext cx="35035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18080" y="657216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80880" y="0"/>
          <a:ext cx="83059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3059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429000" y="1676520"/>
            <a:ext cx="28195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hysical St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ough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r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Quick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loof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Gen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uman Qu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080" y="657216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Lead3a" descr=""/>
          <p:cNvPicPr/>
          <p:nvPr/>
        </p:nvPicPr>
        <p:blipFill>
          <a:blip r:embed="rId3"/>
          <a:stretch/>
        </p:blipFill>
        <p:spPr>
          <a:xfrm>
            <a:off x="228600" y="2133720"/>
            <a:ext cx="3429000" cy="3467160"/>
          </a:xfrm>
          <a:prstGeom prst="rect">
            <a:avLst/>
          </a:prstGeom>
          <a:ln w="0">
            <a:noFill/>
          </a:ln>
        </p:spPr>
      </p:pic>
      <p:pic>
        <p:nvPicPr>
          <p:cNvPr id="72" name="Lead3b" descr=""/>
          <p:cNvPicPr/>
          <p:nvPr/>
        </p:nvPicPr>
        <p:blipFill>
          <a:blip r:embed="rId4"/>
          <a:stretch/>
        </p:blipFill>
        <p:spPr>
          <a:xfrm>
            <a:off x="6172200" y="2286000"/>
            <a:ext cx="259092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7-01-30T18:14:12Z</cp:lastPrinted>
  <dcterms:modified xsi:type="dcterms:W3CDTF">1999-01-11T20:25:39Z</dcterms:modified>
  <cp:revision>8</cp:revision>
  <dc:subject/>
  <dc:title>QUALITIES OF A LEADER</dc:title>
</cp:coreProperties>
</file>