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762F-EBC5-4F61-A340-AC199C9A6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9306-1F64-4304-8BC4-5C7C4B4A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51A0-F912-4567-91D7-06F2A4A46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87E9-B725-4684-AFE9-9EAF73BD8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EDA8-B141-4917-9C9B-CAA9C4C0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1313-069F-4D42-9D65-BD312C97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09FD-9C74-4DE0-B9EE-388EF91D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C460-BB70-4805-8B15-1CF9562F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D88B-1D3B-4C22-8EFE-DE27B045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85A9-99AE-4C84-810D-0597790C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8F9F-DED1-49F8-B9B7-29FF699D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5170-F21F-4FAD-90F0-29861D92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C9A7A-0865-4206-B9DF-4191365027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ensible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5867280" cy="84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4:00:36Z</dcterms:created>
  <dc:creator>dnd</dc:creator>
  <dc:description/>
  <dc:language>en-US</dc:language>
  <cp:lastModifiedBy>dnd</cp:lastModifiedBy>
  <cp:lastPrinted>1998-12-18T14:02:55Z</cp:lastPrinted>
  <dcterms:modified xsi:type="dcterms:W3CDTF">1998-12-18T14:05:25Z</dcterms:modified>
  <cp:revision>2</cp:revision>
  <dc:subject/>
  <dc:title>No Slide Title</dc:title>
</cp:coreProperties>
</file>