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E0E-42CA-4A6A-B13D-3C0AB7F4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C8C-2C8D-4D9D-A33A-B656B6D6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6A13-2E52-4273-968C-81DEA28B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1C7-2FC1-4870-8CC5-BA39AEFF0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97AE-6BC9-4862-AB7B-641CB959D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BFDF-29CC-46D0-9908-62CBD1BE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1AE6-7717-4A37-8282-728A5EB72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7858-E44F-487B-B598-3457C78F3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CD07-1DD3-408A-A55A-8BBC618D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38F9-2704-418A-9600-863866A9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5125-A8F5-47FC-8F59-B9903238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C06E-D72F-4F85-A15B-403EE5395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308-A3DB-4F8B-A92A-35475BE08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120" y="152280"/>
            <a:ext cx="432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xes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38640" y="49370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86440" y="22096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5160" y="24382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440" y="41148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0" y="44956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following axes and the movements abou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876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95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666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09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514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76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838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9:55:11Z</dcterms:modified>
  <cp:revision>7</cp:revision>
  <dc:subject/>
  <dc:title>No Slide Title</dc:title>
</cp:coreProperties>
</file>