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3807-88C7-480E-A57B-A8B513012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1650-4BA1-43DC-BCF6-31FD01C07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EA78-DE81-4F1C-9678-C79FE865B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1D1D-B7A1-4A57-BA51-ED7053F6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7CD4-268B-4529-9A04-E87BA760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721F-4022-4DEB-8CDC-3EC732DEF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8A07-82AA-49A7-811A-1E33D4E6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C21-92AA-4F95-95B0-AA30980A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9FE2-6F98-489C-A33D-16385268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D347-4484-4F96-8786-6AD6E780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7BA-6362-40E2-AC28-11E0675F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48F8-E4BF-4A1D-BE58-1F09C80F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456A-8EC3-4CBE-BF0C-A2E00D992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9:01Z</cp:lastPrinted>
  <dcterms:modified xsi:type="dcterms:W3CDTF">1999-03-11T15:58:32Z</dcterms:modified>
  <cp:revision>19</cp:revision>
  <dc:subject/>
  <dc:title>No Slide Title</dc:title>
</cp:coreProperties>
</file>