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56E3-967A-4BEE-B4FC-A13A6F335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7D86-9DC6-41C6-BA11-5B92F137F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F1C0-902D-4BE4-B9F9-9A9B32C0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B92-85B1-4F05-BBEC-4169C0B40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9ED-4789-48CF-8982-F3346B6A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A66-AFA1-4DF5-AE37-3E7BD27FD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5E88-1555-44BE-95A5-8EB74CCA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C5A1-870C-4B45-A6A3-9FFFF8E44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C0F2-F003-47E1-BC45-07794E2B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D8D-8514-45E2-97CE-C1F2CBA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48DF-5E11-4669-8F66-A04C0422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3A46-6214-454A-98A4-5D3F688A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4041-4335-4BC7-B92F-8F175A6BA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5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Officer/NCO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1600200"/>
          <a:ext cx="769608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769608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84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8:51:27Z</dcterms:created>
  <dc:creator>dnd</dc:creator>
  <dc:description/>
  <dc:language>en-US</dc:language>
  <cp:lastModifiedBy>dnd</cp:lastModifiedBy>
  <cp:lastPrinted>1999-01-12T20:36:40Z</cp:lastPrinted>
  <dcterms:modified xsi:type="dcterms:W3CDTF">1999-01-12T20:42:59Z</dcterms:modified>
  <cp:revision>5</cp:revision>
  <dc:subject/>
  <dc:title>No Slide Title</dc:title>
</cp:coreProperties>
</file>