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EC58-74E9-4BE9-A5BC-44C5A713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70E2-BC8F-4E97-8EB7-6AA1A868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02E0-0CD1-4C12-8B1B-56462F3A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12C7-AFA4-42FB-8235-92158CF25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8A91-24ED-4F52-8F12-2DB283DF0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F580-9067-4152-8692-A2EA8D278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ED86-4683-42AC-9504-0830F360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6527-139C-4FCE-AA33-49B7959B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D62F-92EA-49FB-B106-DDFF0F2F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ABB4-B66F-4CC6-A2D6-D08E921F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DE0A-C2E8-497A-9B85-6184D431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2B3D-9B68-4AF3-B360-499D885A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5E561-53BA-4134-860C-0F6E1BD66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4400" y="6572160"/>
            <a:ext cx="126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136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Definition of Lead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anadian Forces definition of leadership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rt of influencing human behavior to accomplish a mission in the manner desired by the leade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438280" cy="2008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15000" y="4191120"/>
            <a:ext cx="1527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4400" y="6572160"/>
            <a:ext cx="126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Principles of Lead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ad by setting a good examp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now your cadets and look after their welfar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 the qualities of leadership in your cade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ound and timely decision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in your cadets to work as a tea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5T20:18:40Z</dcterms:created>
  <dc:creator>dnd</dc:creator>
  <dc:description/>
  <dc:language>en-US</dc:language>
  <cp:lastModifiedBy>dnd</cp:lastModifiedBy>
  <cp:lastPrinted>1999-01-06T13:00:59Z</cp:lastPrinted>
  <dcterms:modified xsi:type="dcterms:W3CDTF">1999-01-11T14:08:40Z</dcterms:modified>
  <cp:revision>13</cp:revision>
  <dc:subject/>
  <dc:title>No Slide Title</dc:title>
</cp:coreProperties>
</file>