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CB0-C53A-446A-B2F4-28EA27E4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E56-1D17-4425-924D-5A454455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131-30F3-4422-BE4E-CBDC2ACC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3C9-1190-4839-8BB0-9E4C9C8D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BEF-0634-44C1-9F4B-FD774C6D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EF15-D395-417B-8008-0296D1B8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7F3-0FE4-4188-A85E-3AEC47CF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723-4DC7-42AC-AAB9-314B5FE1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168C-2177-4CDB-98DB-30D0D8EE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870F-D3F2-4029-8272-3B11B3BD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1ED8-14CC-404E-86A2-0F9D8395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79C-853F-425A-8205-3D130BB5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49E3-82B8-4E13-93AA-BD3B9F253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1517400" cy="1365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19520"/>
            <a:ext cx="1289160" cy="12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648320"/>
            <a:ext cx="12952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280"/>
            <a:ext cx="78483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FIRE EXTINGUIS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5600" y="1249200"/>
            <a:ext cx="5744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rdinary Combust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er, wood, drapes, and uphol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90920"/>
            <a:ext cx="6172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mable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el oil, gasoline, paint, grease, solvent and other flammable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572000"/>
            <a:ext cx="6703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lectrical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ring, overheated fuse boxes, conductors, and other elect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640" y="654516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Haettenschweiler"/>
              </a:rPr>
              <a:t>HOW FIRE EXTINGUISHERS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040" y="1166760"/>
            <a:ext cx="6963120" cy="4770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the extinguisher nozzle at th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e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eeze or press th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from side to side at the bas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1905120" cy="55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00440" y="1050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77120" y="2498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77120" y="3946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77120" y="5241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640" y="654516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371600"/>
            <a:ext cx="51814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N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Close all windows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used doo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Follow the fire escap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 and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Move to the muster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a and wait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04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0"/>
            <a:ext cx="8686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RESPONDING TO THE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640" y="654516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256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1.   Shout “ FIRE, FIRE, FIRE” and pull the al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2.  Phone the 911 Emergency Service or  local Fir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epartment and state the exact location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0"/>
            <a:ext cx="883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DISCOVERING A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200400" cy="194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40" y="654516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8T14:38:14Z</cp:lastPrinted>
  <dcterms:modified xsi:type="dcterms:W3CDTF">1999-03-08T14:38:16Z</dcterms:modified>
  <cp:revision>17</cp:revision>
  <dc:subject/>
  <dc:title>No Slide Title</dc:title>
</cp:coreProperties>
</file>