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7F6-00AB-44F9-850B-51D55579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DBF-3F54-4F39-9375-66B34485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602-CB9B-43EA-9270-CF9261B7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48C-9E5F-48A9-97BE-803CE5B2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93D-D2B3-4177-83A5-5A7032C5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3B6-3D87-4DDD-9571-2471D2E7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73F-3ED7-4CAC-BEFE-9BA5DE1A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10F-26AF-4F11-996C-9CE60C67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F25-A457-46B2-9BED-A542AF1A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0F1-21B4-459D-9B12-6AFDF49A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8A5-9AD8-4ECF-9A4E-76FC20C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98D-0EDC-4BD1-9C54-A61E64CA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F55-726C-49B8-B3D2-A6D161996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00" y="8726400"/>
            <a:ext cx="1268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00" y="8726400"/>
            <a:ext cx="1268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680" y="8763120"/>
            <a:ext cx="1268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08T14:07:51Z</dcterms:modified>
  <cp:revision>10</cp:revision>
  <dc:subject/>
  <dc:title>No Slide Title</dc:title>
</cp:coreProperties>
</file>