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4B3-DBE9-46C5-95DF-76C54B07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348-A631-45AF-A67E-4C970084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210-8E2C-424C-B503-5A35A08A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E17-A959-4F22-BDA3-26B4B4D8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3DB-4CB0-4B45-80A7-F87DAFE8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077-9FF6-423F-BAC5-85CFA952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C1D-5F1F-4E64-9628-A2CD7381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E9A-F594-4992-9B77-D0C12B5B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31C-3540-4106-A8C9-772980C9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ACB-676F-4F45-9AF1-03C9418C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405-06AD-4EBF-A4B1-DD1D957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DFB-A6BB-4941-B1AB-C64EC8E7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76D4-D1C9-43CA-98D9-9F3443A38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SE1" descr=""/>
          <p:cNvPicPr/>
          <p:nvPr/>
        </p:nvPicPr>
        <p:blipFill>
          <a:blip r:embed="rId1"/>
          <a:srcRect l="5588" t="0" r="5025" b="15300"/>
          <a:stretch/>
        </p:blipFill>
        <p:spPr>
          <a:xfrm>
            <a:off x="990720" y="220968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6200" y="378000"/>
            <a:ext cx="533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uss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RUS2" descr=""/>
          <p:cNvPicPr/>
          <p:nvPr/>
        </p:nvPicPr>
        <p:blipFill>
          <a:blip r:embed="rId1"/>
          <a:srcRect l="6252" t="0" r="2754" b="20489"/>
          <a:stretch/>
        </p:blipFill>
        <p:spPr>
          <a:xfrm>
            <a:off x="609480" y="1981080"/>
            <a:ext cx="7925040" cy="3900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720" y="378000"/>
            <a:ext cx="69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nocoque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4:58:10Z</dcterms:created>
  <dc:creator>RC Air Cadets</dc:creator>
  <dc:description/>
  <dc:language>en-US</dc:language>
  <cp:lastModifiedBy>dnd</cp:lastModifiedBy>
  <dcterms:modified xsi:type="dcterms:W3CDTF">1999-03-22T15:38:32Z</dcterms:modified>
  <cp:revision>3</cp:revision>
  <dc:subject/>
  <dc:title>No Slide Title</dc:title>
</cp:coreProperties>
</file>