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3BA-082F-491B-B538-81612FF7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853-2DAD-4E31-8143-92624C85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80E-8A37-4C43-BA35-76B6B92E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230-072D-4A4E-B708-CCB84ACE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503-DF66-4151-AFDC-F2DCCE48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764-D627-471B-B620-3D600381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3FF-E38E-42F4-9240-ED2203C0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FAC-E9FF-41E2-9E11-0CE565C2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2F3-2A6F-44C5-94BB-AFDB82A9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849-1F85-482D-B688-BBE59336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08D-07C5-4992-8804-49A218BD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D3C-F92A-45F1-9D1F-B06A8343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BCD6-EA70-42D9-8B57-CA3227510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533520"/>
            <a:ext cx="6248520" cy="58140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TIES OF A FOL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33400" y="1523880"/>
          <a:ext cx="710568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523880"/>
                    <a:ext cx="7105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533520"/>
            <a:ext cx="6248520" cy="58140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TIES OF A FOL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15238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28800" y="1600200"/>
          <a:ext cx="5257800" cy="39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525780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7T16:33:32Z</cp:lastPrinted>
  <dcterms:modified xsi:type="dcterms:W3CDTF">1999-03-17T20:05:32Z</dcterms:modified>
  <cp:revision>22</cp:revision>
  <dc:subject/>
  <dc:title>No Slide Title</dc:title>
</cp:coreProperties>
</file>