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266-D217-4665-B04B-748B4CA7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FA5-26F2-43B9-BAD6-C3343B64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718-F708-4BAC-A6A3-CE57C8CB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CBD-A99C-45D5-BE2F-38F49369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548-562D-4833-836E-0FF8AD58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4DB-B3F6-4D0D-A96F-895BB932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9B8-CFC1-4FF6-B61F-6BDDB1F5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FB4-6964-41D3-A2DB-668DA3FE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B69-24A4-4220-8518-BE3D1977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4CD-DDF4-4A81-B8D4-6635F595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3C5-1B8E-4461-AA89-A70675B2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F69-F880-43F8-813A-53E99B29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AEC2-D645-4FD2-99A8-76AD731E8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523880" y="1828800"/>
          <a:ext cx="4319640" cy="6781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828800"/>
                    <a:ext cx="43196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1:32Z</dcterms:modified>
  <cp:revision>5</cp:revision>
  <dc:subject/>
  <dc:title>No Slide Title</dc:title>
</cp:coreProperties>
</file>