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75B-25AD-4066-B756-02605405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5FF-A5DF-4EB3-B9B1-4926C8AB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D60-3E72-4F4C-BA11-6D84A2F5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C82-C3A5-4C00-9972-6DB30350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05C-631C-48EE-B8E4-9AE7E1D4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2AB-DCD0-4D69-AAE7-89C3D3A5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272-7BD8-41AA-A893-BEFDDCCF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C1D-16D2-4F2B-9CCA-C0BBDCBD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B75-44CE-4487-8F72-7A28839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6E5-656A-487B-9F9C-8E7A38C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B95-D7C1-456B-AA57-5D5A6A9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C1C-1EF4-4C7F-B677-E7A3B0E7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D20-84BE-4600-A6CD-FCA11E865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EPS TO TAKE WHEN 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1219320" cy="213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21932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447560" cy="2667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175248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8160" y="182880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1040" y="17524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3960" y="4724280"/>
            <a:ext cx="26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SE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60520" y="472428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S WHICH DECREASE F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confidence in your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confidence in your superior and your-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ing on the job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676520" cy="1497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2667240" cy="152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657600" y="4038480"/>
            <a:ext cx="1638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10:26Z</dcterms:created>
  <dc:creator>DND</dc:creator>
  <dc:description/>
  <dc:language>en-US</dc:language>
  <cp:lastModifiedBy>DND</cp:lastModifiedBy>
  <cp:lastPrinted>1999-02-19T15:14:54Z</cp:lastPrinted>
  <dcterms:modified xsi:type="dcterms:W3CDTF">1999-02-19T15:14:58Z</dcterms:modified>
  <cp:revision>4</cp:revision>
  <dc:subject/>
  <dc:title>FACTORS WHICH DECREASE FEAR</dc:title>
</cp:coreProperties>
</file>