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5689-9E28-42B8-AF08-94A14AC2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31D1-26BA-49BD-A2C8-A88D1A0A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F10F-9DA7-4374-B034-5C401351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E2F2-DEFA-4580-BEED-C1BD69D6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44C7-4570-4B1D-82E2-4ECF29E4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D2B-E7B8-4BD4-955C-619DBAD8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C2A7-A3A9-49AD-9B60-96CF558D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7427-9769-45CD-8D99-72D5E3CD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0CA9-9150-4846-ABF4-F9715BFE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529-65A9-427D-A74F-3D09676F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2E4F-61A9-4465-B5B6-722630A6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B89C-39AA-4470-94F2-1B84623F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885E-64A6-4F6D-89D4-47F484477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EVEN ENEMIES OF SURVI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U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REDOM &amp; LONL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676520"/>
            <a:ext cx="7162920" cy="0"/>
          </a:xfrm>
          <a:prstGeom prst="line">
            <a:avLst/>
          </a:prstGeom>
          <a:ln w="1015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ear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541008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2:30:52Z</dcterms:created>
  <dc:creator>DND</dc:creator>
  <dc:description/>
  <dc:language>en-US</dc:language>
  <cp:lastModifiedBy>DND</cp:lastModifiedBy>
  <cp:lastPrinted>1998-12-18T15:16:00Z</cp:lastPrinted>
  <dcterms:modified xsi:type="dcterms:W3CDTF">1999-01-04T17:52:40Z</dcterms:modified>
  <cp:revision>4</cp:revision>
  <dc:subject/>
  <dc:title>SEVEN ENEMIES OF SURVIVAL</dc:title>
</cp:coreProperties>
</file>