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BE07-BA62-4C95-A201-05D15AEF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589-4BBA-4F22-91CB-0F8D7D19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53E-E6AC-4F16-A47F-53C7D858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504-5F2E-4A6C-B16C-3AD8B111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91A-00E0-42BB-82E0-44147146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0A2-7D04-4B2B-818E-B19BD368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058F-4C35-41F2-973A-27EFF684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134-E07B-46A1-9FFF-D14652DF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8B0-2796-4C90-A5EC-1520D322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74B-86FB-4B84-9C73-63EE1AC1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A80F-D7ED-404E-A6D8-27ECFA16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6A9-0CAC-45B1-A383-74D24452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E161-27BC-451F-9DC6-09B533B5F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ensibl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86728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4:00:36Z</dcterms:created>
  <dc:creator>dnd</dc:creator>
  <dc:description/>
  <dc:language>en-US</dc:language>
  <cp:lastModifiedBy>dnd</cp:lastModifiedBy>
  <cp:lastPrinted>1998-12-18T14:02:55Z</cp:lastPrinted>
  <dcterms:modified xsi:type="dcterms:W3CDTF">1998-12-18T14:05:25Z</dcterms:modified>
  <cp:revision>2</cp:revision>
  <dc:subject/>
  <dc:title>No Slide Title</dc:title>
</cp:coreProperties>
</file>