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0EC-E005-4B70-A14B-46497B74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9CC-D55E-4512-A0BE-9EA111C8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26B-5C52-4928-AA29-0D86BE3D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A9C-2CCB-4DAC-81CA-52501AE5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039-0966-41A8-A8D8-9A5C856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BB6-5282-439F-A9F0-98AF27BA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85C-BF32-48E6-AB1E-5CDA776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1C9-B13E-469D-AFC6-9A2B99A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CA7-2844-4072-A25F-BCA7CFA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FE6-8A2C-4890-9C80-51CFA22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27C-C476-4B86-83BF-B3ACDCC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AE1-F061-4EF7-A60A-C56411E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7D7-6386-4542-AD66-3DCD02C48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61920" y="457200"/>
            <a:ext cx="75326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4440" y="4876920"/>
            <a:ext cx="28429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ess Uni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3320" y="2819520"/>
            <a:ext cx="26355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her Or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9280" y="692280"/>
            <a:ext cx="4332240" cy="17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Identify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 Offic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172200" y="2209320"/>
            <a:ext cx="91440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1960" y="3580920"/>
            <a:ext cx="190476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aleoff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675080" cy="5867640"/>
          </a:xfrm>
          <a:prstGeom prst="rect">
            <a:avLst/>
          </a:prstGeom>
          <a:ln w="0">
            <a:noFill/>
          </a:ln>
        </p:spPr>
      </p:pic>
      <p:pic>
        <p:nvPicPr>
          <p:cNvPr id="54" name="maleoff1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719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ordin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7880" y="5227560"/>
            <a:ext cx="402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icer Cadet (OC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cdt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160" y="5105520"/>
            <a:ext cx="223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105520"/>
            <a:ext cx="2441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74640" y="5105520"/>
            <a:ext cx="16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a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t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1" name="2lt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2" name="capt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01520" y="5105520"/>
            <a:ext cx="130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5105520"/>
            <a:ext cx="3733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-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7440" y="5105520"/>
            <a:ext cx="162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j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2" name="lcol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3" name="col" descr=""/>
          <p:cNvPicPr/>
          <p:nvPr/>
        </p:nvPicPr>
        <p:blipFill>
          <a:blip r:embed="rId3"/>
          <a:stretch/>
        </p:blipFill>
        <p:spPr>
          <a:xfrm>
            <a:off x="678168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3480" y="2147760"/>
            <a:ext cx="387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’s Sleeve Br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120" y="5622840"/>
            <a:ext cx="151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gad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6092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7120" y="5622840"/>
            <a:ext cx="1692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8136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0948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8120" y="546120"/>
            <a:ext cx="3936960" cy="2108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83808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gen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6" name="mgen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7" name="lgen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8" name="gen" descr=""/>
          <p:cNvPicPr/>
          <p:nvPr/>
        </p:nvPicPr>
        <p:blipFill>
          <a:blip r:embed="rId4"/>
          <a:stretch/>
        </p:blipFill>
        <p:spPr>
          <a:xfrm>
            <a:off x="7238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9" name="Image1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2133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80" y="38736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8580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hain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352320" y="1828800"/>
            <a:ext cx="2667240" cy="39625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1905120"/>
            <a:ext cx="2362320" cy="4038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8600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89548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76176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8380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99072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414440" cy="250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2895480" y="1676520"/>
            <a:ext cx="2819520" cy="3962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556160"/>
            <a:ext cx="358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like a lad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mb the rung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your ans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762120" y="2624040"/>
            <a:ext cx="21160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cdt" descr=""/>
          <p:cNvPicPr/>
          <p:nvPr/>
        </p:nvPicPr>
        <p:blipFill>
          <a:blip r:embed="rId1"/>
          <a:stretch/>
        </p:blipFill>
        <p:spPr>
          <a:xfrm>
            <a:off x="1981080" y="52578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lt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3" name="2lt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capt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maj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lcol" descr=""/>
          <p:cNvPicPr/>
          <p:nvPr/>
        </p:nvPicPr>
        <p:blipFill>
          <a:blip r:embed="rId6"/>
          <a:stretch/>
        </p:blipFill>
        <p:spPr>
          <a:xfrm>
            <a:off x="1981080" y="327672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col" descr=""/>
          <p:cNvPicPr/>
          <p:nvPr/>
        </p:nvPicPr>
        <p:blipFill>
          <a:blip r:embed="rId7"/>
          <a:stretch/>
        </p:blipFill>
        <p:spPr>
          <a:xfrm>
            <a:off x="3809880" y="220968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bgen" descr=""/>
          <p:cNvPicPr/>
          <p:nvPr/>
        </p:nvPicPr>
        <p:blipFill>
          <a:blip r:embed="rId8"/>
          <a:stretch/>
        </p:blipFill>
        <p:spPr>
          <a:xfrm>
            <a:off x="228600" y="2133720"/>
            <a:ext cx="566640" cy="982440"/>
          </a:xfrm>
          <a:prstGeom prst="rect">
            <a:avLst/>
          </a:prstGeom>
          <a:ln w="0">
            <a:noFill/>
          </a:ln>
        </p:spPr>
      </p:pic>
      <p:pic>
        <p:nvPicPr>
          <p:cNvPr id="129" name="mgen" descr=""/>
          <p:cNvPicPr/>
          <p:nvPr/>
        </p:nvPicPr>
        <p:blipFill>
          <a:blip r:embed="rId9"/>
          <a:stretch/>
        </p:blipFill>
        <p:spPr>
          <a:xfrm>
            <a:off x="1981080" y="2209680"/>
            <a:ext cx="567000" cy="982800"/>
          </a:xfrm>
          <a:prstGeom prst="rect">
            <a:avLst/>
          </a:prstGeom>
          <a:ln w="0">
            <a:noFill/>
          </a:ln>
        </p:spPr>
      </p:pic>
      <p:pic>
        <p:nvPicPr>
          <p:cNvPr id="130" name="lgen" descr=""/>
          <p:cNvPicPr/>
          <p:nvPr/>
        </p:nvPicPr>
        <p:blipFill>
          <a:blip r:embed="rId10"/>
          <a:stretch/>
        </p:blipFill>
        <p:spPr>
          <a:xfrm>
            <a:off x="1981080" y="4191120"/>
            <a:ext cx="567000" cy="982440"/>
          </a:xfrm>
          <a:prstGeom prst="rect">
            <a:avLst/>
          </a:prstGeom>
          <a:ln w="0">
            <a:noFill/>
          </a:ln>
        </p:spPr>
      </p:pic>
      <p:pic>
        <p:nvPicPr>
          <p:cNvPr id="131" name="gen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567000" cy="992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4100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438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41972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4100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676520"/>
            <a:ext cx="327672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Lieutenant-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Office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 Lieutenant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. Second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6095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3244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03T13:26:31Z</cp:lastPrinted>
  <dcterms:modified xsi:type="dcterms:W3CDTF">1999-02-15T23:27:59Z</dcterms:modified>
  <cp:revision>17</cp:revision>
  <dc:subject/>
  <dc:title>No Slide Title</dc:title>
</cp:coreProperties>
</file>