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BCD0-93D0-4D6D-8B71-7073F58C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2009-6C01-4430-9FF4-9F802C03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6E2B-F974-4AE4-9FF4-EE98DC3B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6C61-0903-4969-ACAF-29D54388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28F4-06AE-40A2-B060-C5EBBE06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8450-B85B-4585-9AC0-8429ACFF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DC9F-E7FA-47FA-A385-77E6D79C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81DD-D9EA-4B69-B565-E20C3D4C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61D0-9B50-4D7A-A7E9-D5778B67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7F20-3F3E-431B-AF4D-FBF5A655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E33C-90C9-433D-9DA1-E2F669D0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7AAD-B4C3-4BB4-AB17-D858D07C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18C1-D912-4764-BED2-4735BF389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228600"/>
          <a:ext cx="87631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763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04920" y="1981080"/>
            <a:ext cx="23619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EATING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2743200"/>
            <a:ext cx="2743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BEING A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438280"/>
            <a:ext cx="32004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FEELING   GOOD ABOUT YOURSE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3352680"/>
            <a:ext cx="2959200" cy="318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4114800"/>
            <a:ext cx="2806920" cy="242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58000" y="5029200"/>
            <a:ext cx="318600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3657600"/>
          <a:ext cx="2362320" cy="25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657600"/>
                    <a:ext cx="236232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276720" y="4114800"/>
          <a:ext cx="251460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114800"/>
                    <a:ext cx="25146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705720" y="4952880"/>
          <a:ext cx="167616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05720" y="4952880"/>
                    <a:ext cx="1676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671480" y="228600"/>
          <a:ext cx="6086520" cy="205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1480" y="228600"/>
                    <a:ext cx="60865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9400" y="6545160"/>
            <a:ext cx="149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06.01a Level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6583320"/>
            <a:ext cx="426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ndout #1 - Maintaining a Safe and Healthy Life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7-02-17T20:15:57Z</cp:lastPrinted>
  <dcterms:modified xsi:type="dcterms:W3CDTF">1999-03-11T15:24:51Z</dcterms:modified>
  <cp:revision>19</cp:revision>
  <dc:subject/>
  <dc:title>No Slide Title</dc:title>
</cp:coreProperties>
</file>