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8364-438F-46B5-8E04-A63EC81B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A29-51D2-4272-BE05-6E685044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FE5-BA73-4EEE-9AC7-B4A2A230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4A07-D9C5-46BA-821F-A995E144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EEAD-5465-471C-83E2-0EADAB13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14C5-741E-46CF-8BAE-CCD81419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CAD1-7732-4EDD-8153-C151C281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9083-BC47-455A-A725-D0150E96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A91-B339-4B51-B83E-45A8C1F7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73E-D80F-435D-A18F-249544AE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7650-D3FC-4F05-BA41-0B565C0D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185D-E8AC-4BF3-8F9A-A466B42D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83B3-0D7C-43A7-B220-2F9DCEA07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76520"/>
          <a:ext cx="553392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553392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410080" y="838080"/>
          <a:ext cx="7088400" cy="81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838080"/>
                    <a:ext cx="70884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103400" y="1600200"/>
          <a:ext cx="5754600" cy="6629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3400" y="1600200"/>
                    <a:ext cx="57546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09:11Z</dcterms:modified>
  <cp:revision>6</cp:revision>
  <dc:subject/>
  <dc:title>No Slide Title</dc:title>
</cp:coreProperties>
</file>