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88E-7B14-49D7-AAED-12BA763A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ACE-E932-4BE3-95BD-4F29C069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811-039C-45F1-A93B-39A8F91B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C5F-2F7C-4338-A6EC-3D999893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E08-8C59-41D5-B0EF-EA49A7BE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55F-05E0-4943-9505-4EAD0AB3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2D3-472E-4EA5-9880-30E440A6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9EA-7DE9-45C1-9778-5527905F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2F0-8867-4766-91EA-17805F69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1D6-DD6C-4235-B923-9B3211E5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D96-27C4-4755-B6B4-261DB9ED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DE1-5D67-4DEA-A36D-1F7768BC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BE0B-D0CB-48C9-B042-E1389650A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rill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399280" cy="67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20:56Z</dcterms:created>
  <dc:creator>DND</dc:creator>
  <dc:description/>
  <dc:language>en-US</dc:language>
  <cp:lastModifiedBy>DND</cp:lastModifiedBy>
  <cp:lastPrinted>1999-01-07T20:06:04Z</cp:lastPrinted>
  <dcterms:modified xsi:type="dcterms:W3CDTF">1999-01-07T20:06:08Z</dcterms:modified>
  <cp:revision>2</cp:revision>
  <dc:subject/>
  <dc:title>No Slide Title</dc:title>
</cp:coreProperties>
</file>