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EA1C-06CE-4FC9-B54F-59C140D6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B20-FA45-45A0-B10C-179E28FC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B6D-09B4-448C-8A17-04EBCB25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536-E201-4C83-9D17-E2DFFDC7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42E-E910-4168-8521-AA974F06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9D81-0BAD-4EB6-AB03-A65AA314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479-BF82-48D3-BB1B-E93C3857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F3C-0949-4B29-8DC2-2D900875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F4C6-8BAE-4053-B774-56A81F3C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73D-1644-454E-A10B-D47C1CFD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E0A1-269A-4137-9B43-2BB65168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0D9-0305-4B0A-852F-A30654E6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5C0E-3027-4BD9-9323-613A124A6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AT SHOULD I WEAR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6483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ool vs. Co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ackets vs. Swea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otw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avy Gl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764160" cy="3535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tique Olv (W1)"/>
              </a:rPr>
              <a:t>TAKING CARE OF YOUR CLO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ep clothing c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ep it d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nd tears in clothing as soon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ange your s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intain your b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ep dirt and grease off your 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3657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ANDLING YOUR KN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ep it shar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ry in a stout sh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sition towards the back of your 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tach to your b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ck for sharp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ck hand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3276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2:53:00Z</dcterms:created>
  <dc:creator>DND</dc:creator>
  <dc:description/>
  <dc:language>en-US</dc:language>
  <cp:lastModifiedBy>DND</cp:lastModifiedBy>
  <cp:lastPrinted>1999-02-19T14:52:50Z</cp:lastPrinted>
  <dcterms:modified xsi:type="dcterms:W3CDTF">1999-02-19T14:53:16Z</dcterms:modified>
  <cp:revision>4</cp:revision>
  <dc:subject/>
  <dc:title>WHAT SHOULD I WEAR?</dc:title>
</cp:coreProperties>
</file>