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B43-045E-4696-87C7-A5F70946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D76-9C12-47C6-8E59-E4438E6A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AD4-968F-4612-BE44-CB0FE40E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F7E-F25D-4A15-AD5C-CF8F616E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F5F-7217-40F4-8797-73BFCE26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862-890F-40CC-9622-BE652269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741-737F-4649-80B5-BBE2F9C7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F2B-E216-4B42-9583-C90D2A43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247-D5E2-4A47-B877-A8C5AB7B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5BD-FC78-4092-A52D-2229496E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CB2A-8FEB-4A14-B15D-3C45492A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90D-7FEB-4D73-9857-DBFAF642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4F65-B9AC-40A9-94CE-2E7631BF5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%20403%20Cover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722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8T00:28:34Z</cp:lastPrinted>
  <dcterms:modified xsi:type="dcterms:W3CDTF">1999-03-16T19:50:32Z</dcterms:modified>
  <cp:revision>21</cp:revision>
  <dc:subject/>
  <dc:title>No Slide Title</dc:title>
</cp:coreProperties>
</file>