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EB8-1065-479C-99E6-B3F21CF7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FCF-B4CF-487F-82CB-4FBB336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90D-6B3D-442A-BDFE-02AEF3EF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16D-B8FD-4B49-ACCE-F5DD2545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73F-04FF-413D-BCD0-B17129CC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505-9AC8-44CD-B364-EB3496C6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7DE-6D16-47C2-A0D8-80300D73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6C8-FA44-48C3-B65C-4C8B1100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C5D-3C06-45FB-80A0-BD5BCEF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050-696F-4195-B957-DFCC6F2C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5F5-0962-4CC2-816A-6F42BBB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849-3206-473B-96F5-538E0EB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5B5C-25A1-46D7-99DA-1751164B5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120" y="22860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plane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37320" cy="457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560" y="259092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59092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960" y="548640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92120" y="30492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iwing" descr=""/>
          <p:cNvPicPr/>
          <p:nvPr/>
        </p:nvPicPr>
        <p:blipFill>
          <a:blip r:embed="rId1"/>
          <a:stretch/>
        </p:blipFill>
        <p:spPr>
          <a:xfrm>
            <a:off x="1252440" y="1366920"/>
            <a:ext cx="6637320" cy="457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274320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2200" y="27115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2880" y="514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3:42:30Z</dcterms:created>
  <dc:creator>RC Air Cadets</dc:creator>
  <dc:description/>
  <dc:language>en-US</dc:language>
  <cp:lastModifiedBy>dnd</cp:lastModifiedBy>
  <cp:lastPrinted>1999-02-04T20:19:50Z</cp:lastPrinted>
  <dcterms:modified xsi:type="dcterms:W3CDTF">1999-03-22T14:19:00Z</dcterms:modified>
  <cp:revision>17</cp:revision>
  <dc:subject/>
  <dc:title>No Slide Title</dc:title>
</cp:coreProperties>
</file>