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30A-4719-4A8D-8DD3-EB2CF310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1C7-9942-40F1-B382-0FC63EE5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89C-981C-4CCC-8B74-9B8D3ED0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8D7-7FB6-4D23-B519-28CFF8A5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9EB-A548-4031-9C93-0E776F45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DAF-5826-46BC-9892-827D019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8E1-12D3-4C3E-9D70-A288EB38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3AF-E1ED-4E75-9183-AADE86A5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B60-705A-4E06-8D35-98C38937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AB4-D739-4EB1-BC54-AE7D38B3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D6B-8414-4B25-A125-A9607116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48C-330B-4863-9501-D2DEA658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C8C3-FE60-41E6-A28C-2C876B52B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586040" cy="2514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852280" y="4419720"/>
            <a:ext cx="3729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. George’s Cr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6596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05560" y="4419720"/>
            <a:ext cx="332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leur-de-li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96080" y="1812960"/>
            <a:ext cx="2112840" cy="106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02000" y="1911240"/>
            <a:ext cx="2001960" cy="99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1917720"/>
            <a:ext cx="1974960" cy="984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395440" y="183672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29000" y="4599000"/>
            <a:ext cx="2049480" cy="10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700600" y="183672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751800" y="4594320"/>
            <a:ext cx="2081160" cy="1036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1355760"/>
            <a:ext cx="914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on of the Crowns of England and Scotland (16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17680"/>
            <a:ext cx="914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volution of the Royal Union Fla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3228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. George’s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03228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. Andrew’s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3032280"/>
            <a:ext cx="2665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st) Royal Union Fl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he Unite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3946680"/>
            <a:ext cx="914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 of Union between Great Britain and Ireland (18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66680" y="4556160"/>
            <a:ext cx="2112840" cy="106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700600" y="457992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71760" y="450360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99360" y="5775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nd) Royal Union Fl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he Unite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775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st) Royal Union Fl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he Unite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77548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. Patrick’s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1301760"/>
            <a:ext cx="9129600" cy="234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962520"/>
            <a:ext cx="9129600" cy="257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789280"/>
            <a:ext cx="914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“First” Red Ensign (17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36800" y="763560"/>
            <a:ext cx="3614760" cy="18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60840" y="3735360"/>
            <a:ext cx="3614400" cy="18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57610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anadian Red Ensign (1924-19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25760" y="1330200"/>
            <a:ext cx="6151320" cy="300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662120" y="4662360"/>
            <a:ext cx="5958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anadian Fla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0T20:05:40Z</dcterms:created>
  <dc:creator>Valued Customer</dc:creator>
  <dc:description/>
  <dc:language>en-US</dc:language>
  <cp:lastModifiedBy>dnd</cp:lastModifiedBy>
  <cp:lastPrinted>1999-01-08T19:44:57Z</cp:lastPrinted>
  <dcterms:modified xsi:type="dcterms:W3CDTF">1999-01-08T19:48:12Z</dcterms:modified>
  <cp:revision>10</cp:revision>
  <dc:subject/>
  <dc:title>No Slide Title</dc:title>
</cp:coreProperties>
</file>