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C3E-7413-427E-A9CF-226F20F5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C56-CBD6-4B9C-AE65-4A94D186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9EC-628F-4436-B05A-97C510C2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A66-6A0A-4660-B8DA-D2882C0D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FA3-0EAD-42AD-B272-04EE0F3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171-59B9-4339-9751-F34D99C7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1BF-56F7-4C39-9EAF-096AA5A4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E3D-1A6B-4C12-BD4D-6D3146AF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C07-2F5E-48E9-957F-D2B05E09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6A5-BD11-43E5-8DCB-19AD86D7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5CB-CFB9-40AA-98D2-2B53F5D5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F16-3DBF-42A1-BCDF-69C5EA5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A16-0C59-444C-B2B0-BFB7E924F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unway2" descr=""/>
          <p:cNvPicPr/>
          <p:nvPr/>
        </p:nvPicPr>
        <p:blipFill>
          <a:blip r:embed="rId1"/>
          <a:srcRect l="11856" t="-63" r="8157" b="0"/>
          <a:stretch/>
        </p:blipFill>
        <p:spPr>
          <a:xfrm>
            <a:off x="0" y="228600"/>
            <a:ext cx="2971800" cy="2278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49600" y="30312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eronautical Fac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3040" y="3048120"/>
            <a:ext cx="805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dr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any area of land or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ated for the arrival, departure, moveme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of aircraft and includes all buildings, instal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quipment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3680" y="4892760"/>
            <a:ext cx="81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licensed aerodrome, meaning it has met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port safety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971800" y="228600"/>
          <a:ext cx="10503000" cy="18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28600"/>
                    <a:ext cx="105030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3840" y="609480"/>
            <a:ext cx="88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Main Components of an Aero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pron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72600" cy="462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0960" y="604800"/>
            <a:ext cx="65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indsock and Wind 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ock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99240" cy="45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57800" y="4572000"/>
            <a:ext cx="236232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17840" y="1219320"/>
            <a:ext cx="415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It is used by aircraft to move betwe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pron and the runw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It is used for passengers arriving and depart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ell as baggage and cargo handl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t is where primary flight instruction is giv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It is used to indicate the wind dir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pproximate wind sp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t ensures the safe and efficient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aircraft at an aerodro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It is the area on which aircraft land and take-of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It is a licensed aerodrome, meeting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requiremen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It is used for the storage, prot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maintenance of aircraf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It is used for the loading and unlo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passengers and carg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05120"/>
            <a:ext cx="1924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Run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ontrol T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axi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p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Han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Winds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aw a line from the aerodr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 to the statement whi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 describes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04280" y="43020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8:55:52Z</dcterms:created>
  <dc:creator>RC Air Cadets</dc:creator>
  <dc:description/>
  <dc:language>en-US</dc:language>
  <cp:lastModifiedBy>dnd</cp:lastModifiedBy>
  <cp:lastPrinted>1999-01-08T14:58:11Z</cp:lastPrinted>
  <dcterms:modified xsi:type="dcterms:W3CDTF">1999-03-22T14:37:13Z</dcterms:modified>
  <cp:revision>9</cp:revision>
  <dc:subject/>
  <dc:title>No Slide Title</dc:title>
</cp:coreProperties>
</file>