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A11D-3901-4A35-AD9C-92677A559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3374-58FD-4928-88F0-3C39826DA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D5D9-641A-4918-95D7-29F9E2364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3714-C9B7-4E2B-9D7B-6839FD51E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F46F-441E-43F5-8E4A-92113233D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D3B6-5F03-4899-A414-90EC7BD0C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F7F2-1EBE-4117-B222-379376454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2604-6864-4980-A984-96659E7D0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EC5E-5886-4D1A-BC81-6CAC711B4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6861-BA67-43A2-857A-65DF984B2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997B-9F01-45CE-9FD7-0A5423F24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0B3F-538A-416E-8E1D-2A7CD4F24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0FEFE-2647-4145-9DA0-3F329AE1B75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Definition of a Citiz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 be a citizen means that you were born in and/or have become a resident of a particular country”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8381880" y="6553080"/>
            <a:ext cx="68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CANADA" descr=""/>
          <p:cNvPicPr/>
          <p:nvPr/>
        </p:nvPicPr>
        <p:blipFill>
          <a:blip r:embed="rId1"/>
          <a:stretch/>
        </p:blipFill>
        <p:spPr>
          <a:xfrm>
            <a:off x="2971800" y="3809880"/>
            <a:ext cx="3056040" cy="2232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"/>
          <p:cNvSpPr/>
          <p:nvPr/>
        </p:nvSpPr>
        <p:spPr>
          <a:xfrm>
            <a:off x="64440" y="6545160"/>
            <a:ext cx="1197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One 404.01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Definition of Democrac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“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democracy is a government by the people.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438280" y="3200400"/>
            <a:ext cx="4267440" cy="2971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"/>
          <p:cNvSpPr/>
          <p:nvPr/>
        </p:nvSpPr>
        <p:spPr>
          <a:xfrm>
            <a:off x="64440" y="6545160"/>
            <a:ext cx="1197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One 404.01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"/>
          <p:cNvSpPr/>
          <p:nvPr/>
        </p:nvSpPr>
        <p:spPr>
          <a:xfrm>
            <a:off x="8381880" y="6553080"/>
            <a:ext cx="68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The Oath of Citizenshi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“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, (name in full), swear/affirm that I will be faithful and bear true allegiance to Her Majesty Queen Elizabeth the Second, Queen of Canada, Her Heirs and Successors, according to law and that I will faithfully observe the laws of Canada, and fulfil my duties as a Canadian citizen.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64440" y="6545160"/>
            <a:ext cx="1197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One 404.01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"/>
          <p:cNvSpPr/>
          <p:nvPr/>
        </p:nvSpPr>
        <p:spPr>
          <a:xfrm>
            <a:off x="8381880" y="6553080"/>
            <a:ext cx="68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3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Responsibilities of a citiz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 be loyal to Canada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 be loyal to the Queen of Canada and her representative, the Governor General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 respect private and public property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 care for Canada’s heritage; an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 support Canada’s ideal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"/>
          <p:cNvSpPr/>
          <p:nvPr/>
        </p:nvSpPr>
        <p:spPr>
          <a:xfrm>
            <a:off x="64440" y="6545160"/>
            <a:ext cx="1197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One 404.01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"/>
          <p:cNvSpPr/>
          <p:nvPr/>
        </p:nvSpPr>
        <p:spPr>
          <a:xfrm>
            <a:off x="8381880" y="6553080"/>
            <a:ext cx="68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4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Things you could do in your commun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ada Da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membrance Da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ttle of Britai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olunteer at a hospital or seniors hom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llect food for the food ban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olunteer at a Red Cross blood Donor clini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t in on a municipal council meeting and/or tour your provincial legislatur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isit a local museu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ean up a local park or playgrou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"/>
          <p:cNvSpPr/>
          <p:nvPr/>
        </p:nvSpPr>
        <p:spPr>
          <a:xfrm>
            <a:off x="64440" y="6545160"/>
            <a:ext cx="1197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One 404.01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"/>
          <p:cNvSpPr/>
          <p:nvPr/>
        </p:nvSpPr>
        <p:spPr>
          <a:xfrm>
            <a:off x="8381880" y="6553080"/>
            <a:ext cx="68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5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14T18:11:52Z</dcterms:created>
  <dc:creator>dnd</dc:creator>
  <dc:description/>
  <dc:language>en-US</dc:language>
  <cp:lastModifiedBy>dnd</cp:lastModifiedBy>
  <cp:lastPrinted>1998-12-14T19:54:08Z</cp:lastPrinted>
  <dcterms:modified xsi:type="dcterms:W3CDTF">1998-12-18T12:13:56Z</dcterms:modified>
  <cp:revision>10</cp:revision>
  <dc:subject/>
  <dc:title>Definition of a Citizen</dc:title>
</cp:coreProperties>
</file>