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DBF-561B-428D-AD21-93E80850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867D-F0EA-47FA-9FA7-D2FECC0F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DDD-F7EF-4F1E-8C95-3B31B81A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7F3-E88C-4754-A2F9-6878E86E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FCA-EAFC-44D7-95D4-6C7CF0F9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12B7-2394-442F-9D54-7175BFBF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7E5-751A-43E0-90E1-78AD01E6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304-48B2-4B96-96FF-7D0F03C9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252F-E4A5-443F-B58A-FE11DCC6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A90-DA1A-4BFD-97C7-2A0C1E59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869-9C06-4B17-A266-DD33BED0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606-9ECE-45A8-B5B8-CC9CD0B9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77B7-0E77-44E1-AD47-04E765F94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10080" y="838080"/>
          <a:ext cx="7317000" cy="83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838080"/>
                    <a:ext cx="7317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14400" y="1752480"/>
          <a:ext cx="5646600" cy="556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752480"/>
                    <a:ext cx="5646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838080" y="2286000"/>
          <a:ext cx="5400720" cy="4697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286000"/>
                    <a:ext cx="540072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07:52Z</dcterms:modified>
  <cp:revision>6</cp:revision>
  <dc:subject/>
  <dc:title>No Slide Title</dc:title>
</cp:coreProperties>
</file>