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74B5-891C-4B59-B216-DC909EA8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AA5-EE7E-4D08-B5FD-4E3D1E5A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D14-6B27-459E-9A07-96CF9117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E49-699A-4824-BAF2-0473DEEC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7A8-D429-4240-8B7A-FC6318D9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707-227F-43C3-A3AA-37172744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A90-3F35-48AF-AB77-95C4D452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C57-CD78-4943-9491-9E61A22E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BB61-43D0-48DB-B8E0-A5090742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D7F-32F1-4712-8B73-3924D95B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A18-D63F-473C-A381-BFFA5C2E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DDD-23A3-49F0-BF99-18EC570F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716E-1D94-4EF8-A222-DE9454FF7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1720" y="380880"/>
            <a:ext cx="55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erodrome Ligh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IGHTS" descr=""/>
          <p:cNvPicPr/>
          <p:nvPr/>
        </p:nvPicPr>
        <p:blipFill>
          <a:blip r:embed="rId1"/>
          <a:srcRect l="0" t="0" r="0" b="4440"/>
          <a:stretch/>
        </p:blipFill>
        <p:spPr>
          <a:xfrm>
            <a:off x="1219320" y="1676520"/>
            <a:ext cx="6710400" cy="4647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90320" y="452520"/>
            <a:ext cx="63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ll Weather Mark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rway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666200" cy="457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9120" y="351000"/>
            <a:ext cx="866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nger/Unserviceable Mark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anger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902720" cy="457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33520" y="4467240"/>
          <a:ext cx="9144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46724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33520" y="3594240"/>
            <a:ext cx="914400" cy="901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8320" y="380988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2000" y="204840"/>
            <a:ext cx="537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ch the aerodrome marking with th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ement which best describes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0440" y="1563840"/>
            <a:ext cx="4900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It identifies the center of the run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They indicate the beginning of a run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It identifies dangerous and unservice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They indicate the end of a runway and m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mark dangerous areas or obstru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It indicates magnetic direction and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ed to the nearest 10 degre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 They mark the beginning and 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runw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They run down each side of a run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33520" y="5638680"/>
            <a:ext cx="914400" cy="901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6520" y="58672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33520" y="1231920"/>
            <a:ext cx="914400" cy="901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8320" y="144792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74520" y="39625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4520" y="53341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74520" y="160020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4520" y="472428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74520" y="228600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74520" y="30481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74520" y="60199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33720"/>
            <a:ext cx="67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Univers (W1)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80880" y="5356080"/>
          <a:ext cx="1219320" cy="130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5356080"/>
                    <a:ext cx="121932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83560" y="28195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819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04280" y="46656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819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2:16:14Z</dcterms:created>
  <dc:creator>RC Air Cadets</dc:creator>
  <dc:description/>
  <dc:language>en-US</dc:language>
  <cp:lastModifiedBy>dnd</cp:lastModifiedBy>
  <cp:lastPrinted>1999-01-11T12:35:27Z</cp:lastPrinted>
  <dcterms:modified xsi:type="dcterms:W3CDTF">1999-03-22T14:38:59Z</dcterms:modified>
  <cp:revision>4</cp:revision>
  <dc:subject/>
  <dc:title>No Slide Title</dc:title>
</cp:coreProperties>
</file>