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8292-2920-466F-BBF1-72B7E54F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7D30-896D-415A-927E-69DB4158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78CE-5827-4B26-B043-F77EE397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5612-2915-48C6-ADA5-1DD2DA6E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AA90-EF30-4AC2-99C3-94294EDB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1934-13FA-4746-A1E8-A78E116C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E9F-ABC9-43EB-BC4F-541804B9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D9C5-4E3E-4A33-9FD2-C718AB4D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BFF-8955-48DA-84F8-E3DF3699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E5D4-1A89-4144-979E-17A486C6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EFAE-9AD3-46F6-8A5D-65558E67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B5CF-BC41-4F32-8528-1EE7D052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8A94-E4B7-483C-B560-4BCD7F80C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IM OF THE PROGRAM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im of the National Cadet Shooting Programme is to develop cadets’ interest in shooting while promoting the safe and proficient use of firearms for sport and recreational purpo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AFETY CATCH &amp; SECURITY MEA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fety catch is located just in front of the trigger, on the trigger gu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gage the safety catch, push towards the right; the safety catch is ON and the red cannot be seen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are ready to fire, push the safety catch towar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ft; safety catch is OFF and the red is now showing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ximum security, it is recommended that you keep the safety catch engaged until the moment you are ready to fire the first shot of a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AFE RIFLE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ot being handled on the range or in a training environment, the air rifle must be in a “safe status”. There are three instances where which have different procedures for “Safe Rifle Statu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 1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Rifle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 2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Firing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 3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on Firing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NDIVIDUAL SAFETY PRECA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firm that the rifle is sa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on receiving a rifle or when 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Safe Rifle Status” is uncert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AFETY REGU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treat a rifle as if it is load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point a rifle at an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point the rifle in a safe dir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fingers off the trigger unless ready to f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wear hearing prot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earing of safety glasses or shatterproof eyeglasses is mandatory when fi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 the two questions on the left and then circle the letter of the correct safety regulation(s) on the rig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take individual safety precau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do we perform individual safety precau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ways treat a rifle as if it were load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ver shoot animals without a perm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ver point a rifle at any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ways point the rifle in a safe dire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ly use large caliber rif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ep fingers off the trigger unless ready to fi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ways use hearing protecto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wearing of safety glasses is mandatory when fir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8195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30481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3276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35053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7339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48769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5181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5486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5791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0680" y="1371600"/>
            <a:ext cx="6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1676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 the two questions on the left and then circle the letter of the correct safety regulation(s) on the rig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take individual safety precau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do we perform individual safety precau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ways treat a rifle as if it were load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ver shoot animals without a perm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ver point a rifle at any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ways point the rifle in a safe dire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ly use large caliber rif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ep fingers off the trigger unless ready to fi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ways use hearing protecto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wearing of safety glasses is mandatory when fir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8195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30481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276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35053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7339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8769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181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5486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5791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29600" y="654516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 K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77480" y="301608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onfirm that the rifle is saf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9840" y="4876920"/>
            <a:ext cx="297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on receiving a rifle or whe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fe rifle status” is uncerta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29718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35053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45720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52578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57913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4T00:28:18Z</dcterms:created>
  <dc:creator>DND</dc:creator>
  <dc:description/>
  <dc:language>en-US</dc:language>
  <cp:lastModifiedBy>dnd</cp:lastModifiedBy>
  <cp:lastPrinted>1999-03-24T13:56:42Z</cp:lastPrinted>
  <dcterms:modified xsi:type="dcterms:W3CDTF">1999-03-28T18:28:26Z</dcterms:modified>
  <cp:revision>7</cp:revision>
  <dc:subject/>
  <dc:title>AIM OF THE PROGRAMME</dc:title>
</cp:coreProperties>
</file>