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55A-1BD8-464C-AD90-36056694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C55-6792-46E6-BFBD-60205762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C94-2EDC-4FA6-8515-F89FCECD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AA4-49FA-4171-9CF6-78EE0B48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1B5-E719-40C5-A3A3-DF4B96BA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E2C-0139-4BA4-AF27-AC4C8D6F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37D-CFF3-4272-9680-C1C89E0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1F4-2FEC-4297-964F-F13619E2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B4C-6CBC-4D99-BD1E-DA13898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A81-D4BA-4D04-954C-CE49BE4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738-1F27-41CE-8DCE-56037CE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18D-7792-44FD-A4CE-22C8470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FB23-E9B1-4E4F-90DD-77B47558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24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5328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2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2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143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94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447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85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86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37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28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28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29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33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4382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956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32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9568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8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24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1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REE RANKS OF A SQU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6324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42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42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3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94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47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5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85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86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7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590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28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28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29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80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33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19051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6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953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9568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8320" y="2057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8002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81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1905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094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 OF THE RIGHT M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6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56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860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905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6572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572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6576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8095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9621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1051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055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055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2574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4100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4767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4771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4771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290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7816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LE OF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1600200"/>
            <a:ext cx="9144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8098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2856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856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860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905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572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6572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6576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095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621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1051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1055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055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2574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100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4767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4771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771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6290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7816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ANKS WITH A BLANK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RANKS WITH A BLANK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7712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2856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2133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2860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4379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5905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572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657240" y="2133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6576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8095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9621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055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1051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05520" y="2133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1055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2574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4100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21337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4767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477120" y="2133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4771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6290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7816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S BETWEEN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37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769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485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485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333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1337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337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2856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4382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62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352680" y="2514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352320" y="2514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3526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505320" y="2666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5724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69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8765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8769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8769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0288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1814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25146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2481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2485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2485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004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5530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57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52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814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530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523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80988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87692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220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343400" y="198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Drill1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7339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814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733920" y="3504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495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ace in Quick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8006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1-22T12:24:12Z</cp:lastPrinted>
  <dcterms:modified xsi:type="dcterms:W3CDTF">1999-03-24T18:33:39Z</dcterms:modified>
  <cp:revision>13</cp:revision>
  <dc:subject/>
  <dc:title>No Slide Title</dc:title>
</cp:coreProperties>
</file>