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D4CE-BF31-4363-82D4-46F0CBEB6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1623-C02A-4497-A337-6B80A96D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3C95-5038-4DFC-B41A-6556AE5F5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0A1D-D086-4681-96EC-6ECF5E4E4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75DE-B2D8-4A4C-A6E0-C1C6C756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3A12-AB3B-4C15-BDF6-1A979546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AA33-1A54-4632-97F7-FDDB89C3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46A7-722F-4044-9E1C-A48FB0D2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156B-912D-47F0-9A45-2DFB23D2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8497-38EC-411D-950E-9FBE3E8B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8F1D-34B1-40EE-8BDB-D3DA25DA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81B7-1A15-4C1E-959E-1B4C0B87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D8C8-0F8B-4E0D-97F7-3212F6299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240" y="2422440"/>
            <a:ext cx="3246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Authorized in 199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73240" y="3184560"/>
            <a:ext cx="4193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Provided by DND on lo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48480" y="4022640"/>
            <a:ext cx="4450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All parts should be mark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your n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38040" y="1279440"/>
            <a:ext cx="469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Follows the military trad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wearing a uni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5400">
            <a:off x="2127600" y="228240"/>
            <a:ext cx="501156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Your</a:t>
            </a: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Unifor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680" y="6461280"/>
            <a:ext cx="1251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7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41640" y="646128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4771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UNI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235728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441640" y="646128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80" y="6461280"/>
            <a:ext cx="1251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7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4771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38280"/>
            <a:ext cx="74674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wing gu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uch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unter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s in pocket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ok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ting on the stree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king arm in ar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s of aff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533520"/>
            <a:ext cx="7467480" cy="1291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PORT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VER DO WHILE IN UNI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7010280" cy="5181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066680" y="457200"/>
            <a:ext cx="7239240" cy="6426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PER BOOT LAC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4771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80" y="6461280"/>
            <a:ext cx="1251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7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441640" y="646128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1-11T22:45:30Z</cp:lastPrinted>
  <dcterms:modified xsi:type="dcterms:W3CDTF">1999-03-17T19:41:40Z</dcterms:modified>
  <cp:revision>22</cp:revision>
  <dc:subject/>
  <dc:title>No Slide Title</dc:title>
</cp:coreProperties>
</file>