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030-2429-4E9C-AB3D-FDC2D40F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CFC-1570-4A13-8AD8-7FB7D71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9F0-8C39-42C7-845D-491F5B1C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68B-93ED-4AD1-81C0-9D386D05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CD2-7AB3-4DA3-95B7-CD2EAF8D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23E-3496-4F04-90FF-05D2163F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2FC-2562-4115-BD90-21440C4A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C14-38B7-486B-9E17-5FE5A08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0AC-36B3-4BE0-A281-5C7668A2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1DF-7E16-441D-A853-F025B2F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74B-EE23-404A-AE59-A056D9A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DD0-2186-4919-82B5-6C5AC74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FF5-5F22-4553-9621-EDC975C1C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28195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er 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 Prop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id 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33520"/>
            <a:ext cx="72388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GE 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i3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40040" cy="4643640"/>
          </a:xfrm>
          <a:prstGeom prst="rect">
            <a:avLst/>
          </a:prstGeom>
          <a:ln w="0">
            <a:noFill/>
          </a:ln>
        </p:spPr>
      </p:pic>
      <p:pic>
        <p:nvPicPr>
          <p:cNvPr id="49" name="uni2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3951000" cy="525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752480" y="2057040"/>
            <a:ext cx="1447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00200" y="2971800"/>
            <a:ext cx="1676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91120"/>
            <a:ext cx="13716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2578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75840" y="449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10280" y="480060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 PLACEMENT OF NAME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FITNESS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0000" cy="346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6T15:53:57Z</dcterms:created>
  <dc:creator>dnd</dc:creator>
  <dc:description/>
  <dc:language>en-US</dc:language>
  <cp:lastModifiedBy>dnd</cp:lastModifiedBy>
  <cp:lastPrinted>1999-01-22T21:59:52Z</cp:lastPrinted>
  <dcterms:modified xsi:type="dcterms:W3CDTF">1999-03-17T19:47:03Z</dcterms:modified>
  <cp:revision>5</cp:revision>
  <dc:subject/>
  <dc:title>No Slide Title</dc:title>
</cp:coreProperties>
</file>