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009-453F-4A8B-B38F-BE612D07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04D-B276-4BE6-9020-3C95CCEF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8C1-4C92-4330-8268-1FC788F3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340-CD28-4483-B46A-4B10611B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0D3-8499-4E75-9BBF-254AC8E7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469-C7D7-4249-A277-52FFB7A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A01-D559-4601-B1E1-AD20EDE3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7E2-0435-42AF-AA3F-75E64A0E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0F1-9C8F-4DD8-BEEF-3254FB8E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475-3930-4161-A680-DC6F77B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AD4-7C28-4448-9178-5C5A2D0A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C45-E996-4591-AC25-4B54AD9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A372-39B8-422F-BD0A-35E07E7A9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ir Cadet Mo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Ser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Adv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276720" cy="293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ims of the Air Cad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velop in youth the attributes of good citizenship and leadership.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mote physic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imulate an interest in the air element of the Canadian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1739880"/>
            <a:ext cx="3504960" cy="3478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ath of Loya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, (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ll Nam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reby affirm my loyalty to her Majesty the Queen,her heirs and success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05520" y="1739880"/>
            <a:ext cx="3504960" cy="347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16:50:50Z</cp:lastPrinted>
  <dcterms:modified xsi:type="dcterms:W3CDTF">1999-01-11T16:52:26Z</dcterms:modified>
  <cp:revision>19</cp:revision>
  <dc:subject/>
  <dc:title>No Slide Title</dc:title>
</cp:coreProperties>
</file>