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C3C3-A2EC-4C24-8A20-3B8A33677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D171-E5B4-47C8-B0B8-75D58F80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13E2-0663-41D7-B18C-7E95D3038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14C9-3D72-47FA-B34B-78F6D5509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6FEA-9570-424E-903B-CB441C5B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10AB-712C-47F3-BDC1-6A60CA27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2DE1-6A56-4B10-B176-76185355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F9B2-11CA-4548-A0AD-EA4A2D40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292E-32E2-45E5-BF15-F6E5B0B4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3AA2-D44C-493E-82E3-0CC62D5A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81E4-00E4-40EE-846B-4C3A3939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A05A-9EBE-4D64-9341-18AAE89E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AEB5-32A4-4970-BC2C-BAED0381D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98480" y="685800"/>
          <a:ext cx="4992840" cy="784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480" y="685800"/>
                    <a:ext cx="4992840" cy="78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1236600" y="1828800"/>
          <a:ext cx="5621400" cy="5457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6600" y="1828800"/>
                    <a:ext cx="56214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5486400" y="914400"/>
          <a:ext cx="6707160" cy="7650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914400"/>
                    <a:ext cx="670716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14:23:26Z</dcterms:created>
  <dc:creator>Jamie Richards</dc:creator>
  <dc:description/>
  <dc:language>en-US</dc:language>
  <cp:lastModifiedBy>Jamie Richards</cp:lastModifiedBy>
  <dcterms:modified xsi:type="dcterms:W3CDTF">1999-04-23T14:28:12Z</dcterms:modified>
  <cp:revision>1</cp:revision>
  <dc:subject/>
  <dc:title>No Slide Title</dc:title>
</cp:coreProperties>
</file>