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7539-0DDB-4852-AA05-6FDF9E59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8BE4-8128-4192-9F2D-A4C68E71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D934-172B-4426-ABF7-32D8F3A3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0A7D-60D2-4520-B6FD-2A4E9F93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2F7B-60EC-4C97-B1F3-3C11BEB1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FF6E-B2FC-4ADF-B635-4D54FD6E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8A8F-6640-446A-A830-D2E77FFA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AECA-DDEF-4D48-8F74-BD409E61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2DC7-39C8-4C23-8C93-C150A2A7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149D-CC5A-4238-842E-9D6AA9D9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75B8-C944-4A33-B8A5-5441ED26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C6C-6FC7-4E3F-81BC-AB42F1FB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189D-A10D-49FA-A22E-711329ED3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FORE A SPEE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095880"/>
            <a:ext cx="84582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1722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 One  410.0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848720" y="6172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24480" y="1676520"/>
            <a:ext cx="12956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VOICE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i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nun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095880"/>
            <a:ext cx="84582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61722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 One  410.0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48720" y="6172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3352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EN PRESE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distracting manneris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 Natur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shift your feet or juggle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an objective at the beginning of your spe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the body of your speech purpos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ize your speech at 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6095880"/>
            <a:ext cx="84582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1722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 One  410.0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6172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19920" y="1676520"/>
            <a:ext cx="257472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7T20:41:42Z</dcterms:created>
  <dc:creator>DND</dc:creator>
  <dc:description/>
  <dc:language>en-US</dc:language>
  <cp:lastModifiedBy>DND</cp:lastModifiedBy>
  <cp:lastPrinted>1999-01-27T12:58:18Z</cp:lastPrinted>
  <dcterms:modified xsi:type="dcterms:W3CDTF">1999-03-28T16:50:22Z</dcterms:modified>
  <cp:revision>10</cp:revision>
  <dc:subject/>
  <dc:title>BEFORE A SPEECH</dc:title>
</cp:coreProperties>
</file>