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C137-B9DD-410F-BCFF-94888CFA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BFA8-FD29-45B4-9E91-FC93B5B5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262-F334-459B-B103-30C121A9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AA0-3E9F-47F3-AA93-E1A071FA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31FC-6ED4-49CE-BEB7-88A835C5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ADE-8026-4982-B64C-0BF243BC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EF2-573B-453F-AC87-54D114C9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F78A-7FE3-42D3-B303-FCA324B3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B6B-C4D2-4340-BCEA-593538A6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1E9F-6859-4ADD-B6AA-709237D7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836C-E629-4EEF-A1AC-82A1722C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D1A5-96D7-4ECF-B563-E92A90E9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5FA5-FED1-4A93-A790-EC491659E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981080"/>
            <a:ext cx="4496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hysical fitness should be a part of everyone’s daily routine.  You will feel healthier and your self-confidence will improv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1779480"/>
            <a:ext cx="1904760" cy="159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23040" y="4013280"/>
            <a:ext cx="1311480" cy="2028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20840" y="4049640"/>
            <a:ext cx="1865160" cy="1785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203960" y="1830240"/>
            <a:ext cx="1559160" cy="137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905120"/>
            <a:ext cx="5715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ARM-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ACTIV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OOL-D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817640"/>
            <a:ext cx="2133720" cy="155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705720" y="1770120"/>
            <a:ext cx="1371600" cy="160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010280" y="3962520"/>
            <a:ext cx="1470240" cy="2131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1520640" cy="82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65280" y="3868560"/>
            <a:ext cx="1392120" cy="2152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00200"/>
            <a:ext cx="81532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aises Fitness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Motivates Cad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reates Inter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onfirms Ability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repares Cadets for Advanced Cour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943600" y="1952640"/>
            <a:ext cx="2424240" cy="312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29600" y="6553080"/>
            <a:ext cx="668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271680" cy="4605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95680" y="1447920"/>
            <a:ext cx="510552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ENDURANC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ARTIAL CURL-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USH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TANDING LONG J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50 m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HUTTL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4T23:33:42Z</cp:lastPrinted>
  <dcterms:modified xsi:type="dcterms:W3CDTF">1998-12-18T21:41:20Z</dcterms:modified>
  <cp:revision>22</cp:revision>
  <dc:subject/>
  <dc:title>No Slide Title</dc:title>
</cp:coreProperties>
</file>