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106-42A9-40D6-BC44-61E5BB72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B8C-4218-46FA-A57A-59B3042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0FF-AE06-4B87-B953-C0D116D7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4A4-F2D8-4DAB-B86D-6A770457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3B4-79D4-488F-9FE1-FD68060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1E6-2251-4C83-A8B8-A2343BA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677-7D63-4EAD-80EB-F0FDDB7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CD8-265B-44D1-8D23-6E4A4BD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079-D77A-40D0-AE86-32FBF3F4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13E-9053-4B95-BEE3-4197D9E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1D5-A1F9-403D-ABFC-290A7DE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219-9DB6-457D-9287-EA31B53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DC8-C68B-467C-8852-069D28F2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s%20pics" descr=""/>
          <p:cNvPicPr/>
          <p:nvPr/>
        </p:nvPicPr>
        <p:blipFill>
          <a:blip r:embed="rId1"/>
          <a:stretch/>
        </p:blipFill>
        <p:spPr>
          <a:xfrm>
            <a:off x="703440" y="355680"/>
            <a:ext cx="7737120" cy="61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0"/>
            <a:ext cx="106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477120"/>
            <a:ext cx="769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6868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231560" y="321012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8487000" y="6059880"/>
            <a:ext cx="106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575560" y="4093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268520" y="5886360"/>
            <a:ext cx="83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Y BE GIV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238280" y="5785200"/>
            <a:ext cx="119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ceas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084480" y="27471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op firing immediately and put the safety catch in the ON (no r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si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816440" y="5698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resum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510360" y="2803320"/>
            <a:ext cx="357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t the safety in the OFF (red) position and continue the pract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20:06:12Z</dcterms:created>
  <dc:creator>DND</dc:creator>
  <dc:description/>
  <dc:language>en-US</dc:language>
  <cp:lastModifiedBy>dnd</cp:lastModifiedBy>
  <cp:lastPrinted>1999-03-23T20:20:50Z</cp:lastPrinted>
  <dcterms:modified xsi:type="dcterms:W3CDTF">1999-03-28T19:13:52Z</dcterms:modified>
  <cp:revision>4</cp:revision>
  <dc:subject/>
  <dc:title>No Slide Title</dc:title>
</cp:coreProperties>
</file>