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B71D-8D35-4821-8907-1672F2C12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EED3-CEF7-45A8-8D17-F29708B9D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3418-3CD2-4D8E-A61A-A491CC7EB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6B22-5B1F-403B-82DA-1D8AEE9C2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850E-AE70-458E-8ABD-BF64A5C39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4488-8968-4C41-9E86-19B4ABCAD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3D90-9F7B-4687-AAC3-0DE2D138F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7CD2-2647-40F4-A774-0D564CAD0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3406-247D-4F7D-9593-DEE3573C1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177F-4CB3-4D63-939B-F61CB48E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F579-D40E-439B-8487-2C511158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34AF-05C4-4580-9315-DB8151DF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223DC-9174-4271-B195-8B4397602A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GNA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O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ARMTH and COMF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FIRE US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344840" y="3048120"/>
            <a:ext cx="3905280" cy="26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LAYING THE FI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441640" y="6545160"/>
            <a:ext cx="739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267080" y="3124080"/>
            <a:ext cx="4419720" cy="33530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76212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e a heap of ti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 larger pie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 big pie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eep sticks close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-use spent mat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e triang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eep it sm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ght at the bott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8780000">
            <a:off x="69840" y="1036080"/>
            <a:ext cx="4102200" cy="2652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Impact"/>
              </a:rPr>
              <a:t>Th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Impact"/>
              </a:rPr>
              <a:t>Fire Triangl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38280" y="2362320"/>
            <a:ext cx="4673880" cy="3530520"/>
          </a:xfrm>
          <a:prstGeom prst="triangle">
            <a:avLst>
              <a:gd name="adj" fmla="val 49995"/>
            </a:avLst>
          </a:prstGeom>
          <a:solidFill>
            <a:srgbClr val="ff0033"/>
          </a:solidFill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505320" y="2743200"/>
            <a:ext cx="2420640" cy="3276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962520" y="1447920"/>
            <a:ext cx="190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472428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E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6960" y="3809880"/>
            <a:ext cx="263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XYG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CAMPFIRE DO’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quip yoursel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pare your 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ild your fi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ways attend your f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t permis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181480" y="1981080"/>
          <a:ext cx="39625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1981080"/>
                    <a:ext cx="39625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CAMPFIRE DON’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657600" y="1752480"/>
            <a:ext cx="2286000" cy="44197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hibited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rong w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o Bi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ave f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t or porous r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019920" y="3581280"/>
            <a:ext cx="251460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FIRE STARTING METHO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ches/Ligh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int and St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el Wool and Batt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gnifying G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rotechn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181480" y="2362320"/>
            <a:ext cx="335304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410080" y="3581280"/>
            <a:ext cx="2743200" cy="28958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TYPES OF TIND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tton fuz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per fuz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sorbent fuz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ry, dead gr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ird 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wdery dropp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andoned n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irch ba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ine need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800600" y="1523880"/>
            <a:ext cx="3733920" cy="22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FEATHER STI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74674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OTHER SOURCES OF FUE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imal dropp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181480" y="2209680"/>
            <a:ext cx="3003840" cy="40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CONSTRUCTION OF A FIRE SI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g 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 not build under bran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y cooking fires in trenches or holl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oose with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019920" y="1981080"/>
            <a:ext cx="242244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7T15:30:26Z</dcterms:created>
  <dc:creator>DND</dc:creator>
  <dc:description/>
  <dc:language>en-US</dc:language>
  <cp:lastModifiedBy>DND</cp:lastModifiedBy>
  <cp:lastPrinted>1999-02-19T15:11:30Z</cp:lastPrinted>
  <dcterms:modified xsi:type="dcterms:W3CDTF">1999-02-19T15:14:06Z</dcterms:modified>
  <cp:revision>11</cp:revision>
  <dc:subject/>
  <dc:title>No Slide Title</dc:title>
</cp:coreProperties>
</file>