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A6A0-8806-4018-B85D-B56C175FC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5B30-C5FE-4FFD-9C28-EAC0662A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FF4B-93E7-4404-86A9-0437F922D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4DEA-FAB3-4B82-9AE5-59C5ED8E7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E16F-F8EA-453B-9945-AF31F961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6E24-8E64-4B08-AF92-DF4637EA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F570-96E5-4994-869E-373D1338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67BA-5606-4258-A3BF-F442B082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5EDF-51A9-405A-ADBE-41DF9EAD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BDBF-7D82-4EC7-B347-E0EBED41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8985-8E2E-46E7-BA29-57608138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1162-9661-4C3B-A6EE-3ADBE434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2705-C981-477E-96CA-3D475CDDA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680" y="6545160"/>
            <a:ext cx="1251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7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029200"/>
            <a:ext cx="3041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per Trim Hairc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traight Cu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943600" y="1143000"/>
            <a:ext cx="3457440" cy="4114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2743200" cy="3810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971800" y="1371600"/>
            <a:ext cx="3352680" cy="3809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791320" y="5181480"/>
            <a:ext cx="3041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per Trim Hairc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4572000"/>
            <a:ext cx="731520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4191120"/>
            <a:ext cx="754380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48520" y="3505320"/>
            <a:ext cx="0" cy="685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6248520" y="4572000"/>
            <a:ext cx="0" cy="457200"/>
          </a:xfrm>
          <a:prstGeom prst="line">
            <a:avLst/>
          </a:prstGeom>
          <a:ln w="255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15000" y="41911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5 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380880"/>
            <a:ext cx="624816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 MALE HAIRCU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80" y="6545160"/>
            <a:ext cx="1251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7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381880" cy="2904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51840" y="5029200"/>
            <a:ext cx="165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50760" y="5029200"/>
            <a:ext cx="182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led 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91800" y="5029200"/>
            <a:ext cx="228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ight 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yle with B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609480"/>
            <a:ext cx="624852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 FEMALE HAIR 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680" y="6545160"/>
            <a:ext cx="1251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7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4120" y="2133720"/>
            <a:ext cx="3543120" cy="3770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38080" y="685800"/>
            <a:ext cx="73152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 WEARING OF EAR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523880"/>
            <a:ext cx="510516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ered in ear lo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in each 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n by females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round in sh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ore than 7mm(1/4 in)  di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eepers may be worn if ears still healing afte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80" y="6545160"/>
            <a:ext cx="1251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7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038840" cy="3195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105520" y="1676520"/>
            <a:ext cx="3581280" cy="30258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414040" y="5486400"/>
            <a:ext cx="322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-in-hand k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20760" y="5486400"/>
            <a:ext cx="2454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sor k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523880"/>
            <a:ext cx="3962520" cy="3657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52880" y="1523880"/>
            <a:ext cx="3962520" cy="3657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TTING OF NECK 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8-12-14T23:33:42Z</cp:lastPrinted>
  <dcterms:modified xsi:type="dcterms:W3CDTF">1999-03-17T19:39:36Z</dcterms:modified>
  <cp:revision>20</cp:revision>
  <dc:subject/>
  <dc:title>No Slide Title</dc:title>
</cp:coreProperties>
</file>