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93F-BFB7-47F4-BA8B-E564E829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6B2-5A26-442A-AB3A-26F2437E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0D35-71DC-4B61-9BE4-22374270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325-DBC1-4F65-8057-6904C41F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5393-1C35-4116-8451-45024A5D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B8E-B4DF-4468-A3BA-3311BA85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6F5-628B-4DB5-A223-368A92A2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8A6-AEC1-4DF9-9DAA-E56944FE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E39-64BA-4018-A7EC-9BA627D7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4C6-7D50-4022-A7B1-653C32AA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62B-992D-4361-8558-D49519E7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645-5250-43B2-94D7-2BDF5F20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F49A-8E81-41E4-91E3-5B29B820B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4120" y="762120"/>
          <a:ext cx="7621560" cy="86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762120"/>
                    <a:ext cx="762156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838080" y="1752480"/>
          <a:ext cx="5639040" cy="2210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752480"/>
                    <a:ext cx="563904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62120" y="1828800"/>
          <a:ext cx="5553000" cy="6477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828800"/>
                    <a:ext cx="55530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08:33Z</dcterms:modified>
  <cp:revision>6</cp:revision>
  <dc:subject/>
  <dc:title>No Slide Title</dc:title>
</cp:coreProperties>
</file>