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254-293E-403A-8DF8-6176C96E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BBD-E026-4F8C-BE97-1784EC7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170-B06B-4553-B734-3CD7F579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499-41E8-4D30-9899-AFC4B4A6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38-A6E3-4CAA-8E80-DCBE3AFA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68C-5C67-4F80-B26B-C79792F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B4E-6CDE-4CF0-AAAE-104A922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37C-3CEB-4DB7-8F82-57B10B4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65D-C800-44C5-BA58-E2B30615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397-0386-412B-8E44-C9BDB2E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AED-D64E-4B2C-BB0B-06ABC98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F5E-589E-4710-9862-A68C086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45F-F507-48FF-9B4A-5B8950EFC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320" y="1905120"/>
            <a:ext cx="52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ade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le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al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9800" y="1676520"/>
            <a:ext cx="490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nautical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s of 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/Sh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5T19:48:43Z</cp:lastPrinted>
  <dcterms:modified xsi:type="dcterms:W3CDTF">1999-03-17T20:45:40Z</dcterms:modified>
  <cp:revision>28</cp:revision>
  <dc:subject/>
  <dc:title>No Slide Title</dc:title>
</cp:coreProperties>
</file>