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20B6-EB02-4087-940D-976728E5A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0F9B-FEF7-48C7-8F2F-5DF13C327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3DD6-8FDF-4E0D-81B9-E4FAFD8C3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F144-02C3-46D9-9F17-AA0297EEE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E342-1E05-49AF-8A44-149472B29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B399-472C-49E7-9C68-3B3298DB3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DA29-3D80-4527-AE3A-87FBB9850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BB35-2531-4E12-969D-A286CB4DB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78FB-84B5-4382-AFF6-715C427B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B500-A6C0-4FDE-B386-DF1F7967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A688-4446-41B7-ADF0-35B7C994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CBC3-709B-4F3A-914B-0B3C918A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BEDC9-A9E5-48A7-8D7A-767231A564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54040" y="299880"/>
            <a:ext cx="623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Aircraft Componen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lane" descr=""/>
          <p:cNvPicPr/>
          <p:nvPr/>
        </p:nvPicPr>
        <p:blipFill>
          <a:blip r:embed="rId1"/>
          <a:srcRect l="5486" t="0" r="16317" b="8496"/>
          <a:stretch/>
        </p:blipFill>
        <p:spPr>
          <a:xfrm>
            <a:off x="1108080" y="1600200"/>
            <a:ext cx="6435720" cy="43527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284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5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440800" y="533520"/>
            <a:ext cx="410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Landing Ge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CHORD" descr=""/>
          <p:cNvPicPr/>
          <p:nvPr/>
        </p:nvPicPr>
        <p:blipFill>
          <a:blip r:embed="rId1"/>
          <a:srcRect l="20742" t="0" r="0" b="0"/>
          <a:stretch/>
        </p:blipFill>
        <p:spPr>
          <a:xfrm>
            <a:off x="4954680" y="2514600"/>
            <a:ext cx="3884400" cy="1836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402520" y="4114800"/>
            <a:ext cx="23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il-drag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tricycle" descr=""/>
          <p:cNvPicPr/>
          <p:nvPr/>
        </p:nvPicPr>
        <p:blipFill>
          <a:blip r:embed="rId2"/>
          <a:srcRect l="0" t="14134" r="0" b="29330"/>
          <a:stretch/>
        </p:blipFill>
        <p:spPr>
          <a:xfrm>
            <a:off x="380880" y="2590920"/>
            <a:ext cx="3748320" cy="1523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45200" y="4114800"/>
            <a:ext cx="259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cycle G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84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5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7240" y="299880"/>
            <a:ext cx="488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The Empennag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ele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6089400" cy="50961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284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5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716440" y="1065240"/>
            <a:ext cx="33321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Aileron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Cockpi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F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Fuselag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Rudde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Flap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Leading Edg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Stabilize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 Main Wheel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 Trailing Edg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. Engine Nacell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  Main Plan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. Nose Wheel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. Eleva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0680" y="304920"/>
            <a:ext cx="525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tch the aircraft compon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 the correct nam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Test%20Plane" descr=""/>
          <p:cNvPicPr/>
          <p:nvPr/>
        </p:nvPicPr>
        <p:blipFill>
          <a:blip r:embed="rId1"/>
          <a:srcRect l="9097" t="0" r="18773" b="8496"/>
          <a:stretch/>
        </p:blipFill>
        <p:spPr>
          <a:xfrm>
            <a:off x="0" y="1981080"/>
            <a:ext cx="5475240" cy="4015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14920" y="225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76320" y="23274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434340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97440" y="205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4480" y="1828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54280" y="1905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43360" y="2784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91640" y="2708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29720" y="2098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878000" y="23623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06040" y="4003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058840" y="41148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68480" y="53341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116960" y="5486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284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5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08160" y="380880"/>
            <a:ext cx="324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4T18:42:33Z</dcterms:created>
  <dc:creator>RC Air Cadets</dc:creator>
  <dc:description/>
  <dc:language>en-US</dc:language>
  <cp:lastModifiedBy>dnd</cp:lastModifiedBy>
  <cp:lastPrinted>1999-01-05T14:57:28Z</cp:lastPrinted>
  <dcterms:modified xsi:type="dcterms:W3CDTF">1999-03-22T15:53:10Z</dcterms:modified>
  <cp:revision>9</cp:revision>
  <dc:subject/>
  <dc:title>No Slide Title</dc:title>
</cp:coreProperties>
</file>