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165-5E20-473D-892B-3DEFFD3C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F11-EEB9-407A-A7C0-D7844B8C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6E4-9638-451B-BC80-EF262F2B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C89-8FB6-4B1A-99BA-A91867D4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ED5-FA7E-49F1-B21E-845F7B14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A52-630E-437B-A3F4-CA633621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9E5-8001-4376-A429-203124C6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FCE-660E-45D3-83C2-441E3532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46D-313F-4B16-A827-B1690D9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007-18E2-4AF3-83ED-043E3E1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83A-0520-4B33-9A4A-A5807F63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FB5-5B4E-4976-8874-B88E696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6DB5-3E3B-4710-B58B-6E4E22DE0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4040" y="299880"/>
            <a:ext cx="62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lane" descr=""/>
          <p:cNvPicPr/>
          <p:nvPr/>
        </p:nvPicPr>
        <p:blipFill>
          <a:blip r:embed="rId1"/>
          <a:srcRect l="5486" t="0" r="16317" b="8496"/>
          <a:stretch/>
        </p:blipFill>
        <p:spPr>
          <a:xfrm>
            <a:off x="1108080" y="1600200"/>
            <a:ext cx="6435720" cy="4352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2468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9320" y="376200"/>
            <a:ext cx="38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Aile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i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43600" cy="470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76920" y="4419720"/>
            <a:ext cx="266688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73360" y="45252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lev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le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513920" cy="467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76920" y="4648320"/>
            <a:ext cx="365760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96320" y="45252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Rud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6172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udder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15000" cy="457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2720" y="4648320"/>
            <a:ext cx="2133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42:33Z</dcterms:created>
  <dc:creator>RC Air Cadets</dc:creator>
  <dc:description/>
  <dc:language>en-US</dc:language>
  <cp:lastModifiedBy>dnd</cp:lastModifiedBy>
  <cp:lastPrinted>1999-01-05T14:57:28Z</cp:lastPrinted>
  <dcterms:modified xsi:type="dcterms:W3CDTF">1999-03-22T15:37:22Z</dcterms:modified>
  <cp:revision>8</cp:revision>
  <dc:subject/>
  <dc:title>No Slide Title</dc:title>
</cp:coreProperties>
</file>