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7FB-0E45-47E2-9F28-0B713696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96F-63E0-4271-B1AD-6C8A3D8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419-457F-404C-95F9-1CA607D8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B96-C82D-4C69-B05E-7291E96D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4EA-067A-468B-B69C-D75D6293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AF8-0703-4F9B-880C-316208D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C2F-4F47-4506-ACBE-12383F32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70C-DC03-4915-8CFF-7455193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BD0-E23A-44B3-BFE6-A342E9F8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E4D-3F02-438C-AA84-B3813A1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D45-36EC-4B2E-A521-E5DD49FB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07D-A5DD-4FDD-84AD-56F15C03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C5A2-41AF-4245-84AF-0A8E298A9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0" y="6611760"/>
            <a:ext cx="110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 On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62440" y="685800"/>
            <a:ext cx="5266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E 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ne number of fire department or r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t FIRE, FIRE, FIRE, use a device to sound an al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et at designa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ion of fire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e drill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leave fire unatt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erly extinguish the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an evacu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rdgeIV" descr=""/>
          <p:cNvPicPr/>
          <p:nvPr/>
        </p:nvPicPr>
        <p:blipFill>
          <a:blip r:embed="rId1"/>
          <a:stretch/>
        </p:blipFill>
        <p:spPr>
          <a:xfrm>
            <a:off x="222120" y="533520"/>
            <a:ext cx="8921880" cy="6016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7880" y="175248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NKING WAT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640" y="57913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1640" y="4952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5200" y="480060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 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5160" y="42670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560" y="3352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560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8920" y="403848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5472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5000" y="60199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660888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8520" y="403200"/>
            <a:ext cx="8744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Selecting a Bivouac S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17800" y="1447920"/>
            <a:ext cx="5324760" cy="426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27000" y="2514600"/>
            <a:ext cx="4821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Well Drained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Safe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Free From Dangerous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Pu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080" y="6611760"/>
            <a:ext cx="110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 On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200" y="6613560"/>
            <a:ext cx="63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8800" y="1752480"/>
            <a:ext cx="381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lways Loo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6T15:43:22Z</dcterms:created>
  <dc:creator>Unregistered</dc:creator>
  <dc:description/>
  <dc:language>en-US</dc:language>
  <cp:lastModifiedBy>DND</cp:lastModifiedBy>
  <cp:lastPrinted>1999-02-19T15:22:28Z</cp:lastPrinted>
  <dcterms:modified xsi:type="dcterms:W3CDTF">1999-02-19T15:22:28Z</dcterms:modified>
  <cp:revision>13</cp:revision>
  <dc:subject/>
  <dc:title>No Slide Title</dc:title>
</cp:coreProperties>
</file>