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9DF-101E-4677-A6BD-EA7B935F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C90-C9AD-4D59-AE50-63895365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A5F-ACA1-4F7D-895F-08618F87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34F-954C-424C-AD4A-858F5C9B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39D-7D25-439C-8B5C-0A65AA49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392-12C1-4B57-AE22-A53BDC93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F3E-6EA3-4009-B53F-2D1BCC99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65C-BE56-46C8-85CD-B46281E7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8EB-67B2-41FD-A4C2-A6452D4F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773-9D47-4CC4-9D06-48D5E771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2DC-C0D2-4CC8-938C-7B14467B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081-5DA7-42D1-BFD7-92C46F76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76F0-90E7-4DAB-AEAD-C5DCDB220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80" y="646128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 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6480" y="609480"/>
            <a:ext cx="46155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 OF SAL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7240" y="1746360"/>
          <a:ext cx="7885440" cy="52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46360"/>
                    <a:ext cx="7885440" cy="52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46128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 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6200" y="533520"/>
            <a:ext cx="6884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 THAT ARE SAL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1680" y="1447920"/>
            <a:ext cx="72637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Queen and members of the Royal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or General of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ime Minister of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issioned Officers of the Canadian Fo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Heads of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ster and Associate ministers of National Def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eutenant -Governors of the provinces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issioned Officers of foreign defence fo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9:22:59Z</dcterms:created>
  <dc:creator>dnd</dc:creator>
  <dc:description/>
  <dc:language>en-US</dc:language>
  <cp:lastModifiedBy>dnd</cp:lastModifiedBy>
  <cp:lastPrinted>1999-01-22T17:41:59Z</cp:lastPrinted>
  <dcterms:modified xsi:type="dcterms:W3CDTF">1999-01-22T18:26:56Z</dcterms:modified>
  <cp:revision>3</cp:revision>
  <dc:subject/>
  <dc:title>No Slide Title</dc:title>
</cp:coreProperties>
</file>