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EDB-D05B-4A6A-9393-4B6CEE70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265-3516-45C4-A28B-A9226D73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69F-DFC9-41B9-8DDC-08A92542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58A-7B3E-4556-B06E-4832B447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7BF4-405B-431C-987E-55FB5C19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388-FC1A-49D0-A868-DE54E840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2F87-B03C-457F-B37F-54909572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587-060E-43B5-9828-F77CD81A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E31-EF21-4E5A-904D-9223197E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85F-636C-4DBD-BB81-D1675498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C97-F8A2-4A4C-8A57-8A8A74DC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1F3-65D0-40DE-9D9D-D6EB6DD8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6178-2FB3-412A-98D3-7F417BAA2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3049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irmanship is…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3440" y="1447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Skill in the handling and operating of airpla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ground and in the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LANE" descr=""/>
          <p:cNvPicPr/>
          <p:nvPr/>
        </p:nvPicPr>
        <p:blipFill>
          <a:blip r:embed="rId1"/>
          <a:stretch/>
        </p:blipFill>
        <p:spPr>
          <a:xfrm>
            <a:off x="5060880" y="5270400"/>
            <a:ext cx="3473640" cy="978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3440" y="2666880"/>
            <a:ext cx="760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A thorough knowledge of applicable theo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, regulations and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884760"/>
            <a:ext cx="906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An attitude or preparedness for any events that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, including pre-determined plans of actio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emergenc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34840" y="457200"/>
            <a:ext cx="595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intenance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2360" y="1749600"/>
            <a:ext cx="4478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encoun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s of fuel and o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4495680"/>
          <a:ext cx="804600" cy="19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80460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28600" y="2590920"/>
          <a:ext cx="1889280" cy="98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90920"/>
                    <a:ext cx="188928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80880" y="762120"/>
          <a:ext cx="90648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762120"/>
                    <a:ext cx="906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238880" y="4495680"/>
          <a:ext cx="1233720" cy="16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4495680"/>
                    <a:ext cx="123372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791320" y="1981080"/>
          <a:ext cx="1996920" cy="15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1981080"/>
                    <a:ext cx="19969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7:04:28Z</dcterms:created>
  <dc:creator>RC Air Cadets</dc:creator>
  <dc:description/>
  <dc:language>en-US</dc:language>
  <cp:lastModifiedBy>dnd</cp:lastModifiedBy>
  <cp:lastPrinted>1999-01-07T18:01:46Z</cp:lastPrinted>
  <dcterms:modified xsi:type="dcterms:W3CDTF">1999-03-25T12:26:17Z</dcterms:modified>
  <cp:revision>8</cp:revision>
  <dc:subject/>
  <dc:title>No Slide Title</dc:title>
</cp:coreProperties>
</file>