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759-4164-4C57-8400-D9E08FC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C99-F886-4B7D-8FA6-588E8F18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428-3AEB-40BA-9AA8-80BEFA75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DAD-5965-46F2-81B2-BE1CACFD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0C9-FBB8-43BF-A2BA-798B0973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775-02A2-4796-9DFD-E0ECD66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FDE-8AE8-4B02-914A-6C81E92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2AF-A50B-4B73-94C4-0279C64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6F5-4A99-433F-88A2-A652D0F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7E3-5DFE-4E81-99A7-8A9DDC2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646-0576-438B-AC6F-53C5EEB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B02-4B9B-461B-8B66-1652739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E3C5-69B5-4911-A300-7BE3D2FF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088400" cy="8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088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066680" y="1752480"/>
          <a:ext cx="5494320" cy="673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752480"/>
                    <a:ext cx="5494320" cy="673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057400"/>
          <a:ext cx="4343400" cy="575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3434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29Z</dcterms:modified>
  <cp:revision>6</cp:revision>
  <dc:subject/>
  <dc:title>No Slide Title</dc:title>
</cp:coreProperties>
</file>