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433-69B9-4FFF-A5C9-A67A25EB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5155-B519-49BE-B856-B39E5E18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80E-E0BE-4D4B-8032-5B86BA9F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5F8-536D-4A6C-90EB-738C7638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6A5-8D07-49EF-A1F2-B17D11E0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08A5-618A-4E23-9B2F-9B2C4D9A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EFAF-6CFC-4C44-B10A-0E3DB0FA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835-D858-4421-9423-B1B14C68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3819-FF74-4064-AD0B-819B2DA1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991-3D15-4BF6-A8DC-89001321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17A2-6C41-48E8-ADF4-DC0AE0FA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370D-B67F-477F-B3DC-D61A9720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0257-D19D-4E52-82BC-158D43F49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PRONE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rone" descr=""/>
          <p:cNvPicPr/>
          <p:nvPr/>
        </p:nvPicPr>
        <p:blipFill>
          <a:blip r:embed="rId1"/>
          <a:stretch/>
        </p:blipFill>
        <p:spPr>
          <a:xfrm>
            <a:off x="2003400" y="1447920"/>
            <a:ext cx="5137200" cy="4800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I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nt S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r S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ght 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ront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66724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rear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3200400" cy="1319040"/>
          </a:xfrm>
          <a:prstGeom prst="rect">
            <a:avLst/>
          </a:prstGeom>
          <a:ln w="0">
            <a:noFill/>
          </a:ln>
        </p:spPr>
      </p:pic>
      <p:pic>
        <p:nvPicPr>
          <p:cNvPr id="50" name="sight" descr=""/>
          <p:cNvPicPr/>
          <p:nvPr/>
        </p:nvPicPr>
        <p:blipFill>
          <a:blip r:embed="rId3"/>
          <a:stretch/>
        </p:blipFill>
        <p:spPr>
          <a:xfrm>
            <a:off x="5257800" y="4800600"/>
            <a:ext cx="2690640" cy="152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81480" y="4572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188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32767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4800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4800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6324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1880" y="4800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1447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1523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81480" y="3048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REA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reathing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RIGGER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rigger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508640" cy="4834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LLOW-THR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through is essential to shooting perfect sh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through is defined as the act of remaining in position for a few seconds after the pellets depar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5 principles of marksmanship by circling the letter which corresponds with the correct principle of marksma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-hal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rtsma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ger contr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llow-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880" y="16765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20574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5 principles of marksmanship by circling the letter which corresponds with the correct principle of marksma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-hal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rtsma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ger contr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llow-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5146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809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38098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24382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44197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4T01:34:12Z</dcterms:created>
  <dc:creator>DND</dc:creator>
  <dc:description/>
  <dc:language>en-US</dc:language>
  <cp:lastModifiedBy>dnd</cp:lastModifiedBy>
  <cp:lastPrinted>1999-03-24T01:55:36Z</cp:lastPrinted>
  <dcterms:modified xsi:type="dcterms:W3CDTF">1999-03-28T19:06:43Z</dcterms:modified>
  <cp:revision>7</cp:revision>
  <dc:subject/>
  <dc:title>THE PRONE POSITION</dc:title>
</cp:coreProperties>
</file>