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C8E-77CD-4046-B4E0-07C4F0AC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B2B-A35A-41E3-BCC5-F9BDB906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4F8-632D-4F0F-9FE7-FA7593B4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C0F-8307-41B5-A1B3-CF9CB1EB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8FE-267C-4F97-AD8E-5F2F4CAB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C28-5747-487B-B42E-CE7DECE7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F5C-F17E-4393-9843-661F20D7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709-1BAE-4A1B-9FE0-8CF4165D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0CA-7473-4767-B334-A6BC6064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28C-1083-4FC9-A8A3-BE87EC41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293-DD17-4EC9-9599-B762329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0F9-EB45-4D44-B140-EA11698C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2E5-7B5E-468B-B23F-4AA46ACB0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tt Plate and Spa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ll of the Butt (Pistol Gri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e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ling Bracket (Handsto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gger Gu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fety C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mp L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gh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zz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rrel with Barrel W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ed Track (in Rear of Chamb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-Shot Pellet Cl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gle Shot Adap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1:17:40Z</dcterms:created>
  <dc:creator>DND</dc:creator>
  <dc:description/>
  <dc:language>en-US</dc:language>
  <cp:lastModifiedBy>dnd</cp:lastModifiedBy>
  <cp:lastPrinted>1999-03-24T01:30:34Z</cp:lastPrinted>
  <dcterms:modified xsi:type="dcterms:W3CDTF">1999-03-28T18:45:36Z</dcterms:modified>
  <cp:revision>4</cp:revision>
  <dc:subject/>
  <dc:title>PARTS OF THE DAISY 853C AIR RIFLE</dc:title>
</cp:coreProperties>
</file>