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C0E-F958-4180-AFCC-05E89585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60A-CA9D-414D-9AD8-2C17F50F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BFB-FDCB-4129-80E7-AC173E8F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91E-45BE-45B3-B755-A7C85EB6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F00-9AA8-4F1C-8D5C-8040634E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B2D-B319-4FC9-A5D6-B1420CF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2ED-ABE3-48B9-84D4-F75F4E9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979-7D68-4228-A79A-EF4B6EC1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8D1-80AC-47D5-A9EA-96D8660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A4E-2E94-43F3-9345-23228C0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B21-4E24-4DB0-87F3-7646B8B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47B-75CA-43DE-8CFC-6D8CDC89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9D2-A0FE-493E-87FC-598ADAA67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AIR CA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38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ac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3341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pl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276720" cy="248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812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IOR 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762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5257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gt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176832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fsgt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18540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3434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9280" y="121932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IOR 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wo2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64" name="wo1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652400" cy="2209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4343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SECON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43434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FIR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3120" y="12193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ac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096920" cy="342720"/>
          </a:xfrm>
          <a:prstGeom prst="rect">
            <a:avLst/>
          </a:prstGeom>
          <a:ln w="0">
            <a:noFill/>
          </a:ln>
        </p:spPr>
      </p:pic>
      <p:pic>
        <p:nvPicPr>
          <p:cNvPr id="73" name="cpl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74" name="sgt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1078200" cy="1114560"/>
          </a:xfrm>
          <a:prstGeom prst="rect">
            <a:avLst/>
          </a:prstGeom>
          <a:ln w="0">
            <a:noFill/>
          </a:ln>
        </p:spPr>
      </p:pic>
      <p:pic>
        <p:nvPicPr>
          <p:cNvPr id="75" name="fsgt" descr=""/>
          <p:cNvPicPr/>
          <p:nvPr/>
        </p:nvPicPr>
        <p:blipFill>
          <a:blip r:embed="rId4"/>
          <a:stretch/>
        </p:blipFill>
        <p:spPr>
          <a:xfrm>
            <a:off x="5334120" y="1447920"/>
            <a:ext cx="1047600" cy="1162080"/>
          </a:xfrm>
          <a:prstGeom prst="rect">
            <a:avLst/>
          </a:prstGeom>
          <a:ln w="0">
            <a:noFill/>
          </a:ln>
        </p:spPr>
      </p:pic>
      <p:pic>
        <p:nvPicPr>
          <p:cNvPr id="76" name="wo2" descr=""/>
          <p:cNvPicPr/>
          <p:nvPr/>
        </p:nvPicPr>
        <p:blipFill>
          <a:blip r:embed="rId5"/>
          <a:stretch/>
        </p:blipFill>
        <p:spPr>
          <a:xfrm>
            <a:off x="5410080" y="3429000"/>
            <a:ext cx="876600" cy="752400"/>
          </a:xfrm>
          <a:prstGeom prst="rect">
            <a:avLst/>
          </a:prstGeom>
          <a:ln w="0">
            <a:noFill/>
          </a:ln>
        </p:spPr>
      </p:pic>
      <p:pic>
        <p:nvPicPr>
          <p:cNvPr id="77" name="wo1" descr=""/>
          <p:cNvPicPr/>
          <p:nvPr/>
        </p:nvPicPr>
        <p:blipFill>
          <a:blip r:embed="rId6"/>
          <a:stretch/>
        </p:blipFill>
        <p:spPr>
          <a:xfrm>
            <a:off x="5486400" y="5029200"/>
            <a:ext cx="762120" cy="1019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5120" y="1676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ding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5334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828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429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rant Offi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18148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rant Offi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0"/>
            <a:ext cx="6235560" cy="1822320"/>
          </a:xfrm>
          <a:custGeom>
            <a:avLst/>
            <a:gdLst>
              <a:gd name="textAreaLeft" fmla="*/ 1423440 w 6235560"/>
              <a:gd name="textAreaRight" fmla="*/ 4812120 w 6235560"/>
              <a:gd name="textAreaTop" fmla="*/ 415800 h 1822320"/>
              <a:gd name="textAreaBottom" fmla="*/ 14065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28600"/>
            <a:ext cx="2895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86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724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286000"/>
            <a:ext cx="358128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Sergeant-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Leading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Brigadie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Cap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 Warrant Officer 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. Majo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Warrant Officer Secon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pl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876600" cy="693720"/>
          </a:xfrm>
          <a:prstGeom prst="rect">
            <a:avLst/>
          </a:prstGeom>
          <a:ln w="0">
            <a:noFill/>
          </a:ln>
        </p:spPr>
      </p:pic>
      <p:pic>
        <p:nvPicPr>
          <p:cNvPr id="101" name="lac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109512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fsgt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104760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sgt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1076040" cy="1114200"/>
          </a:xfrm>
          <a:prstGeom prst="rect">
            <a:avLst/>
          </a:prstGeom>
          <a:ln w="0">
            <a:noFill/>
          </a:ln>
        </p:spPr>
      </p:pic>
      <p:pic>
        <p:nvPicPr>
          <p:cNvPr id="104" name="wo1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76212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wo2" descr=""/>
          <p:cNvPicPr/>
          <p:nvPr/>
        </p:nvPicPr>
        <p:blipFill>
          <a:blip r:embed="rId6"/>
          <a:stretch/>
        </p:blipFill>
        <p:spPr>
          <a:xfrm>
            <a:off x="1295280" y="3276720"/>
            <a:ext cx="876600" cy="75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5943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617220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17:30:00Z</cp:lastPrinted>
  <dcterms:modified xsi:type="dcterms:W3CDTF">1999-02-15T22:21:48Z</dcterms:modified>
  <cp:revision>22</cp:revision>
  <dc:subject/>
  <dc:title>No Slide Title</dc:title>
</cp:coreProperties>
</file>