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F10A-2433-41ED-B37B-9FD31AAC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7622-4532-4AFB-9239-C72F2B9A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241-1E80-4035-8789-A436E18A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DED-1035-4A5D-9653-FAEA4665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E642-BADB-47D5-8D94-61AE1EDD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9D06-B871-4A41-A6C8-9F75A0A0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056E-D979-4DEB-AE5F-79B4488D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FA0B-2046-4D20-AD1E-2E546455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1D45-0FA8-410D-8DD8-D5F044BA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2C1B-FF5E-4573-9167-ADEA180A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E5D4-684B-42C3-906B-D4683282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0CEC-A78E-4410-873B-C1406FB9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2947-BEC1-4E66-B743-AEA732928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1828800"/>
            <a:ext cx="67057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CONTA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ire Prevention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asic Fire fighting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mergency phon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ire evacuation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ire escape ro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762120"/>
            <a:ext cx="609624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E 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20920" y="1120680"/>
            <a:ext cx="4451040" cy="1191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NDING 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OULD CONTAIN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5400" y="2514600"/>
            <a:ext cx="4173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of Re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n of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e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 of Bounds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uadron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 and Discip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ess Reg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ICERS CHAIN OF COMM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9520" y="2360520"/>
          <a:ext cx="8018280" cy="19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2360520"/>
                    <a:ext cx="801828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21T22:02:49Z</cp:lastPrinted>
  <dcterms:modified xsi:type="dcterms:W3CDTF">1999-02-15T21:39:18Z</dcterms:modified>
  <cp:revision>22</cp:revision>
  <dc:subject/>
  <dc:title>No Slide Title</dc:title>
</cp:coreProperties>
</file>