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EDA-DD7E-405E-93A0-BB20B187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143-AD96-48BE-A263-E5DCFA95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519-2B43-4456-8CE0-85534935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C97-59FE-4165-BBB2-82ED7D2A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926-A035-4DA0-A311-7FC50675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BA9-2FD4-4B2C-906A-6F2CFA68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3D6-9B09-4BC2-82FD-788047C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237-A7C5-4581-8DE4-1BADDDE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F80-D261-4701-8106-D25E381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06B-15D1-435B-8355-7CD610B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E28-DE97-419A-96CA-4B7E895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B4F-D23D-47C6-95A0-819F847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15B-6656-468D-9D4E-88BCE079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8-12-18T14:05:39Z</dcterms:modified>
  <cp:revision>2</cp:revision>
  <dc:subject/>
  <dc:title>No Slide Title</dc:title>
</cp:coreProperties>
</file>